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EF44-4651-42A4-B21C-336AA8E47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C7AA-348C-416B-B761-E42FE6C1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9B37-6C8A-4FC3-AC43-09FF5328F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7809-4DC2-4E5E-A3C5-BC517FA0B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D79D-CAE3-4676-97B8-F39E3AF5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14C5-8489-42AB-8F14-D8BCFEA6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1166-F416-4DF7-B380-CFF52993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7EB1-0812-436B-8220-740AEB59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3C9B-DE30-4DDE-A5BC-0417C742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AA04-9EF1-4D34-BA53-9F60F03A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829F-768B-4840-8E34-E61F1DC7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9B25-29E5-4699-A9FE-5A68FC7F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61F2-A69D-4EE0-9E12-F63DA87B2B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ANADA" descr=""/>
          <p:cNvPicPr/>
          <p:nvPr/>
        </p:nvPicPr>
        <p:blipFill>
          <a:blip r:embed="rId1"/>
          <a:stretch/>
        </p:blipFill>
        <p:spPr>
          <a:xfrm>
            <a:off x="-838080" y="0"/>
            <a:ext cx="1114272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4920" y="6392880"/>
            <a:ext cx="21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Kan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64692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Norvegija – </a:t>
            </a:r>
            <a:r>
              <a:rPr b="1" i="1" lang="lt-LT" sz="1600" spc="-1" strike="noStrike">
                <a:solidFill>
                  <a:srgbClr val="ffffff"/>
                </a:solidFill>
                <a:latin typeface="Times New Roman"/>
              </a:rPr>
              <a:t>Šiaurės pašvaist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KALN%20SU%20KRYZ" descr=""/>
          <p:cNvPicPr/>
          <p:nvPr/>
        </p:nvPicPr>
        <p:blipFill>
          <a:blip r:embed="rId1"/>
          <a:stretch/>
        </p:blipFill>
        <p:spPr>
          <a:xfrm>
            <a:off x="0" y="0"/>
            <a:ext cx="10375920" cy="6921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ZV35" descr=""/>
          <p:cNvPicPr/>
          <p:nvPr/>
        </p:nvPicPr>
        <p:blipFill>
          <a:blip r:embed="rId1"/>
          <a:stretch/>
        </p:blipFill>
        <p:spPr>
          <a:xfrm>
            <a:off x="-914400" y="-217440"/>
            <a:ext cx="10364760" cy="7075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ZV5" descr=""/>
          <p:cNvPicPr/>
          <p:nvPr/>
        </p:nvPicPr>
        <p:blipFill>
          <a:blip r:embed="rId1"/>
          <a:stretch/>
        </p:blipFill>
        <p:spPr>
          <a:xfrm>
            <a:off x="0" y="0"/>
            <a:ext cx="9237600" cy="6927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4T08:38:59Z</dcterms:created>
  <dc:creator>Adolfas</dc:creator>
  <dc:description/>
  <dc:language>en-US</dc:language>
  <cp:lastModifiedBy>Adolfas</cp:lastModifiedBy>
  <dcterms:modified xsi:type="dcterms:W3CDTF">2005-12-04T18:14:35Z</dcterms:modified>
  <cp:revision>0</cp:revision>
  <dc:subject>Natur</dc:subject>
  <dc:title>Photo-wunter</dc:title>
</cp:coreProperties>
</file>