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A55-CCF9-4A02-A093-581DB38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F22-22FE-4151-9DBA-F6F80F9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FDA-1577-4CD5-BBC2-21D7E73B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CDF-0FC1-4472-9D76-E4A8FA7E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A01-FFBA-4386-947B-AC6BC6C9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177-8ADA-454E-9795-D20A760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F6E-1488-45C9-B2FA-8084BE5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636-AD03-4345-A8B3-B752AE9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C66-D946-4380-BB5D-69949BA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D9A-632B-4F77-92C7-0AB477F6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B06-600D-401D-AFF9-03B53E6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C3A-50C6-44F2-B3A3-B2534F8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F59B-9EB9-4FBD-B995-FD288985B9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NADA" descr=""/>
          <p:cNvPicPr/>
          <p:nvPr/>
        </p:nvPicPr>
        <p:blipFill>
          <a:blip r:embed="rId1"/>
          <a:stretch/>
        </p:blipFill>
        <p:spPr>
          <a:xfrm>
            <a:off x="-838080" y="0"/>
            <a:ext cx="11142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6392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K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69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Norvegija – </a:t>
            </a:r>
            <a:r>
              <a:rPr b="1" i="1" lang="lt-LT" sz="1600" spc="-1" strike="noStrike">
                <a:solidFill>
                  <a:srgbClr val="ffffff"/>
                </a:solidFill>
                <a:latin typeface="Times New Roman"/>
              </a:rPr>
              <a:t>Šiaurės pašvaist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ALN%20SU%20KRYZ" descr=""/>
          <p:cNvPicPr/>
          <p:nvPr/>
        </p:nvPicPr>
        <p:blipFill>
          <a:blip r:embed="rId1"/>
          <a:stretch/>
        </p:blipFill>
        <p:spPr>
          <a:xfrm>
            <a:off x="0" y="0"/>
            <a:ext cx="10375920" cy="692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V35" descr=""/>
          <p:cNvPicPr/>
          <p:nvPr/>
        </p:nvPicPr>
        <p:blipFill>
          <a:blip r:embed="rId1"/>
          <a:stretch/>
        </p:blipFill>
        <p:spPr>
          <a:xfrm>
            <a:off x="-914400" y="-217440"/>
            <a:ext cx="10364760" cy="707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ZV5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92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8:38:59Z</dcterms:created>
  <dc:creator>Adolfas</dc:creator>
  <dc:description/>
  <dc:language>en-US</dc:language>
  <cp:lastModifiedBy>Adolfas</cp:lastModifiedBy>
  <dcterms:modified xsi:type="dcterms:W3CDTF">2005-12-04T18:14:35Z</dcterms:modified>
  <cp:revision>0</cp:revision>
  <dc:subject>Natur</dc:subject>
  <dc:title>Photo-wunter</dc:title>
</cp:coreProperties>
</file>