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ange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36F7-D0E0-47E4-A816-42D0F107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2BD7-4737-4D9E-A6C1-843516F5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AD3A-61F4-47F1-8E43-71575E6E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90BF-4678-4A63-A4F4-4F1ADA4B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FA59-A75B-4865-95B1-0D216FC1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C28E-7EAC-4182-9F28-AAD1D055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11AE-8C7A-4896-BE41-DF504807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FB34-2625-4B3C-AAA3-A969A150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20EB-52B2-44AD-B709-637930D5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B5A3-3723-4FCA-9D52-F3DADD00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5715-F2A0-4B57-BB5A-3813F525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EBA5-CBB8-49BB-970F-6EF5665D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03AF-EE65-4B8B-8733-57F6BF1D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BE9A-AA1D-47DE-A470-166EE76E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4E09-449E-4FA8-B669-60784DF3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053A-F82F-45C0-9B70-9D9BE833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C307-147D-48C9-99E8-A557DC7C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9EC2-CC85-49E2-A5A1-E4122FF0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3B7-35E6-4586-BD83-0D31AFCD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2B4-1577-48E6-9E4A-CAC6E12C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1A9-DF10-41C1-97C5-97EAD3B9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95E2-3FD2-4E42-8EEA-39984982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D678-948C-4D2D-9002-402A5C56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F760-9313-4EA3-8FE7-7F1434D4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CC99-87E0-466F-8B53-6A59F85C8EB0}" type="slidenum">
              <a:rPr b="0" lang="pt-BR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846A-26AB-47DA-8D43-B6E2687F5CE9}" type="slidenum"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angel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876920" y="20574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95280" y="1752480"/>
            <a:ext cx="6705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ffffe9"/>
                </a:solidFill>
                <a:latin typeface="Monotype Corsiva"/>
              </a:rPr>
              <a:t>Intenta leer </a:t>
            </a:r>
            <a:endParaRPr b="0" lang="en-US" sz="8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ffffe9"/>
                </a:solidFill>
                <a:latin typeface="Monotype Corsiva"/>
              </a:rPr>
              <a:t>sin llorar!!!</a:t>
            </a:r>
            <a:endParaRPr b="0" lang="en-US" sz="8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3" name="ange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76212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Y  le dijo al niño que él podía quedarse mirando  los juguetes por 5 minutos más mientras ella iba a ver otras cosas. 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0"/>
            <a:ext cx="86868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El pequeño apretaba la muñeca entre sus manos. 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Finalmente yo empecé a andar en dirección al niño y le pregunté para quién quería esa muñeca !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920" y="365040"/>
            <a:ext cx="842472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El me respondió: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"Esta es la muñeca que mi hermana adoraba y que quería que la regalaran. Ella estaba tan segura de que Papá le regalaría esta muñeca en este año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304920"/>
            <a:ext cx="813420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fffe9"/>
                </a:solidFill>
                <a:latin typeface="Monotype Corsiva"/>
              </a:rPr>
              <a:t>“</a:t>
            </a:r>
            <a:r>
              <a:rPr b="0" lang="pt-BR" sz="5000" spc="-1" strike="noStrike">
                <a:solidFill>
                  <a:srgbClr val="ffffe9"/>
                </a:solidFill>
                <a:latin typeface="Monotype Corsiva"/>
              </a:rPr>
              <a:t>Yo le dije: "No te preocupes tanto, yo estoy segura que él le dará esa muñeca a tu hermana."</a:t>
            </a:r>
            <a:endParaRPr b="0" lang="en-US" sz="5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fffe9"/>
                </a:solidFill>
                <a:latin typeface="Monotype Corsiva"/>
              </a:rPr>
              <a:t>Pero él muy triste me dijo : </a:t>
            </a:r>
            <a:endParaRPr b="0" lang="en-US" sz="5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fffe9"/>
                </a:solidFill>
                <a:latin typeface="Monotype Corsiva"/>
              </a:rPr>
              <a:t>"No,  Papá no podrá llevar la muñeca a donde ella está ahora. </a:t>
            </a:r>
            <a:endParaRPr b="0" lang="en-US" sz="5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5720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7677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e9"/>
                </a:solidFill>
                <a:latin typeface="Monotype Corsiva"/>
              </a:rPr>
              <a:t>Yo tengo que darle esta muñeca a mi Mamá, así ella podrá entregar la muñeca a mi hermana cuando ella vaya para allá."</a:t>
            </a:r>
            <a:br>
              <a:rPr sz="4800"/>
            </a:br>
            <a:r>
              <a:rPr b="0" lang="pt-BR" sz="4800" spc="-1" strike="noStrike">
                <a:solidFill>
                  <a:srgbClr val="ffffe9"/>
                </a:solidFill>
                <a:latin typeface="Monotype Corsiva"/>
              </a:rPr>
              <a:t>Sus ojos se llenaron de lágrimas mientras él decía:</a:t>
            </a:r>
            <a:r>
              <a:rPr b="0" lang="pt-BR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333360"/>
            <a:ext cx="800100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264c"/>
                </a:solidFill>
                <a:latin typeface="Monotype Corsiva"/>
              </a:rPr>
              <a:t>"</a:t>
            </a:r>
            <a:r>
              <a:rPr b="0" lang="pt-BR" sz="5400" spc="-1" strike="noStrike">
                <a:solidFill>
                  <a:srgbClr val="ffffe9"/>
                </a:solidFill>
                <a:latin typeface="Monotype Corsiva"/>
              </a:rPr>
              <a:t>Mi hermana tuvo que irse para siempre. Mi Papá me dijo que mi Mamá también se irá para estar junto a ella dentro de poco. Entonces yo pensé que Mamá podría llevar la muñeca con ella para entregarla a mi hermana.".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333360"/>
            <a:ext cx="867564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e9"/>
                </a:solidFill>
                <a:latin typeface="Monotype Corsiva"/>
              </a:rPr>
              <a:t>Mi corazón dejó de latir.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e9"/>
                </a:solidFill>
                <a:latin typeface="Monotype Corsiva"/>
              </a:rPr>
              <a:t>Aquel niñito me quedó mirando y me dijo: “Yo le pedí a Papá que le diga a Mamá que no se vaya todavía. 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e9"/>
                </a:solidFill>
                <a:latin typeface="Monotype Corsiva"/>
              </a:rPr>
              <a:t>Y le pedí a él que esperara hasta que yo vuelva del supermercado."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Depués él me mostró una foto muy bonita de él riendo, y me dijo: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“</a:t>
            </a: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Yo también quiero que Mamá lleve esta foto, así ella también no se olvidará de mi. 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60280"/>
            <a:ext cx="914400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e9"/>
                </a:solidFill>
                <a:latin typeface="Monotype Corsiva"/>
              </a:rPr>
              <a:t>Yo amo a mi Mamá y quisiera que ella no tuviera que partir ahora, pero mi Papá dice que ella tiene que irse para acompañar a mi hermanita."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e9"/>
                </a:solidFill>
                <a:latin typeface="Monotype Corsiva"/>
              </a:rPr>
              <a:t>Ahí él se quedó mirando a la muñeca con sus ojos muy tristes y muy quietito.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1392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e9"/>
                </a:solidFill>
                <a:latin typeface="Monotype Corsiva"/>
              </a:rPr>
              <a:t>Yo rápidamente saqué mi cartera y tomé unos billetes y le dije al niñito: “Y si contáramos de nuevo tu dinero, sólo para tener la seguridad de que tienes suficiente dinero como para comprar la muñeca?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90720" y="457200"/>
            <a:ext cx="7086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Monotype Corsiva"/>
                <a:ea typeface="Arial"/>
              </a:rPr>
              <a:t> </a:t>
            </a: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Corrí al supermercado para comprar unos regalitos, que no había podido comprar antes.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0920" y="189000"/>
            <a:ext cx="864216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e9"/>
                </a:solidFill>
                <a:latin typeface="Monotype Corsiva"/>
              </a:rPr>
              <a:t>Coloqué mis billetes junto a su dinero, sin que él se diera cuenta, y comenzamos a contar  el dinero.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e9"/>
                </a:solidFill>
                <a:latin typeface="Monotype Corsiva"/>
              </a:rPr>
              <a:t>Después  de que  lo contamos, el dinero alcanzaba para comprar la muñeca y hasta sobraba un poco.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50920" y="1052640"/>
            <a:ext cx="856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Entonces el niñito dijo: “Gracias Señor por atender mi pedido y darme el suficiente dinero para comprar la muñeca"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4000" y="404640"/>
            <a:ext cx="8496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Ahí él me miró y me dijo: “Anoche antes de ir a dormir le pedí a Dios que hiciera que yo tuviera el suficinete dinero para comprar la muñeca, asi mi Mamá podría llevar la muñeca.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24000" y="333360"/>
            <a:ext cx="8496000" cy="77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fffe9"/>
                </a:solidFill>
                <a:latin typeface="Monotype Corsiva"/>
              </a:rPr>
              <a:t>El me oyó... es que yo también quería un poco más de dinero para comprar una rosa blanca para mi Mamá, pero yo no osaba pedir mas nada a Dios, pero él me dió lo suficiente para poder comprar la muñeca y la rosa blanca.</a:t>
            </a:r>
            <a:endParaRPr b="0" lang="en-US" sz="5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9640" y="40464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836640"/>
            <a:ext cx="83534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e9"/>
                </a:solidFill>
                <a:latin typeface="Monotype Corsiva"/>
              </a:rPr>
              <a:t>Sabe Ud., mi Mamá adora las rosas blancas.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e9"/>
                </a:solidFill>
                <a:latin typeface="Monotype Corsiva"/>
              </a:rPr>
              <a:t>Unos minutos después, la señora regresó y yo me fui sin que nadie se diera cuenta.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e9"/>
                </a:solidFill>
                <a:latin typeface="Monotype Corsiva"/>
              </a:rPr>
              <a:t>Terminé mis compras en un estado totalmente diferente al que había comenzado.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11280" y="404640"/>
            <a:ext cx="806436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500" spc="-1" strike="noStrike">
                <a:solidFill>
                  <a:srgbClr val="ffffe9"/>
                </a:solidFill>
                <a:latin typeface="Monotype Corsiva"/>
              </a:rPr>
              <a:t>Mientras tanto yo no conseguía sacar a aquel niñito de mi pensamiento.</a:t>
            </a:r>
            <a:endParaRPr b="0" lang="en-US" sz="45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500" spc="-1" strike="noStrike">
                <a:solidFill>
                  <a:srgbClr val="ffffe9"/>
                </a:solidFill>
                <a:latin typeface="Monotype Corsiva"/>
              </a:rPr>
              <a:t>Entonces me acordé de uma noticia en el periódico local de hace dos días, cuando mencionaban que un hombre borracho en una camioneta chocó contra otro carro, y que en el otro carro estaban una señora jóven con una niñita.</a:t>
            </a:r>
            <a:endParaRPr b="0" lang="en-US" sz="4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8360" y="765000"/>
            <a:ext cx="82072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e9"/>
                </a:solidFill>
                <a:latin typeface="Monotype Corsiva"/>
              </a:rPr>
              <a:t>La niñita había fallecido en ese mismo momento y la madre estaba en estado grave en la Unidad de Cuidados Intensivos y que la familia había decidido desconectar las máquinas, en vista de que la jóven no saldría del estado de coma. 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9640" y="476280"/>
            <a:ext cx="83534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e9"/>
                </a:solidFill>
                <a:latin typeface="Monotype Corsiva"/>
              </a:rPr>
              <a:t>Yo pensé, será que esta era la família de aquel  niñito?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e9"/>
                </a:solidFill>
                <a:latin typeface="Monotype Corsiva"/>
              </a:rPr>
              <a:t>Dos días después  me encontré con el niñito, yo leí en el periódico que la jóven señora había fallecido. 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e9"/>
                </a:solidFill>
                <a:latin typeface="Monotype Corsiva"/>
              </a:rPr>
              <a:t>Yo no me pude contener y salí a comprar rosas blancas, fui al velorio de aquella  jóven....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24000" y="333360"/>
            <a:ext cx="8496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e9"/>
                </a:solidFill>
                <a:latin typeface="Monotype Corsiva"/>
              </a:rPr>
              <a:t>Ella estaba sujetando una linda rosa blanca en sus manos, junto con la foto del niñito y con la muñeca en su pecho.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e9"/>
                </a:solidFill>
                <a:latin typeface="Monotype Corsiva"/>
              </a:rPr>
              <a:t>Yo salí de ahí llorando, sintiendo que mi vida había cambiado para siempre. 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0920" y="260280"/>
            <a:ext cx="864216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e9"/>
                </a:solidFill>
                <a:latin typeface="Monotype Corsiva"/>
              </a:rPr>
              <a:t>El amor de aquel niñito por su Madre y hermana continúa grabado en mi memoria hasta hoy.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e9"/>
                </a:solidFill>
                <a:latin typeface="Monotype Corsiva"/>
              </a:rPr>
              <a:t>Es difícil  creer e imaginar que en una fracción de segundos, un borracho había acabado con todo lo que tenía este niño.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e9"/>
                </a:solidFill>
                <a:latin typeface="Monotype Corsiva"/>
              </a:rPr>
              <a:t>Cuando  vi tanta gente en el supermercado, comenceé  a hacerme reclamos a mi misma, esto iba a demorar  un horror , y yo todavia tenía tantas cosas por hacer y otros lugares a donde ir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50920" y="260280"/>
            <a:ext cx="849780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e9"/>
                </a:solidFill>
                <a:latin typeface="Monotype Corsiva"/>
              </a:rPr>
              <a:t>Ahora usted tiene dos opciones: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e9"/>
                </a:solidFill>
                <a:latin typeface="Monotype Corsiva"/>
              </a:rPr>
              <a:t>1. Mande este mensaje a todos sus conocidos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e9"/>
                </a:solidFill>
                <a:latin typeface="Monotype Corsiva"/>
              </a:rPr>
              <a:t>2. O borre este mensaje, y haga cuenta de que este mensaje no tocó su corazón.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e9"/>
                </a:solidFill>
                <a:latin typeface="Monotype Corsiva"/>
              </a:rPr>
              <a:t>Si Ud. envía este mensaje, tal vez ayude a pensar un poco a aquellas personas que beben y salen manejando por las calles  y ayude a prevenir los accidentes que ocurren especialmente en los feriados.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5280" y="620640"/>
            <a:ext cx="8424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e9"/>
                </a:solidFill>
                <a:latin typeface="Monotype Corsiva"/>
              </a:rPr>
              <a:t>Preocupese un poco por las demás, antes de salir manejando bebido por las calles, y quite las llaves de estas personas si juzga necesario, Ud. estará salvando otras vidas y la suya también!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437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Que tenga una linda Semana!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4360" y="1341360"/>
            <a:ext cx="67053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Como me gustaría poder pensar sola, dormir y sólo despertar despúes que haya pasado todo esto. 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476280"/>
            <a:ext cx="883908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Sin darme cuenta,  fui andando hasta la sección  de juguetes, y ahí comencé a ver los precios, imaginando si los niños  realmente juegan con esos juguetes tan  caros.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11970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Mientras yo recorría la sección de juguetes, noté que un niño de más o menos 5 años presionaba una muñeca contra su pecho.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549360"/>
            <a:ext cx="87487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e9"/>
                </a:solidFill>
                <a:latin typeface="Monotype Corsiva"/>
              </a:rPr>
              <a:t>El acariciaba el cabello de la muñeca y se veía tan triste, me quedé tratando de imaginar para quien sería  aquella muñeca que él tanto apretaba.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867564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e9"/>
                </a:solidFill>
                <a:latin typeface="Monotype Corsiva"/>
              </a:rPr>
              <a:t>El niño se dió la vuelta hacia una señora que estaba cerca de él y le dijo: Vovó, tú estás segura que no tengo suficiente dinero como para comprar esta muñeca ?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197000"/>
            <a:ext cx="8458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ffffe9"/>
                </a:solidFill>
                <a:latin typeface="Monotype Corsiva"/>
              </a:rPr>
              <a:t>La señora respondió: Tú sabes que tu dinero no es suficiente, querido mio!</a:t>
            </a:r>
            <a:endParaRPr b="0" lang="en-US" sz="7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2T16:53:44Z</dcterms:created>
  <dc:creator>Desconhecido</dc:creator>
  <dc:description>gilmarlange@gmail.com</dc:description>
  <dc:language>en-US</dc:language>
  <cp:lastModifiedBy>Patricia.Hirsch</cp:lastModifiedBy>
  <dcterms:modified xsi:type="dcterms:W3CDTF">2009-07-20T21:54:28Z</dcterms:modified>
  <cp:revision>35</cp:revision>
  <dc:subject>Mensagem</dc:subject>
  <dc:title>Tente ler sem chorar</dc:title>
</cp:coreProperties>
</file>