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ange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4E8-B14D-4D61-9A6C-30D84712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562-D587-4361-B103-3D3EEA3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34D-E3FE-4EC7-A303-0B96591E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955-AEF4-4266-8CB3-E56D74A0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59BA-2714-4787-9807-14EBD3DA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640B-8395-4700-8BE3-FCC0B65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7939-13E3-45B7-A6E8-9157BA5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D028-FE51-4E9E-873D-C10BFC5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68C4-1195-46F0-883F-369B35A2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5E7-849B-421E-9F8B-ECDF2FFF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CDB4-F93C-4399-BEEB-DC09C432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E1E-6E00-47BB-B50D-F4FC6E3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051-FC7C-43A6-9EF3-1B23F42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9A5-C64D-4CC7-880E-6BE07FBB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EED-5564-4A36-AAD2-7106727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5B3-17B6-4FF6-8748-13B50CD8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1E39-B8A2-4FEA-891E-111714D5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ABA-56D2-48C8-812F-F518DAE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FD4-0A15-4B76-B591-F4722DC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66F-022E-45F6-89B2-24C079A1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769-D423-4D61-BEFA-EFB38BA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893-6580-40D9-AA4D-FC8EB42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ABB-BC20-412B-B2A5-9ADAE5E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2DF-394C-4B85-96E4-C90173D1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D44-A6A8-40C1-8798-D8CD035C7486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42EA-E8AD-4531-B11E-8057C64D8E98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angel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876920" y="2057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175248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e9"/>
                </a:solidFill>
                <a:latin typeface="Monotype Corsiva"/>
              </a:rPr>
              <a:t>Intenta leer 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e9"/>
                </a:solidFill>
                <a:latin typeface="Monotype Corsiva"/>
              </a:rPr>
              <a:t>sin llorar!!!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ang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7621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Y  le dijo al niño que él podía quedarse mirando  los juguetes por 5 minutos más mientras ella iba a ver otras cosas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8686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pequeño apretaba la muñeca entre sus manos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Finalmente yo empecé a andar en dirección al niño y le pregunté para quién quería esa muñeca !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365040"/>
            <a:ext cx="842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me respondió: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"Esta es la muñeca que mi hermana adoraba y que quería que la regalaran. Ella estaba tan segura de que Papá le regalaría esta muñeca en este año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04920"/>
            <a:ext cx="81342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“</a:t>
            </a: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Yo le dije: "No te preocupes tanto, yo estoy segura que él le dará esa muñeca a tu hermana."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Pero él muy triste me dijo : 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"No,  Papá no podrá llevar la muñeca a donde ella está ahora. 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677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tengo que darle esta muñeca a mi Mamá, así ella podrá entregar la muñeca a mi hermana cuando ella vaya para allá."</a:t>
            </a:r>
            <a:br>
              <a:rPr sz="4800"/>
            </a:b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Sus ojos se llenaron de lágrimas mientras él decía:</a:t>
            </a:r>
            <a:r>
              <a:rPr b="0" lang="pt-BR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33360"/>
            <a:ext cx="80010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264c"/>
                </a:solidFill>
                <a:latin typeface="Monotype Corsiva"/>
              </a:rPr>
              <a:t>"</a:t>
            </a: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Mi hermana tuvo que irse para siempre. Mi Papá me dijo que mi Mamá también se irá para estar junto a ella dentro de poco. Entonces yo pensé que Mamá podría llevar la muñeca con ella para entregarla a mi hermana."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3360"/>
            <a:ext cx="8675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Mi corazón dejó de latir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Aquel niñito me quedó mirando y me dijo: “Yo le pedí a Papá que le diga a Mamá que no se vaya todavía.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 le pedí a él que esperara hasta que yo vuelva del supermercado."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Depués él me mostró una foto muy bonita de él riendo, y me dijo: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“</a:t>
            </a: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Yo también quiero que Mamá lleve esta foto, así ella también no se olvidará de mi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o amo a mi Mamá y quisiera que ella no tuviera que partir ahora, pero mi Papá dice que ella tiene que irse para acompañar a mi hermanita."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Ahí él se quedó mirando a la muñeca con sus ojos muy tristes y muy quietit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1392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rápidamente saqué mi cartera y tomé unos billetes y le dije al niñito: “Y si contáramos de nuevo tu dinero, sólo para tener la seguridad de que tienes suficiente dinero como para comprar la muñeca?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4572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 </a:t>
            </a: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Corrí al supermercado para comprar unos regalitos, que no había podido comprar antes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189000"/>
            <a:ext cx="86421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Coloqué mis billetes junto a su dinero, sin que él se diera cuenta, y comenzamos a contar  el diner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Después  de que  lo contamos, el dinero alcanzaba para comprar la muñeca y hasta sobraba un poc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1052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ntonces el niñito dijo: “Gracias Señor por atender mi pedido y darme el suficiente dinero para comprar la muñeca"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404640"/>
            <a:ext cx="8496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Ahí él me miró y me dijo: “Anoche antes de ir a dormir le pedí a Dios que hiciera que yo tuviera el suficinete dinero para comprar la muñeca, asi mi Mamá podría llevar la muñeca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333360"/>
            <a:ext cx="84960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El me oyó... es que yo también quería un poco más de dinero para comprar una rosa blanca para mi Mamá, pero yo no osaba pedir mas nada a Dios, pero él me dió lo suficiente para poder comprar la muñeca y la rosa blanca.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404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83664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Sabe Ud., mi Mamá adora las rosas blancas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Unos minutos después, la señora regresó y yo me fui sin que nadie se diera cuenta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Terminé mis compras en un estado totalmente diferente al que había comenzado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1280" y="404640"/>
            <a:ext cx="80643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fffe9"/>
                </a:solidFill>
                <a:latin typeface="Monotype Corsiva"/>
              </a:rPr>
              <a:t>Mientras tanto yo no conseguía sacar a aquel niñito de mi pensamiento.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fffe9"/>
                </a:solidFill>
                <a:latin typeface="Monotype Corsiva"/>
              </a:rPr>
              <a:t>Entonces me acordé de uma noticia en el periódico local de hace dos días, cuando mencionaban que un hombre borracho en una camioneta chocó contra otro carro, y que en el otro carro estaban una señora jóven con una niñita.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765000"/>
            <a:ext cx="82072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La niñita había fallecido en ese mismo momento y la madre estaba en estado grave en la Unidad de Cuidados Intensivos y que la familia había decidido desconectar las máquinas, en vista de que la jóven no saldría del estado de coma.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76280"/>
            <a:ext cx="8353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pensé, será que esta era la família de aquel  niñito?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Dos días después  me encontré con el niñito, yo leí en el periódico que la jóven señora había fallecido.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no me pude contener y salí a comprar rosas blancas, fui al velorio de aquella  jóven...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333360"/>
            <a:ext cx="8496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la estaba sujetando una linda rosa blanca en sus manos, junto con la foto del niñito y con la muñeca en su pech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o salí de ahí llorando, sintiendo que mi vida había cambiado para siempre.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 amor de aquel niñito por su Madre y hermana continúa grabado en mi memoria hasta hoy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s difícil  creer e imaginar que en una fracción de segundos, un borracho había acabado con todo lo que tenía este niñ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e9"/>
                </a:solidFill>
                <a:latin typeface="Monotype Corsiva"/>
              </a:rPr>
              <a:t>Cuando  vi tanta gente en el supermercado, comenceé  a hacerme reclamos a mi misma, esto iba a demorar  un horror , y yo todavia tenía tantas cosas por hacer y otros lugares a donde i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260280"/>
            <a:ext cx="8497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Ahora usted tiene dos opciones: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1. Mande este mensaje a todos sus conocido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2. O borre este mensaje, y haga cuenta de que este mensaje no tocó su corazón.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Si Ud. envía este mensaje, tal vez ayude a pensar un poco a aquellas personas que beben y salen manejando por las calles  y ayude a prevenir los accidentes que ocurren especialmente en los feriados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20640"/>
            <a:ext cx="842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Preocupese un poco por las demás, antes de salir manejando bebido por las calles, y quite las llaves de estas personas si juzga necesario, Ud. estará salvando otras vidas y la suya también!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Que tenga una linda Semana!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1341360"/>
            <a:ext cx="6705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Como me gustaría poder pensar sola, dormir y sólo despertar despúes que haya pasado todo esto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76280"/>
            <a:ext cx="8839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Sin darme cuenta,  fui andando hasta la sección  de juguetes, y ahí comencé a ver los precios, imaginando si los niños  realmente juegan con esos juguetes tan  caros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197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Mientras yo recorría la sección de juguetes, noté que un niño de más o menos 5 años presionaba una muñeca contra su pecho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49360"/>
            <a:ext cx="8748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acariciaba el cabello de la muñeca y se veía tan triste, me quedé tratando de imaginar para quien sería  aquella muñeca que él tanto apretaba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6756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 niño se dió la vuelta hacia una señora que estaba cerca de él y le dijo: Vovó, tú estás segura que no tengo suficiente dinero como para comprar esta muñeca ?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1970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e9"/>
                </a:solidFill>
                <a:latin typeface="Monotype Corsiva"/>
              </a:rPr>
              <a:t>La señora respondió: Tú sabes que tu dinero no es suficiente, querido mio!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Desconhecido</dc:creator>
  <dc:description>gilmarlange@gmail.com</dc:description>
  <dc:language>en-US</dc:language>
  <cp:lastModifiedBy>Patricia.Hirsch</cp:lastModifiedBy>
  <dcterms:modified xsi:type="dcterms:W3CDTF">2009-07-20T21:54:28Z</dcterms:modified>
  <cp:revision>35</cp:revision>
  <dc:subject>Mensagem</dc:subject>
  <dc:title>Tente ler sem chorar</dc:title>
</cp:coreProperties>
</file>