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6C7-CB78-4E6F-92BC-73E4D0E5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106-ABDB-4354-A956-B34679B9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290-8E67-4D9B-ADB3-ED429BD2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5D6-D4B2-40F2-8A67-2FA64E46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B161-A1D9-461E-8C86-5D654DC1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136E-4F01-455A-82D2-4D18F671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9CF3-218D-49BA-8376-544FE294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CF99-A507-4983-A391-9552C353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2979-6604-4275-9E6A-04010225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3673-3F9B-41B3-B52A-46032456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E4BB-FD7A-4750-8000-2A12E697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6C7-D120-4BC5-924B-5816BB69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2C35-C9E3-4339-B6A1-7EA852CB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66D2-4590-47D5-9DE5-1EC40392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212D-CACC-45B7-9068-FBA836DD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A31A-B676-4A6C-8EFB-D966907D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375F-DE2A-4638-8042-1B9012F5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AB0-5063-4B7B-9E4F-16EBA699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621-9EDD-46BF-925A-AE73776C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AEB-FC20-4B68-8741-3C2D1C89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C4C-63A1-4B8F-82D8-2F6DF4E2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1D5-A46C-4CE8-96EB-7A40E973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BD2-3289-48DD-BECE-BE3F5F1D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2E7-C88B-4EEA-BD6B-08397335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9248-AE1D-4B58-BFE8-7A33E11EA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D071-60FB-4FBC-B0CD-1FD8F5292C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8120" y="76212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 Black"/>
              </a:rPr>
              <a:t>Dios sabe lo que h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00"/>
                </a:solidFill>
                <a:latin typeface="Arial"/>
              </a:rPr>
              <a:t>1.- A los gringos los hizo ordenados y respetuosos de   </a:t>
            </a:r>
            <a:br>
              <a:rPr sz="2500"/>
            </a:br>
            <a:r>
              <a:rPr b="0" lang="es-MX" sz="2500" spc="-1" strike="noStrike">
                <a:solidFill>
                  <a:srgbClr val="ffff00"/>
                </a:solidFill>
                <a:latin typeface="Arial"/>
              </a:rPr>
              <a:t>     la ley.</a:t>
            </a:r>
            <a:br>
              <a:rPr sz="2500"/>
            </a:br>
            <a:r>
              <a:rPr b="0" lang="es-MX" sz="2500" spc="-1" strike="noStrike">
                <a:solidFill>
                  <a:srgbClr val="ffff00"/>
                </a:solidFill>
                <a:latin typeface="Arial"/>
              </a:rPr>
              <a:t>2. A los ingleses, tenaces y estudiosos.</a:t>
            </a:r>
            <a:br>
              <a:rPr sz="2500"/>
            </a:br>
            <a:r>
              <a:rPr b="0" lang="es-MX" sz="2500" spc="-1" strike="noStrike">
                <a:solidFill>
                  <a:srgbClr val="ffff00"/>
                </a:solidFill>
                <a:latin typeface="Arial"/>
              </a:rPr>
              <a:t>3. A los japoneses, trabajadores y pacientes.</a:t>
            </a:r>
            <a:br>
              <a:rPr sz="2500"/>
            </a:br>
            <a:br>
              <a:rPr sz="2500"/>
            </a:br>
            <a:r>
              <a:rPr b="0" lang="es-MX" sz="2500" spc="-1" strike="noStrike">
                <a:solidFill>
                  <a:srgbClr val="ffff00"/>
                </a:solidFill>
                <a:latin typeface="Arial"/>
              </a:rPr>
              <a:t>Y así sucesivamente;</a:t>
            </a:r>
            <a:br>
              <a:rPr sz="2500"/>
            </a:br>
            <a:r>
              <a:rPr b="0" lang="es-MX" sz="25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500"/>
            </a:br>
            <a:r>
              <a:rPr b="0" lang="es-MX" sz="2500" spc="-1" strike="noStrike">
                <a:solidFill>
                  <a:srgbClr val="ffff00"/>
                </a:solidFill>
                <a:latin typeface="Arial"/>
              </a:rPr>
              <a:t>Cuando llegó a los peruanos, dijo lo siguiente: “Estos van a ser inteligentes, honestos y apristas”.</a:t>
            </a:r>
            <a:br>
              <a:rPr sz="2500"/>
            </a:br>
            <a:br>
              <a:rPr sz="2000"/>
            </a:b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533520"/>
            <a:ext cx="762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00"/>
                </a:solidFill>
                <a:latin typeface="Arial"/>
              </a:rPr>
              <a:t>Cuando Dios hizo el mundo, para que los hombres prosperaran, decidió darles dos virtud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00"/>
                </a:solidFill>
                <a:latin typeface="Arial"/>
              </a:rPr>
              <a:t>Cuando terminó de hacer el mundo, un ángel le preguntó:</a:t>
            </a:r>
            <a:br>
              <a:rPr sz="2200"/>
            </a:br>
            <a:r>
              <a:rPr b="0" lang="es-MX" sz="2200" spc="-1" strike="noStrike">
                <a:solidFill>
                  <a:srgbClr val="ffff00"/>
                </a:solidFill>
                <a:latin typeface="Arial"/>
              </a:rPr>
              <a:t>“Santo Padre, has dado a todos los pueblos dos virtudes, pero a los peruanos les has dado tres. Eso hará que ellos prevalezcan por encima de los otros pueblos de la tierra”.</a:t>
            </a:r>
            <a:br>
              <a:rPr sz="2200"/>
            </a:br>
            <a:br>
              <a:rPr sz="2200"/>
            </a:br>
            <a:r>
              <a:rPr b="0" lang="es-MX" sz="2200" spc="-1" strike="noStrike">
                <a:solidFill>
                  <a:srgbClr val="ffff00"/>
                </a:solidFill>
                <a:latin typeface="Arial"/>
              </a:rPr>
              <a:t>“Caramba, es cierto” dijo el Señor, “pero los dones de Dios no deben quitarse. Lo remediaremos de inmediato: los peruanos conservarán esas tres virtudes pero ninguno podrá  ejercer mas de dos virtudes simultaneamente”.</a:t>
            </a:r>
            <a:br>
              <a:rPr sz="2200"/>
            </a:br>
            <a:br>
              <a:rPr sz="2000"/>
            </a:b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Es por eso, que desde  ese momento y por mandato divino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1.-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El peruano que es aprista y honesto, no puede ser inteligente.</a:t>
            </a: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2.-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El que es inteligente y aprista, no puede ser de ningún modo </a:t>
            </a:r>
            <a:br>
              <a:rPr sz="2000"/>
            </a:b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     honesto.</a:t>
            </a: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3.-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200" spc="-1" strike="noStrike">
                <a:solidFill>
                  <a:srgbClr val="ffff00"/>
                </a:solidFill>
                <a:latin typeface="Arial"/>
              </a:rPr>
              <a:t>Y el peruano que es verdaderamente inteligente y </a:t>
            </a:r>
            <a:br>
              <a:rPr sz="2200"/>
            </a:br>
            <a:r>
              <a:rPr b="0" lang="es-MX" sz="2200" spc="-1" strike="noStrike">
                <a:solidFill>
                  <a:srgbClr val="ffff00"/>
                </a:solidFill>
                <a:latin typeface="Arial"/>
              </a:rPr>
              <a:t>     honesto,</a:t>
            </a:r>
            <a:r>
              <a:rPr b="0" lang="es-MX" sz="2300" spc="-1" strike="noStrike">
                <a:solidFill>
                  <a:srgbClr val="ffff00"/>
                </a:solidFill>
                <a:latin typeface="Arial"/>
              </a:rPr>
              <a:t> jamás</a:t>
            </a:r>
            <a:r>
              <a:rPr b="0" lang="es-MX" sz="2200" spc="-1" strike="noStrike">
                <a:solidFill>
                  <a:srgbClr val="ffff00"/>
                </a:solidFill>
                <a:latin typeface="Arial"/>
              </a:rPr>
              <a:t> podrá ser aprista.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Moraleja: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“Nunca dudes, Dios sabe lo que hace”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imes New Roman"/>
              </a:rPr>
              <a:t>Envía este mensaje a todos tus amigos. Que circule por todo el Perú .Tenemos que cambiar de pensamiento, el que roba una vez, roba dos y con más experiencia.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04:44:36Z</dcterms:created>
  <dc:creator>pedro</dc:creator>
  <dc:description/>
  <dc:language>en-US</dc:language>
  <cp:lastModifiedBy>Eduardo Ruelas</cp:lastModifiedBy>
  <dcterms:modified xsi:type="dcterms:W3CDTF">2008-08-30T02:59:44Z</dcterms:modified>
  <cp:revision>8</cp:revision>
  <dc:subject/>
  <dc:title>Dios sabe lo que hace</dc:title>
</cp:coreProperties>
</file>