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B15-ED89-4549-A1B7-6C6D2D29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C74-E02A-4230-A0FB-D5E0B155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F7E-B5ED-48CD-86B8-A6386083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DB7-8D9D-43A4-A960-C4200A6D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62EE-8F97-47D0-A2D6-2577543B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38E6-F2AC-4EC8-AAFB-4E8A2614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261A-639E-4196-AED2-517CDCE5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B8DD-9244-474D-861B-EA244F99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7546-D14A-43AC-AA49-87FFE0DF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9941-59E0-49B4-9973-34859F4C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A5EB-CF21-4088-BD9C-A3E6EA6A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30F-E6E5-47B1-A918-837BAE3E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BBF7-C76C-4D3C-8E32-E9906174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DDD9-3185-45D3-AE93-016DB57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7195-8D23-4826-8D6C-B61BC68A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FAD9-4DC9-4DC5-8DE2-4FC1AF96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46C0-4679-4236-AAF5-FD779F31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560-A090-41BF-9877-D7429804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690-0DB8-4697-8C9B-606E4091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C71-84D0-4E57-9F94-A3E60EC3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A78-6407-471E-BF3F-C1E142C5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0EE-1977-4691-A0C1-143C4F64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A4A-6345-45C7-A2FC-41AE0FD1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061-8F61-4203-A15B-A641BE1E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AF38-F9E6-498E-A596-EA7A03B84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DD53-DBF1-45DB-AC8B-54569773C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8120" y="76212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 Black"/>
              </a:rPr>
              <a:t>Dios sabe lo que h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1.- A los gringos los hizo ordenados y respetuosos de   </a:t>
            </a:r>
            <a:br>
              <a:rPr sz="2500"/>
            </a:b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     la ley.</a:t>
            </a:r>
            <a:br>
              <a:rPr sz="2500"/>
            </a:b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2. A los ingleses, tenaces y estudiosos.</a:t>
            </a:r>
            <a:br>
              <a:rPr sz="2500"/>
            </a:b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3. A los japoneses, trabajadores y pacientes.</a:t>
            </a:r>
            <a:br>
              <a:rPr sz="2500"/>
            </a:br>
            <a:br>
              <a:rPr sz="2500"/>
            </a:b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Y así sucesivamente;</a:t>
            </a:r>
            <a:br>
              <a:rPr sz="2500"/>
            </a:b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500"/>
            </a:b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Cuando llegó a los peruanos, dijo lo siguiente: “Estos van a ser inteligentes, honestos y apristas”.</a:t>
            </a:r>
            <a:br>
              <a:rPr sz="2500"/>
            </a:br>
            <a:br>
              <a:rPr sz="2000"/>
            </a:b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33520"/>
            <a:ext cx="762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00"/>
                </a:solidFill>
                <a:latin typeface="Arial"/>
              </a:rPr>
              <a:t>Cuando Dios hizo el mundo, para que los hombres prosperaran, decidió darles dos virtud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00"/>
                </a:solidFill>
                <a:latin typeface="Arial"/>
              </a:rPr>
              <a:t>Cuando terminó de hacer el mundo, un ángel le preguntó:</a:t>
            </a:r>
            <a:br>
              <a:rPr sz="2200"/>
            </a:br>
            <a:r>
              <a:rPr b="0" lang="es-MX" sz="2200" spc="-1" strike="noStrike">
                <a:solidFill>
                  <a:srgbClr val="ffff00"/>
                </a:solidFill>
                <a:latin typeface="Arial"/>
              </a:rPr>
              <a:t>“Santo Padre, has dado a todos los pueblos dos virtudes, pero a los peruanos les has dado tres. Eso hará que ellos prevalezcan por encima de los otros pueblos de la tierra”.</a:t>
            </a:r>
            <a:br>
              <a:rPr sz="2200"/>
            </a:br>
            <a:br>
              <a:rPr sz="2200"/>
            </a:br>
            <a:r>
              <a:rPr b="0" lang="es-MX" sz="2200" spc="-1" strike="noStrike">
                <a:solidFill>
                  <a:srgbClr val="ffff00"/>
                </a:solidFill>
                <a:latin typeface="Arial"/>
              </a:rPr>
              <a:t>“Caramba, es cierto” dijo el Señor, “pero los dones de Dios no deben quitarse. Lo remediaremos de inmediato: los peruanos conservarán esas tres virtudes pero ninguno podrá  ejercer mas de dos virtudes simultaneamente”.</a:t>
            </a:r>
            <a:br>
              <a:rPr sz="2200"/>
            </a:br>
            <a:br>
              <a:rPr sz="2000"/>
            </a:b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Es por eso, que desde  ese momento y por mandato divino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1.-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El peruano que es aprista y honesto, no puede ser inteligente.</a:t>
            </a: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2.-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El que es inteligente y aprista, no puede ser de ningún modo </a:t>
            </a:r>
            <a:br>
              <a:rPr sz="2000"/>
            </a:b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     honesto.</a:t>
            </a: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3.-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2200" spc="-1" strike="noStrike">
                <a:solidFill>
                  <a:srgbClr val="ffff00"/>
                </a:solidFill>
                <a:latin typeface="Arial"/>
              </a:rPr>
              <a:t>Y el peruano que es verdaderamente inteligente y </a:t>
            </a:r>
            <a:br>
              <a:rPr sz="2200"/>
            </a:br>
            <a:r>
              <a:rPr b="0" lang="es-MX" sz="2200" spc="-1" strike="noStrike">
                <a:solidFill>
                  <a:srgbClr val="ffff00"/>
                </a:solidFill>
                <a:latin typeface="Arial"/>
              </a:rPr>
              <a:t>     honesto,</a:t>
            </a:r>
            <a:r>
              <a:rPr b="0" lang="es-MX" sz="2300" spc="-1" strike="noStrike">
                <a:solidFill>
                  <a:srgbClr val="ffff00"/>
                </a:solidFill>
                <a:latin typeface="Arial"/>
              </a:rPr>
              <a:t> jamás</a:t>
            </a:r>
            <a:r>
              <a:rPr b="0" lang="es-MX" sz="2200" spc="-1" strike="noStrike">
                <a:solidFill>
                  <a:srgbClr val="ffff00"/>
                </a:solidFill>
                <a:latin typeface="Arial"/>
              </a:rPr>
              <a:t> podrá ser aprista.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Moraleja: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 “Nunca dudes, Dios sabe lo que hace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imes New Roman"/>
              </a:rPr>
              <a:t>Envía este mensaje a todos tus amigos. Que circule por todo el Perú .Tenemos que cambiar de pensamiento, el que roba una vez, roba dos y con más experiencia.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04:44:36Z</dcterms:created>
  <dc:creator>pedro</dc:creator>
  <dc:description/>
  <dc:language>en-US</dc:language>
  <cp:lastModifiedBy>Eduardo Ruelas</cp:lastModifiedBy>
  <dcterms:modified xsi:type="dcterms:W3CDTF">2008-08-30T02:59:44Z</dcterms:modified>
  <cp:revision>8</cp:revision>
  <dc:subject/>
  <dc:title>Dios sabe lo que hace</dc:title>
</cp:coreProperties>
</file>