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CC0F-BB23-41AA-8DEF-C14F69B5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F05F-23CA-431B-A281-88B6C654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0D17-C41D-4D4B-B74A-3BD34E3A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8F03-0859-422C-825E-F4539D6D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8AF-4B71-4FA4-AED6-FF5A3A0B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0D4C-E721-4D07-80BA-625B31C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117-4036-4AA3-9587-467F2915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08F6-0B21-445D-AED2-A2710C3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A00E-CC82-44CB-9283-046696BC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E61A-63BA-45CC-9430-E191EA6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2D83-37E3-4417-9EEF-2C67864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59B9-192A-4C52-B9DA-E2803717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346-4182-453E-A233-C623931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98B2-ADFE-4F11-868F-5EAF071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AE0F-1224-4493-B1BD-D3FA55F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65F9-C709-46D4-90A8-2B6ABE15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C2E-2BEE-4968-9A07-8D08FF89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28AF-CB3F-4C2D-BAE6-982AFF6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6926-35CF-48CE-9270-FA89649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0931-AFF8-4612-834C-A34BC120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4DD2-CFD2-42B2-8852-DF938D8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D8DD-2C8E-4D7F-91CE-136E62C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3AAD-AA53-43FD-A7DA-01E31F9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7DA3-0555-4002-A06B-47688313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0BC2-CF1A-4371-B120-BDC82CEF7CA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096-47B5-44C7-86BA-6E259871A1B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78136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"/>
              </a:rPr>
              <a:t>5 Judío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19280" y="6206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Los cinco judíos que más han cambiado la forma de ver el mundo fuer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13372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Moisés, cuando dijo: "la Ley es TODO..."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Jesús, cuando dijo: "el Amor es TODO...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Marx, cuando dijo: "el Capital es TODO...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-Freud, cuando dijo: "el Sexo es TODO..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5092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spués vino Einstein y lo mandó todo a la mierda cuando dij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3737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"TODO  es relativo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19:02:58Z</dcterms:created>
  <dc:creator>Jaime Caballero Arriaga</dc:creator>
  <dc:description/>
  <dc:language>en-US</dc:language>
  <cp:lastModifiedBy>Jaime Caballero Arriaga</cp:lastModifiedBy>
  <dcterms:modified xsi:type="dcterms:W3CDTF">2005-08-27T19:04:31Z</dcterms:modified>
  <cp:revision>1</cp:revision>
  <dc:subject/>
  <dc:title>5 Judíos</dc:title>
</cp:coreProperties>
</file>