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EBE63-7F18-41B0-8871-6C1585A2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E342A-F983-44F0-B5AA-C3AA3D78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EFBE7-EE98-42B8-B7C1-AC78C0A1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C0FE1-09EC-4AB3-9DDC-440D78D5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CFB7-6619-4285-AB86-7C0B00DC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2CA0-B331-4720-A240-8C92FEC2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B3C3-059B-4AED-94FE-0A2BD7DE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9C81-4AC0-4777-8E07-022442E6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E0CC-E505-4804-9867-E39FCCAB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8AA0-A2EA-4E15-91E7-35F9DCF2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CE4C-B2CE-4623-BA6D-495AAAE4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7150C-A129-4CD8-8895-A63DB06D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91EA-A023-4412-B61F-CA7B6E32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6C7F-ABE7-4265-867A-DC4676C7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F126-9908-4241-AEE9-DD6128B4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21ED-8910-44E5-9913-8B11547B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9B0A-E83C-44DE-B98A-14464245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74008-02B4-4AA7-9A31-539F8040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6EFDD-5079-4CB6-94D2-7DC06859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E01DC-ED0C-4794-82E9-1BBE0134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B0C1F-B7F2-48CA-B626-F791C3D6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B9770-9D08-4FB4-8060-0C43206C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0D8EC-34D2-4487-8AE2-162CB5BA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B2718-CA5A-4BDD-B0A3-DEBE1285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1129-F327-41AD-B11D-53B567089BC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7D6F-0328-4130-B9CF-0A4446843A5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78136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"/>
              </a:rPr>
              <a:t>5 Judío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19280" y="620640"/>
            <a:ext cx="71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Los cinco judíos que más han cambiado la forma de ver el mundo fuer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133720"/>
            <a:ext cx="720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-Moisés, cuando dijo: "la Ley es TODO..."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-Jesús, cuando dijo: "el Amor es TODO...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-Marx, cuando dijo: "el Capital es TODO...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-Freud, cuando dijo: "el Sexo es TODO..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50920" y="4581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spués vino Einstein y lo mandó todo a la mierda cuando dijo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03280" y="537372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"TODO  es relativo"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7T19:02:58Z</dcterms:created>
  <dc:creator>Jaime Caballero Arriaga</dc:creator>
  <dc:description/>
  <dc:language>en-US</dc:language>
  <cp:lastModifiedBy>Jaime Caballero Arriaga</cp:lastModifiedBy>
  <dcterms:modified xsi:type="dcterms:W3CDTF">2005-08-27T19:04:31Z</dcterms:modified>
  <cp:revision>1</cp:revision>
  <dc:subject/>
  <dc:title>5 Judíos</dc:title>
</cp:coreProperties>
</file>