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GINASTERA%20.%20Danza%20del%20trigo%20CD2-5%20220.wav" ContentType="audio/x-wav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522-8E11-4806-9B31-36D9B5C6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F1F-3B4E-44FA-8576-C4794298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079-C5E0-4AC3-A231-A3613776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C80-FBA2-4B6D-B17F-61D53EB9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E4B-E0EE-4ADB-9699-B2DBC71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F69-6842-49BE-85C3-D74945B3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0DB-FDB6-4AD2-AB8E-C480D9BA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5BC-86C4-47AC-9FA5-F2398367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6CF-D4A0-472D-A827-E14369D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4BE-F816-48EC-8AE5-869C438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5C6-D389-4F5F-BF30-BDAB510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0C3-063D-47F8-B13C-09E737E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C6D-7DB7-4BC3-9CD7-C0F2019D7A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GINASTERA%20.%20Danza%20del%20trigo%20CD2-5%20220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DADO%20niño%20herido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00600" cy="4343400"/>
          </a:xfrm>
          <a:prstGeom prst="rect">
            <a:avLst/>
          </a:prstGeom>
          <a:ln w="0">
            <a:noFill/>
          </a:ln>
        </p:spPr>
      </p:pic>
      <p:pic>
        <p:nvPicPr>
          <p:cNvPr id="42" name="violencia%20machisa%20mujer%20B-N" descr=""/>
          <p:cNvPicPr/>
          <p:nvPr/>
        </p:nvPicPr>
        <p:blipFill>
          <a:blip r:embed="rId2"/>
          <a:stretch/>
        </p:blipFill>
        <p:spPr>
          <a:xfrm>
            <a:off x="228600" y="0"/>
            <a:ext cx="358128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4191120"/>
            <a:ext cx="1762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l Cuerp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21263400">
            <a:off x="4800600" y="441936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 la Sang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5486400"/>
            <a:ext cx="2495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 Cristo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AN%20VINO%20copa%20madera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2040" y="228600"/>
            <a:ext cx="6671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imenta al que se muere de hambre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rque si no lo alimentas lo matas”.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Vaticano II - G.S. 6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0440" y="6019920"/>
            <a:ext cx="374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Lucas 9, 11b-17.</a:t>
            </a:r>
            <a:br>
              <a:rPr sz="1600"/>
            </a:b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Autora: Mari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Música: Ginastera. La danza del tri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GINASTERA%20.%20Danza%20del%20trigo%20CD2-5%20220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mida%20COMPARTID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685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Jesús los acogió y estuvo hablándoles del reino de Dios, y curando a los que lo necesitaban.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568760"/>
            <a:ext cx="8915400" cy="228852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ucede el milagro cuando Jesús está hablando del Reino y curando, cuando está haciendo llegar la liberación y salvación de D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Jesús enseña, acoge, cura y da de comer. No se limita a hablar del Reino, lo pone en práctica dando de comer y curando a quienes lo necesitan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Uno de los rasgos característicos del evangelio de Lucas es el de las comidas de Jesús con publicanos y pecadores. En ellas, con su acogida a tod@s, hacía experimentar a aquéllos y aquéllas con quienes compartía mesa que Dios ya estaba cumpliendo sus promesas de plenitud y de consue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nochecer%20-12289971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1800" y="228600"/>
            <a:ext cx="921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uando el día comenzó a declinar, se acercaron los doce y le dijeron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Despide a la gente  para que se vayan a las aldeas y caseríos del contorn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buscar albergue y comida, porque aquí estamos en despob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8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Jesús no comparte el criterio exclusivista de quienes se consideran grupo elegido, con más derecho a estar cerca de Él y quieren desentenderse de l@s de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AR%20DE%20COME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27520" y="380880"/>
            <a:ext cx="43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esús les dijo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adles vosotros de com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esús establece una estrecha relación entre el alimento espiritual y el alimento material. Dar de comer forma parte de la tarea del anuncio del Rein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alimentos suficientes para toda la humanidad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medios para construir un mundo nue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y no haría falta </a:t>
            </a: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multiplicar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los alimento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astaría con </a:t>
            </a: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dividirlos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justa, solidaria y equitati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_jean%20ziegler%20dedo" descr=""/>
          <p:cNvPicPr/>
          <p:nvPr/>
        </p:nvPicPr>
        <p:blipFill>
          <a:blip r:embed="rId1"/>
          <a:stretch/>
        </p:blipFill>
        <p:spPr>
          <a:xfrm>
            <a:off x="5715000" y="0"/>
            <a:ext cx="31050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29440" y="4343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Jean Zie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56386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El drama del hambre en el mundo, el más grave de los dramas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Los medios de comunicación social se están haciendo eco de la hambruna que amenaza ahora mismo a más de cien millones de personas en el mundo. Cien millones a añadir a la multitud de personas que cada año mueren de hambre y miseria. Se recogen las palabras rotundas de Jean Ziegler, delegado de la ONU para asuntos alimentarios del “</a:t>
            </a:r>
            <a:r>
              <a:rPr b="0" lang="es-ES" sz="1400" spc="-1" strike="noStrike" u="sng">
                <a:solidFill>
                  <a:srgbClr val="ffffff"/>
                </a:solidFill>
                <a:uFillTx/>
                <a:latin typeface="Comic Sans MS"/>
              </a:rPr>
              <a:t>silencioso asesinato en masa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” al que está llevando el actual aumento de precios de los alimentos. 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Y no se muerde la lengua al denunciar que “tenemos una multitud de empresarios, especuladores y bandidos financieros que han convertido en salvaje un mundo de desigualdad y de horror”. 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Aunque no parece que ni la compasión por los pobres 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ni el miedo a la inseguridad provoque en el mundo rico, </a:t>
            </a:r>
            <a:r>
              <a:rPr b="1" lang="es-ES" sz="1400" spc="-1" strike="noStrike">
                <a:solidFill>
                  <a:srgbClr val="ffffff"/>
                </a:solidFill>
                <a:latin typeface="Comic Sans MS"/>
              </a:rPr>
              <a:t>buena parte del cual se declara cristiano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, alguna reacción seria, decidida, eficaz, para cambiar el actual estado de cosas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¿</a:t>
            </a:r>
            <a:r>
              <a:rPr b="0" i="1" lang="es-ES" sz="1400" spc="-1" strike="noStrike" u="sng">
                <a:solidFill>
                  <a:srgbClr val="ffffff"/>
                </a:solidFill>
                <a:uFillTx/>
                <a:latin typeface="Comic Sans MS"/>
              </a:rPr>
              <a:t>Cómo es posible que este mensaje no se traduzca en tareas concretas, en caminos de amor y de justicia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La campaña “Pobreza Cero” nos dijo que “la humanidad tiene hoy en sus manos la capacidad de acabar con el hambre en el mundo”. Se nos ha invitado a reflexionar: “¿Cómo juzgará la Historia a una generación que pudo acabar con el hambre en el mundo y no lo hiz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4640" y="4800600"/>
            <a:ext cx="3925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Te animo a buscar con otras personas,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reyentes y no creyentes,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auces y acciones de solidaridad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hacia las personas más desfavorecidas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de nuestro mundo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Cumpliremos así el deseo de Jesús: </a:t>
            </a:r>
            <a:br>
              <a:rPr sz="1600"/>
            </a:b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“¡Dadles vosotros de comer!”.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endigo-por-un-d-C3-ADa" descr=""/>
          <p:cNvPicPr/>
          <p:nvPr/>
        </p:nvPicPr>
        <p:blipFill>
          <a:blip r:embed="rId2"/>
          <a:stretch/>
        </p:blipFill>
        <p:spPr>
          <a:xfrm>
            <a:off x="5791320" y="464832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írculo%20estella2" descr=""/>
          <p:cNvPicPr/>
          <p:nvPr/>
        </p:nvPicPr>
        <p:blipFill>
          <a:blip r:embed="rId1"/>
          <a:stretch/>
        </p:blipFill>
        <p:spPr>
          <a:xfrm>
            <a:off x="-119160" y="0"/>
            <a:ext cx="9382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029200"/>
            <a:ext cx="9144000" cy="173988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parece la visión </a:t>
            </a:r>
            <a:r>
              <a:rPr b="1" i="1" lang="es-ES" sz="1800" spc="-1" strike="noStrike">
                <a:solidFill>
                  <a:srgbClr val="ffffff"/>
                </a:solidFill>
                <a:latin typeface="Comic Sans MS"/>
              </a:rPr>
              <a:t>realista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de los discípulos: tienen cinco panes y dos peces, suficiente para ellos, l@s demás, l@s que no tienen, que vayan a comprar, que se las arreglen como puedan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la visión </a:t>
            </a:r>
            <a:r>
              <a:rPr b="1" i="1" lang="es-ES" sz="1800" spc="-1" strike="noStrike">
                <a:solidFill>
                  <a:srgbClr val="ffffff"/>
                </a:solidFill>
                <a:latin typeface="Comic Sans MS"/>
              </a:rPr>
              <a:t>utópica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de Jesús: dadles vosotros de comer a tod@s. No os guardéis nada para vosotro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solución no está en comprar. La solución está en compart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Ellos le replicar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–No tenemos más que cinco panes y dos peces, a no ser que vayamos nosotros a comprar alimentos para toda esa gente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Eran unos cinco mil homb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Dijo entonces Jesús a sus discípulos: mandadles que se sienten por grupos de  cincuenta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Así lo hicieron y acomodaron a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AN%20MANOS%20partiendo%20P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Luego Jesús tomó los cinco panes y los dos peces, levantó los ojos al cielo, pronunció la bendición, los partió y se los iba dando a los discípulos para que los distribuyeran entre la 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3848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gesto de Jesús recuerda la última Cena. Vida compartid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resión de la comunidad cristiana auténtic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ipar en la Eucaristía supone la puesta en práctica del amor mutu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la identificación de vida con Jesú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cer lo que Él hizo y vivir como Él vivió. Ser “pan” y “vino” para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nde no hay amor, solidaridad, vida compartida y comprometida no hay Eucarist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importante no es ”oír” muchas misas, repetir rutinariamente las palabras de Jesús, sino hacer presente comunitariamente el proyecto de Jesú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la vida cotid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nos%20BLANCAS%20grande%20NEGRAS%20pequeñ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33920" y="9144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ieron todos hasta quedar saciado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y de los trozos sobrantes recogier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oce cana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18120"/>
            <a:ext cx="9144000" cy="201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ando se comparte y reparte hay de sobra para tod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odo acto de fe y de bondad, todo gesto de amor, toda palabra de ternura y perdón, toda muestra de gozo, se multiplica y hace más feliz nuestra vida y la de l@s demá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anar, acoger, liberar, alimentar, llevar el pan de la alegría, de la esperanza, de la Buena Noticia es la única manera de seguir la recomendación de Jesús: “Haced todo eso en memoria mí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EUCARISTÍA%20COMPARTI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7116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por romper nuestras mur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726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y enseñarnos a compart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35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siguiendo tu Palabra. 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Monotype Corsiva"/>
              </a:rPr>
              <a:t>F.Ulibarri</a:t>
            </a: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974880"/>
            <a:ext cx="5333760" cy="619236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¡Aquí hay cinco panes y dos peces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Son los primeros del banquete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tú, ¿qué es lo que tienes?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Vacía tu alforja y, liger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pregunta a tu compañer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si quiere poner también él lo que llev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rred la voz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Que se haga mesa fraterna;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que nadie guarde el pan de hoy para mañan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Desprendeos de lo que lleváis encim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evantad los ojos al ciel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bendecid al Dios de la vid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o repartieron los que nada tenían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legó para tod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aún sobró para soñar utopías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Gracias, Señor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por romper nuestras muralla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enseñarnos a compartir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siguiendo tu Palabra. </a:t>
            </a:r>
            <a:r>
              <a:rPr b="0" lang="es-ES" sz="1800" spc="-1" strike="noStrike">
                <a:solidFill>
                  <a:srgbClr val="ffffff"/>
                </a:solidFill>
                <a:latin typeface="Monotype Corsiva"/>
              </a:rPr>
              <a:t>F.Ulibar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228600"/>
            <a:ext cx="3895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808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milagro de compart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808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48:52Z</dcterms:created>
  <dc:creator> Mariasun Gutiérrez</dc:creator>
  <dc:description/>
  <dc:language>en-US</dc:language>
  <cp:lastModifiedBy>Usuario</cp:lastModifiedBy>
  <dcterms:modified xsi:type="dcterms:W3CDTF">2010-06-01T18:25:55Z</dcterms:modified>
  <cp:revision>35</cp:revision>
  <dc:subject>jeasam@gmail.com</dc:subject>
  <dc:title>Cuerpo y Sangre de Cristo</dc:title>
</cp:coreProperties>
</file>