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15.jpeg" ContentType="image/jpeg"/>
  <Override PartName="/ppt/media/)v(@ry%5Bm%5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7CA-A751-41F2-A2AF-0A529E97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CCB-CE45-4BB6-96F6-EA242443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7A94-04F7-4807-BCE1-6D1D4EDA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730-5DB0-44D4-A5AA-6C9081BD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A83-9869-47C0-B726-338CB3EF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A76C-8839-4108-93A2-91093A2A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2C7-0FA2-42D7-868B-8E1DD472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81D-2AAA-466C-AF54-3F062F98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DE3-6A3B-4C86-BB9C-A714336F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086-F9CE-4193-9281-1CEACF86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E53-34A4-4D83-9D80-A272615C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1AF-0A41-4682-A8FF-27011841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C08C-EA1C-4B06-A831-26D17C34ACA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)v(@ry%5Bm%5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187280" y="2492280"/>
            <a:ext cx="69850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as mujeres son capaces de fingir un orgasmo, pero los hombres pueden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fingir una relación ent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haron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924360" y="587700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►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Haz click para avanzar las diapositivas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 rot="5400000">
            <a:off x="-1723320" y="3170880"/>
            <a:ext cx="4751280" cy="514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e5e5e5"/>
                    </a:gs>
                    <a:gs pos="100000">
                      <a:srgbClr val="b2b2b2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aramond"/>
              </a:rPr>
              <a:t>FRASESEX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b2b2b2"/>
                  </a:gs>
                  <a:gs pos="50000">
                    <a:srgbClr val="e5e5e5"/>
                  </a:gs>
                  <a:gs pos="100000">
                    <a:srgbClr val="b2b2b2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2349000"/>
            <a:ext cx="8964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l sexo es una cosa hermosa ent</a:t>
            </a: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 dos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ntre cinco es fant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Woody 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Hay un gran número de dis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mecánicos pensados para aumentar la libido, particularmente entre las mujeres.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l mas efectivo es el…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*Mercedes Benz 380 SL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ynn Lav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249228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Un intelectual es alguien que ha encontrado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algo mas importante que el sex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dgar Wal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7138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¿Es sucio el sex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Sólo cuando se hace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Woody 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2349360"/>
            <a:ext cx="914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h !! Si ! divorcio. De la expresión latina que significa: arrancar los genitales del hombre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on su cart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obin Will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227628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El sexo a los 90 es como intentar </a:t>
            </a:r>
            <a:br>
              <a:rPr sz="2800"/>
            </a:b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jugar al billar con una cuer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Camille Pag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547640" y="1700280"/>
            <a:ext cx="6336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l problema es que Dios le dio al hombre un cerebro y un pene, pero sólo suficiente sangre para que funcione uno a la ve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obin Will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49192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La última vez que estuve dentro de una mujer</a:t>
            </a:r>
            <a:br>
              <a:rPr sz="2800"/>
            </a:b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 fue cuando visitaba la estatua de la Libert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Woody 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2276640"/>
            <a:ext cx="91440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i esposa es un objeto sexual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Cada vez que le pido sexo, ella obj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Bob H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79280" y="2133720"/>
            <a:ext cx="8964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Sólo hay dos cosas que un hombre y una mujer pueden hacer en un día de lluvia.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Y a mi no me gusta ver la televisió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Carol Burn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5"/>
          <p:cNvSpPr txBox="1"/>
          <p:nvPr/>
        </p:nvSpPr>
        <p:spPr>
          <a:xfrm rot="5400000">
            <a:off x="7996680" y="5691960"/>
            <a:ext cx="1439640" cy="514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50000">
                      <a:srgbClr val="000000"/>
                    </a:gs>
                    <a:gs pos="100000">
                      <a:srgbClr val="aaaaaa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aramond"/>
              </a:rPr>
              <a:t>FIN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50000">
                    <a:srgbClr val="000000"/>
                  </a:gs>
                  <a:gs pos="100000">
                    <a:srgbClr val="aaaaaa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Según una reciente encuesta, </a:t>
            </a:r>
            <a:br>
              <a:rPr sz="2800"/>
            </a:b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las mujeres afirman sentirse mas cómodas desvistiéndose delante de los hombres que de mujeres.</a:t>
            </a:r>
            <a:br>
              <a:rPr sz="2800"/>
            </a:b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 Dicen que ellas se vuelven demasiado críticas mientras que nosotros, los hombres, por supuesto, simplemente nos volvemos agradec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Tahoma"/>
              </a:rPr>
              <a:t>Robert de N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49228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uarenta y cinco años masturbándome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y sigo sin tener fuerza en la m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Billy W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263664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jar el sexo a las feministas es como dejar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 tu perro de vacaciones con el taxiderm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att Ba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2491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¿Conoces esa mirada que tienen las mujeres cuando quieren sexo contigo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Yo tampo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teve Mar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2276640"/>
            <a:ext cx="91440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¿Qué el sexo prematrimonial es peca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No existe sexo prematrimonial,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i no tienes intenciones de cas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at Ba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asturbarse es hacerle el amor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 la persona que uno más qui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Woody 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27664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as mujeres necesitan una razón para tener sexo. Los hombres sólo un lug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Billy Crys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reo que el sexo es una de las cosas mas bonitas, naturales y gratificantes que el dinero puede comp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Tom Cl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2:36:21Z</dcterms:created>
  <dc:creator>Moni</dc:creator>
  <dc:description/>
  <dc:language>en-US</dc:language>
  <cp:lastModifiedBy>Jesús Nieva Baldoceda</cp:lastModifiedBy>
  <dcterms:modified xsi:type="dcterms:W3CDTF">2010-09-22T18:08:24Z</dcterms:modified>
  <cp:revision>17</cp:revision>
  <dc:subject/>
  <dc:title>Frases celebres sobre sexo</dc:title>
</cp:coreProperties>
</file>