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5.jpeg" ContentType="image/jpeg"/>
  <Override PartName="/ppt/media/)v(@ry%5Bm%5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294-33ED-4E22-88BE-878ED1B5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933-6FD2-4725-B324-4589E670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B75-5F53-4431-8ABD-6F7D74E5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331-B34E-41DE-ADA9-FD02444F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A8E-972D-48E7-9C8A-6EBEB147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93F-5240-452F-A809-0F5569A6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74B-C356-43FA-9459-5F3CCEFA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C75-9138-4253-AF7D-C90B1BE5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57F-1132-41C6-AEEF-B7DE30EC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8B3-28FC-49E9-A364-04B5B30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FAB-F1DF-41DB-A02E-D224DE9B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DF3-1CFB-4989-9A8F-BFB9AED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7ADB-D26A-4E1B-A51D-7B459E2BED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)v(@ry%5Bm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187280" y="2492280"/>
            <a:ext cx="69850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s mujeres son capaces de fingir un orgasmo, pero los hombres pueden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fingir una relación ent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haron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24360" y="587700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►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az click para avanzar las diapositivas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 rot="5400000">
            <a:off x="-1723320" y="3170880"/>
            <a:ext cx="4751280" cy="514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e5e5e5"/>
                    </a:gs>
                    <a:gs pos="100000">
                      <a:srgbClr val="b2b2b2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aramond"/>
              </a:rPr>
              <a:t>FRASESEX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b2b2b2"/>
                  </a:gs>
                  <a:gs pos="50000">
                    <a:srgbClr val="e5e5e5"/>
                  </a:gs>
                  <a:gs pos="100000">
                    <a:srgbClr val="b2b2b2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l sexo es una cosa hermosa ent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 dos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ntre cinco es fant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Woody 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Hay un gran número de dis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mecánicos pensados para aumentar la libido, particularmente entre las mujeres.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l mas efectivo es el…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*Mercedes Benz 380 SL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ynn Lav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249228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Un intelectual es alguien que ha encontrado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algo mas importante que el sex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dgar Wal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7138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¿Es sucio el sex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Sólo cuando se hace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Woody 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34936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h !! Si ! divorcio. De la expresión latina que significa: arrancar los genitales del hombre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on su cart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obin Will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El sexo a los 90 es como intentar </a:t>
            </a:r>
            <a:br>
              <a:rPr sz="2800"/>
            </a:b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jugar al billar con una cuer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Camille Pa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547640" y="1700280"/>
            <a:ext cx="6336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l problema es que Dios le dio al hombre un cerebro y un pene, pero sólo suficiente sangre para que funcione uno a la v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obin Will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La última vez que estuve dentro de una mujer</a:t>
            </a:r>
            <a:br>
              <a:rPr sz="2800"/>
            </a:b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 fue cuando visitaba la estatua de la Libert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Woody 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91440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i esposa es un objeto sexual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Cada vez que le pido sexo, ella obj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Bob H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79280" y="2133720"/>
            <a:ext cx="8964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Sólo hay dos cosas que un hombre y una mujer pueden hacer en un día de lluvia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Y a mi no me gusta ver la televisió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Carol Burn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5"/>
          <p:cNvSpPr txBox="1"/>
          <p:nvPr/>
        </p:nvSpPr>
        <p:spPr>
          <a:xfrm rot="5400000">
            <a:off x="7996680" y="5691960"/>
            <a:ext cx="1439640" cy="514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50000">
                      <a:srgbClr val="000000"/>
                    </a:gs>
                    <a:gs pos="100000">
                      <a:srgbClr val="aaaaaa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aramond"/>
              </a:rPr>
              <a:t>FIN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50000">
                    <a:srgbClr val="000000"/>
                  </a:gs>
                  <a:gs pos="100000">
                    <a:srgbClr val="aaaaaa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Según una reciente encuesta, </a:t>
            </a:r>
            <a:br>
              <a:rPr sz="2800"/>
            </a:b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las mujeres afirman sentirse mas cómodas desvistiéndose delante de los hombres que de mujeres.</a:t>
            </a:r>
            <a:br>
              <a:rPr sz="2800"/>
            </a:b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 Dicen que ellas se vuelven demasiado críticas mientras que nosotros, los hombres, por supuesto, simplemente nos volvemos agradec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Robert de N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49228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uarenta y cinco años masturbándome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y sigo sin tener fuerza en la 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Billy W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jar el sexo a las feministas es como dejar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 tu perro de vacaciones con el taxiderm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att B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2491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¿Conoces esa mirada que tienen las mujeres cuando quieren sexo contigo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Yo tampo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teve 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91440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¿Qué el sexo prematrimonial es pec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No existe sexo prematrimonial,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i no tienes intenciones de cas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at B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asturbarse es hacerle el amor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 la persona que uno más qui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Woody 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s mujeres necesitan una razón para tener sexo. Los hombres sólo un lug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Billy Cry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reo que el sexo es una de las cosas mas bonitas, naturales y gratificantes que el dinero puede comp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om Cl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2:36:21Z</dcterms:created>
  <dc:creator>Moni</dc:creator>
  <dc:description/>
  <dc:language>en-US</dc:language>
  <cp:lastModifiedBy>Jesús Nieva Baldoceda</cp:lastModifiedBy>
  <dcterms:modified xsi:type="dcterms:W3CDTF">2010-09-22T18:08:24Z</dcterms:modified>
  <cp:revision>17</cp:revision>
  <dc:subject/>
  <dc:title>Frases celebres sobre sexo</dc:title>
</cp:coreProperties>
</file>