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applaus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6E00-D802-44B0-9AAE-E78DB8A02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60E6-A7B2-47F8-A81C-AE374A71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6E17-571E-4C42-BB06-809D8D127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CF82-454B-4E1F-8D84-5D063E41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A7FD-7D22-410E-B81E-82559C36C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DDD4-17D7-4551-A5EF-C9061C3B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7687-B3E0-4141-87D1-B5120310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8707-EE8A-4F5A-AED0-E18627A6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07AC-56D1-4BBD-826D-C671D4D8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ACF7-AD2D-4730-81C2-1E5A1A30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0601-1049-4434-B97E-D7726C32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7181-52A1-4712-A632-30C6AD5B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4187-2604-4BF4-992B-9DF29F043D8A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2565000"/>
            <a:ext cx="784692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6600" spc="-1" strike="noStrike">
                <a:solidFill>
                  <a:srgbClr val="9933ff"/>
                </a:solidFill>
                <a:latin typeface="comic"/>
              </a:rPr>
              <a:t>UNA  HIJA  EN  </a:t>
            </a:r>
            <a:br>
              <a:rPr sz="6600"/>
            </a:br>
            <a:r>
              <a:rPr b="1" lang="ca-ES" sz="6600" spc="-1" strike="noStrike">
                <a:solidFill>
                  <a:srgbClr val="9933ff"/>
                </a:solidFill>
                <a:latin typeface="comic"/>
              </a:rPr>
              <a:t>LA  UNIVERSIDA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 Imagen" descr=""/>
          <p:cNvPicPr/>
          <p:nvPr/>
        </p:nvPicPr>
        <p:blipFill>
          <a:blip r:embed="rId1"/>
          <a:stretch/>
        </p:blipFill>
        <p:spPr>
          <a:xfrm>
            <a:off x="468360" y="247680"/>
            <a:ext cx="8280360" cy="630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Una chica va a la Universidad de La Plata  en los años 70, pero más o menos a la mitad del semestre, se le acaba el dinero que le dieron su madre y uno de sus dos padres.</a:t>
            </a:r>
            <a:br>
              <a:rPr sz="3200"/>
            </a:br>
            <a:br>
              <a:rPr sz="3200"/>
            </a:b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Se le ocurre entonces una idea brillante, y llama a Tolosa donde vive su familia.</a:t>
            </a:r>
            <a:r>
              <a:rPr b="0" lang="ca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Mamá, no vas a creer las maravillas modernas de la educación en esta ciudad.</a:t>
            </a:r>
            <a:br>
              <a:rPr sz="3200"/>
            </a:b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Resulta que aquí, en mi Universidad, tienen un programa para enseñar a hablar a los perros.</a:t>
            </a:r>
            <a:br>
              <a:rPr sz="3200"/>
            </a:br>
            <a:br>
              <a:rPr sz="3200"/>
            </a:br>
            <a:r>
              <a:rPr b="0" lang="ca-ES" sz="3200" spc="-1" strike="noStrike">
                <a:solidFill>
                  <a:srgbClr val="9933ff"/>
                </a:solidFill>
                <a:latin typeface="Arial"/>
              </a:rPr>
              <a:t>-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3200" spc="-1" strike="noStrike">
                <a:solidFill>
                  <a:srgbClr val="9933ff"/>
                </a:solidFill>
                <a:latin typeface="Arial"/>
              </a:rPr>
              <a:t>¿Y cómo puedo hacer para que acepten a Pluto?,(el perro de la casa)</a:t>
            </a:r>
            <a:br>
              <a:rPr sz="3200"/>
            </a:br>
            <a:br>
              <a:rPr sz="3200"/>
            </a:b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a-ES" sz="3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Sólo mandámelo con 2.000 $ y yo me encargo de matricularlo.</a:t>
            </a:r>
            <a:r>
              <a:rPr b="0" lang="ca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sí es que la confiada madre envía al perro con los 2.000 pesos.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ás o menos a los tres meses, la nena se gasta la guita, y de nuevo decide volver a llamar a su madre.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9933ff"/>
                </a:solidFill>
                <a:latin typeface="Arial"/>
              </a:rPr>
              <a:t>-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9933ff"/>
                </a:solidFill>
                <a:latin typeface="Arial"/>
              </a:rPr>
              <a:t>Bueno, - ¿y cómo le va a Pluto? - le pregunta  su mad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creíble, mamá!!  Ya habla hasta por los codos, pero ahora resulta que hay otro curso más avanzado, para enseñar a los perros a leer.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9933ff"/>
                </a:solidFill>
                <a:latin typeface="Arial"/>
              </a:rPr>
              <a:t>-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9933ff"/>
                </a:solidFill>
                <a:latin typeface="Arial"/>
              </a:rPr>
              <a:t>¡No jodas! ¿Y cómo hago para que entre a ese curso?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Sólo envíame 3.500 $ mas, y lo matriculo.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sí es que la ingenua madre le envía el din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 final del curso, la chica, que sabe  que el perro no sabe ni hablar, ni leer, ni nada de nada, le pega un tiro en la cabeza al perro.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ando llega a su casa en Tolosa, al final del semestre, la madre está feliz, esperándolo.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9933ff"/>
                </a:solidFill>
                <a:latin typeface="Arial"/>
              </a:rPr>
              <a:t>-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9933ff"/>
                </a:solidFill>
                <a:latin typeface="Arial"/>
              </a:rPr>
              <a:t>¿Dónde está Pluto?... Estoy deseosa de escucharlo hablar y verlo leer. Ya tengo preparada una revista de animales para que me la l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Mamá, no me vas a creer. Yo lo tenía todo preparado para el viaje, cuando lo veo tirado en el sofá, leyendo Clarín, como todas las mañanas, y de pronto me dice: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009900"/>
                </a:solidFill>
                <a:latin typeface="Arial"/>
              </a:rPr>
              <a:t>- “Bueno, y tu vieja... ¿sigue cogiendo con el camionero ése que vive en Ensenada?”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Y la madre le contesta: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3200" spc="-1" strike="noStrike">
                <a:solidFill>
                  <a:srgbClr val="9933ff"/>
                </a:solidFill>
                <a:latin typeface="Arial"/>
              </a:rPr>
              <a:t>Espero que le hayas metido un tiro a ese perro hijo de puta, antes de que hable con tu padre.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Claro, mami. ¡Eso fue exactamente lo que hice!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3200" spc="-1" strike="noStrike">
                <a:solidFill>
                  <a:srgbClr val="9933ff"/>
                </a:solidFill>
                <a:latin typeface="Arial"/>
              </a:rPr>
              <a:t>Así se hace, hija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a chica no se graduó pero igual se convirtió 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n una política exitosa</a:t>
            </a:r>
            <a:br>
              <a:rPr sz="6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abajo"/>
          <p:cNvPicPr/>
          <p:nvPr/>
        </p:nvPicPr>
        <p:blipFill>
          <a:blip r:embed="rId1"/>
          <a:stretch/>
        </p:blipFill>
        <p:spPr>
          <a:xfrm>
            <a:off x="3995640" y="3933720"/>
            <a:ext cx="1008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12:05:09Z</dcterms:created>
  <dc:creator>DARP</dc:creator>
  <dc:description/>
  <dc:language>en-US</dc:language>
  <cp:lastModifiedBy>Gustavo</cp:lastModifiedBy>
  <dcterms:modified xsi:type="dcterms:W3CDTF">2011-03-23T22:07:06Z</dcterms:modified>
  <cp:revision>15</cp:revision>
  <dc:subject/>
  <dc:title>UN  HIJO  EN   LA  UNIVERSIDAD</dc:title>
</cp:coreProperties>
</file>