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21.jpeg" ContentType="image/jpeg"/>
  <Override PartName="/ppt/media/image29.png" ContentType="image/png"/>
  <Override PartName="/ppt/media/image17.gif" ContentType="image/gif"/>
  <Override PartName="/ppt/media/image2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PADRE%20NUESTRO.wav" ContentType="audio/x-wav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5B4A-2A43-43D9-B2CA-9EC5DEC25D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z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nc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laza de las Piment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RE NUE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932-F414-4EE4-A2AD-150CC6C8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227-8575-40FE-992F-7850B282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982-A6CB-4EFA-965D-8A1DBB9E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F2C-6268-4702-A245-D7A160EB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0F0-9B0A-42EC-9B11-02E47979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830-9DFB-4B26-B405-BEC19920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EA0-6839-46C5-A128-1549359D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6F8-0C4F-4B6A-B407-D6603E61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FE8-B272-418F-AF4E-EAEF08E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74C-411B-4076-9401-8AF8FD99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A04-BE7E-46AC-AAAC-1E028B1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D01-70AB-42BA-B94B-8350E49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5791-F169-4C56-B801-5AC237B69A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audio" Target="../media/PADRE%20NUESTRO.wav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5.jpe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716360" y="1533600"/>
            <a:ext cx="2016360" cy="1352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411280" cy="1582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95640" y="333360"/>
            <a:ext cx="2520720" cy="168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2195640" y="1989000"/>
            <a:ext cx="2520720" cy="165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6705720" y="1916280"/>
            <a:ext cx="2438280" cy="162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4716360" y="2852640"/>
            <a:ext cx="2016360" cy="19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2268360" y="3616200"/>
            <a:ext cx="2448000" cy="1613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2268360" y="5229360"/>
            <a:ext cx="2438640" cy="1628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6705720" y="3500280"/>
            <a:ext cx="2438280" cy="1729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6705720" y="5229360"/>
            <a:ext cx="2438280" cy="162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4716360" y="333360"/>
            <a:ext cx="201636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4716360" y="5589720"/>
            <a:ext cx="2016360" cy="126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3"/>
          <a:stretch/>
        </p:blipFill>
        <p:spPr>
          <a:xfrm>
            <a:off x="4716360" y="4797360"/>
            <a:ext cx="2014560" cy="79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ENTREGA DE LOS MICRÓFONOS DE ORO EN PONFERRADA - 9 – 05 - 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92280"/>
            <a:ext cx="2340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PRESENTAC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DICADA A 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IMPRESIONA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INTERPRE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 Black"/>
              </a:rPr>
              <a:t>PADRE NUEST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 LA CANTA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 Black"/>
              </a:rPr>
              <a:t>DIANA NAVAR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EN LA ENTREG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 L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MICRÓFON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DE ORO 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PONFERR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  <p:sndAc>
      <p:stSnd>
        <p:snd r:embed="rId14" name="PADRE%20NUEST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404640"/>
            <a:ext cx="213984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76520" y="404640"/>
            <a:ext cx="1874880" cy="288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32720" y="404640"/>
            <a:ext cx="2122200" cy="288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508720" y="3645000"/>
            <a:ext cx="363528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0" y="3645000"/>
            <a:ext cx="3203640" cy="29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3203640" y="3645000"/>
            <a:ext cx="2305080" cy="295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91280" y="609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/.Carnice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35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scu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6165720"/>
            <a:ext cx="18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Times New Roman"/>
              </a:rPr>
              <a:t>Ponfer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645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Plaza del Ayunt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28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Lucida Calligraphy"/>
              </a:rPr>
              <a:t>CASCO ANTIGUO DE PONFER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4572000" y="404640"/>
            <a:ext cx="2016000" cy="288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00720" y="2852640"/>
            <a:ext cx="20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le del Relo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637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z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 Enc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90760" y="-475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Danos hoy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3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11280" y="2852640"/>
            <a:ext cx="30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 Black"/>
              </a:rPr>
              <a:t>`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PONFER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Danos hoy el pan de cada dí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201600">
            <a:off x="4787640" y="321300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otel del Temple y Caballero Templ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63396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y </a:t>
            </a:r>
            <a:r>
              <a:rPr b="0" i="1" lang="en-US" sz="3200" spc="-1" strike="noStrike">
                <a:solidFill>
                  <a:srgbClr val="cc3300"/>
                </a:solidFill>
                <a:latin typeface="Arial Black"/>
              </a:rPr>
              <a:t>nuestras ofensas perdónanoslas</a:t>
            </a: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61657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Glorieta del Donante de Sang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960" y="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 Black"/>
              </a:rPr>
              <a:t>Que de tentaciones nos protej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76360" y="9079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MUSEO   DE         LA RA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81360" y="-32040"/>
            <a:ext cx="63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 Black"/>
              </a:rPr>
              <a:t>y </a:t>
            </a:r>
            <a:r>
              <a:rPr b="0" lang="en-US" sz="2400" spc="-1" strike="noStrike">
                <a:solidFill>
                  <a:srgbClr val="0066ff"/>
                </a:solidFill>
                <a:latin typeface="Arial Black"/>
              </a:rPr>
              <a:t>con tu gran fuerza líbranos del mal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Arial Black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093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IGLESIA DE SAN AND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3960" y="6165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ff"/>
                </a:solidFill>
                <a:latin typeface="Times New Roman"/>
              </a:rPr>
              <a:t>LA CARRAS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1720" y="-1080"/>
            <a:ext cx="32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Líbranos de ma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6201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 Black"/>
              </a:rPr>
              <a:t>que de tentaciones nos protejas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2920" y="515772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Black"/>
              </a:rPr>
              <a:t>Plaza de las Piment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8320" y="-1800"/>
            <a:ext cx="55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y con tu gran fuerza líbranos del ma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895200">
            <a:off x="4500720" y="3933720"/>
            <a:ext cx="32382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 m e n . . 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1557360"/>
            <a:ext cx="2336760" cy="420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708360" y="6021360"/>
            <a:ext cx="511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e tengais un feliz dí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693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203640" y="1557360"/>
            <a:ext cx="262080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360" y="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PADRE NUE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flipH="1" rot="21070200">
            <a:off x="468360" y="2855880"/>
            <a:ext cx="1511280" cy="51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 flipH="1" rot="21135600">
            <a:off x="7164360" y="4076280"/>
            <a:ext cx="1585800" cy="538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 flipH="1" rot="21196200">
            <a:off x="5002920" y="2924280"/>
            <a:ext cx="1511640" cy="51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08000" y="25956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Padre nuestro que estás en el cie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27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ISTA DE PONFERRADA DESDE EL MONTE PAJAR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252360" y="0"/>
            <a:ext cx="9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O santo sea tu nombre mi Dios celestial.</a:t>
            </a:r>
            <a:r>
              <a:rPr b="0" lang="en-US" sz="2400" spc="-1" strike="noStrike">
                <a:solidFill>
                  <a:srgbClr val="0066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71240" y="640080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</a:rPr>
              <a:t>IGLESIA DE SAN AND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Y que venga a nosotros tu re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09480" y="-17640"/>
            <a:ext cx="10287000" cy="6875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324000" y="0"/>
            <a:ext cx="96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y se haga por siempre tu gran voluntad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7560" y="981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Lucida Calligraphy"/>
              </a:rPr>
              <a:t>Basílica de la Enc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Lucida Calligraphy"/>
              </a:rPr>
              <a:t>Del Bier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80000" y="5516640"/>
            <a:ext cx="17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LORITA DEL 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9440" y="260280"/>
            <a:ext cx="291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Tu gran volunt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Black"/>
              </a:rPr>
              <a:t>Y venga a nosotros tu rein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600" y="616572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e7960"/>
                </a:solidFill>
                <a:latin typeface="Lucida Calligraphy"/>
              </a:rPr>
              <a:t>Castillo de los Templ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246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CASTILLO DE LOS TEMPL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-225360"/>
            <a:ext cx="678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y se haga por siempre tu gran voluntad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7:01:43Z</dcterms:created>
  <dc:creator>lencho</dc:creator>
  <dc:description/>
  <dc:language>en-US</dc:language>
  <cp:lastModifiedBy>lencho</cp:lastModifiedBy>
  <dcterms:modified xsi:type="dcterms:W3CDTF">2009-05-16T18:34:26Z</dcterms:modified>
  <cp:revision>3</cp:revision>
  <dc:subject/>
  <dc:title>Diapositiva 1</dc:title>
</cp:coreProperties>
</file>