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1.jpeg" ContentType="image/jpeg"/>
  <Override PartName="/ppt/media/camera.wav" ContentType="audio/x-wav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4.jpeg" ContentType="image/jpeg"/>
  <Override PartName="/ppt/media/image5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5DE-EB14-4442-B358-078D249F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6AA-65E9-47BE-9B23-CAB44745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68F-DE64-4EE8-957C-715FFB02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41E-9AFB-4E33-9F54-D3DD4BFA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B6B-848B-4AA6-B06A-AEF2864C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6CE-48C6-421D-9AB2-C0684BFD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816-8CF8-42F3-A04C-9E77A917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FDC-04B0-45B8-A979-4D9F3A23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92E-B06B-4173-A92A-CA142530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40A-4958-45B2-9166-286EA7B5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D8A-A995-4880-AD86-C3D3EEB6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481-0DF4-45F1-BAF6-320248B4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F116-D1FF-41BF-8B21-8C58085EBF8A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51"/>
          <p:cNvSpPr/>
          <p:nvPr/>
        </p:nvSpPr>
        <p:spPr>
          <a:xfrm>
            <a:off x="7772400" y="64008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Monotype Corsiva"/>
              </a:rPr>
              <a:t>09.10.02 by JML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Times New Roman"/>
              </a:rPr>
              <a:t>September 11, 2001</a:t>
            </a: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ffff"/>
                </a:solidFill>
                <a:latin typeface="Times New Roman"/>
              </a:rPr>
              <a:t>Never Forget!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15" descr="Diapositiv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027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Picture 1039" descr="Diapositiv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apositivo17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Diapositivo18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iapositivo19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Diapositivo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Diapositivo23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iapositivo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Diapositivo27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iapositivo28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Diapositiv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iapositivo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iapositivo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iapositivo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iapositivo3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iapositivo5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iapositivo7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iapositivo8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Diapositivo9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iapositivo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iapositivo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Diapositiv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iapositivo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iapositiv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iapositiv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Diapositivo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iapositivo16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iapositivo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Diapositivo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Diapositivo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iapositivo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iapositivo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Diapositiv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iapositivo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Diapositivo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iapositivo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iapositivo7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Diapositivo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iapositivo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iapositivo11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Diapositivo12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iapositivo13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Diapositivo14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iapositiv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Diapositivo1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Diapositivo16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Diapositivo17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Diapositivo18A"/>
          <p:cNvPicPr/>
          <p:nvPr/>
        </p:nvPicPr>
        <p:blipFill>
          <a:blip r:embed="rId1"/>
          <a:stretch/>
        </p:blipFill>
        <p:spPr>
          <a:xfrm>
            <a:off x="199080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Diapositivo1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Diapositivo23A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iapositivo24A"/>
          <p:cNvPicPr/>
          <p:nvPr/>
        </p:nvPicPr>
        <p:blipFill>
          <a:blip r:embed="rId1"/>
          <a:stretch/>
        </p:blipFill>
        <p:spPr>
          <a:xfrm>
            <a:off x="1133640" y="0"/>
            <a:ext cx="6876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iapositivo2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Please pass this on so WE</a:t>
            </a: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Never Forget the day that</a:t>
            </a: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Times New Roman"/>
              </a:rPr>
              <a:t>changed ALL of our lives!</a:t>
            </a:r>
            <a:br>
              <a:rPr sz="4000"/>
            </a:b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0" name="Picture 27" descr="Diapositivo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iapositivo6"/>
          <p:cNvPicPr/>
          <p:nvPr/>
        </p:nvPicPr>
        <p:blipFill>
          <a:blip r:embed="rId1"/>
          <a:stretch/>
        </p:blipFill>
        <p:spPr>
          <a:xfrm>
            <a:off x="165744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Picture 9" descr="Diapositivo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Picture 6" descr="Diapositivo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Frank A. Nicoletti</cp:lastModifiedBy>
  <dcterms:modified xsi:type="dcterms:W3CDTF">2008-01-27T13:32:58Z</dcterms:modified>
  <cp:revision>50</cp:revision>
  <dc:subject/>
  <dc:title>Mots d’enfants</dc:title>
</cp:coreProperties>
</file>