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21Alegria%20anar%20Jerusalemw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64C-8B59-4807-9E6D-C8512B98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F21-B503-4B22-A99F-EE215D63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297-7236-4E52-BF55-DFC565DF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0A4-E977-474F-ACE9-56565B7A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219-42AA-4677-8A40-3F54BED3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483-B6EA-4228-8818-AC64B1ED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8A4-6193-4545-A6EB-01B84094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732-5AA9-415A-B2E2-E5B8A34A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DD4-3F49-4394-872E-303E23BA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0F5-D561-4361-93F1-8FF2886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BAD-599D-4535-B007-A6F6AD3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274-61F8-4AFE-9C1C-F0C67428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D6C-D540-4B58-B787-BCB13CF438A0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21Alegria%20anar%20Jerusalem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c_15356web.jpg                                                   000275E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162920" y="1522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7f3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7f3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07f3ff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414440"/>
            <a:ext cx="8839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07f3ff"/>
                </a:solidFill>
                <a:latin typeface="Comic Sans MS"/>
              </a:rPr>
              <a:t>Domingo XV</a:t>
            </a:r>
            <a:br>
              <a:rPr sz="6000"/>
            </a:br>
            <a:r>
              <a:rPr b="1" i="1" lang="ca-ES" sz="6000" spc="-1" strike="noStrike">
                <a:solidFill>
                  <a:srgbClr val="07f3ff"/>
                </a:solidFill>
                <a:latin typeface="Comic Sans MS"/>
              </a:rPr>
              <a:t>Tiempo Ordinari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968560" y="4114800"/>
            <a:ext cx="33339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07f3ff"/>
                </a:solidFill>
                <a:latin typeface="Comic Sans MS"/>
              </a:rPr>
              <a:t>14 julio 2013</a:t>
            </a:r>
            <a:r>
              <a:rPr b="0" i="1" lang="ca-ES" sz="4800" spc="-1" strike="noStrike">
                <a:solidFill>
                  <a:srgbClr val="ff072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7f3ff"/>
                </a:solidFill>
                <a:latin typeface="Comic Sans MS"/>
              </a:rPr>
              <a:t>Música: Salmo para peregrinar a Jerusalén (Sinagoga Hebr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2" name="s121Alegria%20anar%20Jerusalem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468360" y="3933720"/>
            <a:ext cx="80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</a:rPr>
              <a:t>La alegría y la paz del corazón son unos valores incomparables para seguir a Cristo. El miedo y la inquietud pueden ensombrecer la confianza de la fe.                                   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Roger de Taiz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c2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bíblics\tex,map,sim\bibliatwg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781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0" y="549360"/>
            <a:ext cx="9144000" cy="4848840"/>
          </a:xfrm>
          <a:prstGeom prst="rect">
            <a:avLst/>
          </a:prstGeom>
          <a:solidFill>
            <a:srgbClr val="c7a0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t 30, 10-14 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i escuchas la voz del Señor tu Dios, observando sus mandamientos y sus leyes escritas en este libro de la ley, si te vuelves al Señor tu Dios con todo tu corazón y con toda tu alma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ues el precepto que yo te prescribo hoy no es superior a tus fuerzas ni está fuera de tu alcance. No está en el cielo para que digas: «¿Quién subirá al cielo a buscarlo para que nos lo dé a conocer y lo pongamos en práctica?» Tampoco está más allá de los mares para que digas: «¿Quién pasará al otro lado de los mares a buscarlo para que nos lo dé a conocer y lo pongamos en práctica?» Pues la palabra está muy cerca de ti, en tu boca y en tu corazón, para que la cum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1 CuadroTexto"/>
          <p:cNvSpPr/>
          <p:nvPr/>
        </p:nvSpPr>
        <p:spPr>
          <a:xfrm>
            <a:off x="1979640" y="5805360"/>
            <a:ext cx="70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bserva sus mandamientos y sus leyes escritas en este libro de la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13;153549web.jpg                                                  000275E3_x000c_Macintosh HD                   B9BE4824: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437760" y="0"/>
            <a:ext cx="387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88f0d"/>
                </a:solidFill>
                <a:latin typeface="Comic Sans MS"/>
              </a:rPr>
              <a:t>Salmo </a:t>
            </a:r>
            <a:r>
              <a:rPr b="1" i="1" lang="ca-ES" sz="6000" spc="-1" strike="noStrike">
                <a:solidFill>
                  <a:srgbClr val="088f0d"/>
                </a:solidFill>
                <a:latin typeface="Comic Sans MS"/>
              </a:rPr>
              <a:t>68</a:t>
            </a:r>
            <a:r>
              <a:rPr b="1" i="1" lang="ca-E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04920" y="121932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3200400"/>
            <a:ext cx="8077320" cy="1922760"/>
          </a:xfrm>
          <a:prstGeom prst="rect">
            <a:avLst/>
          </a:prstGeom>
          <a:solidFill>
            <a:srgbClr val="088f0d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Dirijo mi oración a ti, Señor, en el tiempo propicio;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 tu inmenso amor respóndeme,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álvame, Dios mío, pues eres fiel.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spóndeme, Señor, pues tu amor es bondadoso;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 tu inmensa ternura vuélvete hacia m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13;153511web.jpg                                                  000275E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28600" y="5335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bbe0e3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bbe0e3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95280" y="3429000"/>
            <a:ext cx="8282160" cy="1800360"/>
          </a:xfrm>
          <a:prstGeom prst="rect">
            <a:avLst/>
          </a:prstGeom>
          <a:solidFill>
            <a:srgbClr val="cc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6600"/>
                </a:solidFill>
                <a:latin typeface="Verdana"/>
                <a:ea typeface="Times New Roman"/>
              </a:rPr>
              <a:t>Pero a mí, humilde y afligido,</a:t>
            </a:r>
            <a:br>
              <a:rPr sz="2800"/>
            </a:br>
            <a:r>
              <a:rPr b="0" i="1" lang="es-ES" sz="2800" spc="-1" strike="noStrike">
                <a:solidFill>
                  <a:srgbClr val="336600"/>
                </a:solidFill>
                <a:latin typeface="Verdana"/>
                <a:ea typeface="Times New Roman"/>
              </a:rPr>
              <a:t>que tu salvación, Dios mío, me restablezca. </a:t>
            </a:r>
            <a:br>
              <a:rPr sz="2800"/>
            </a:br>
            <a:r>
              <a:rPr b="0" i="1" lang="es-ES" sz="2800" spc="-1" strike="noStrike">
                <a:solidFill>
                  <a:srgbClr val="336600"/>
                </a:solidFill>
                <a:latin typeface="Verdana"/>
                <a:ea typeface="Times New Roman"/>
              </a:rPr>
              <a:t>Yo alabaré el nombre de Dios con cantos, </a:t>
            </a:r>
            <a:br>
              <a:rPr sz="2800"/>
            </a:br>
            <a:r>
              <a:rPr b="0" i="1" lang="es-ES" sz="2800" spc="-1" strike="noStrike">
                <a:solidFill>
                  <a:srgbClr val="336600"/>
                </a:solidFill>
                <a:latin typeface="Verdana"/>
                <a:ea typeface="Times New Roman"/>
              </a:rPr>
              <a:t>lo ensalzaré con himnos de gratitud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s-ES" sz="2800" spc="-1" strike="noStrike">
                <a:solidFill>
                  <a:srgbClr val="088f0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13;153515web.jpg                                                  000275E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2860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33520" y="3505320"/>
            <a:ext cx="8286480" cy="18003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Vedlo vosotros, los humildes, y alegraos,</a:t>
            </a: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brad el ánimo, los que buscáis a D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orque el Señor escucha a los desvalidos,</a:t>
            </a:r>
            <a:br>
              <a:rPr sz="28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y no rechaza a sus cau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13;153541web.jpg                                                  000275E3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80880" y="533520"/>
            <a:ext cx="8763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80880" y="3733920"/>
            <a:ext cx="8512200" cy="1800360"/>
          </a:xfrm>
          <a:prstGeom prst="rect">
            <a:avLst/>
          </a:prstGeom>
          <a:solidFill>
            <a:srgbClr val="0ab51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f4a"/>
                </a:solidFill>
                <a:latin typeface="Verdana"/>
                <a:ea typeface="Times New Roman"/>
              </a:rPr>
              <a:t>Dios salvará a Sión, reconstruirá las ciudades </a:t>
            </a:r>
            <a:br>
              <a:rPr sz="2800"/>
            </a:br>
            <a:r>
              <a:rPr b="0" i="1" lang="es-ES" sz="2800" spc="-1" strike="noStrike">
                <a:solidFill>
                  <a:srgbClr val="ff9f4a"/>
                </a:solidFill>
                <a:latin typeface="Verdana"/>
                <a:ea typeface="Times New Roman"/>
              </a:rPr>
              <a:t>de Judá: habitarán en ellas y las poseerán; </a:t>
            </a:r>
            <a:br>
              <a:rPr sz="2800"/>
            </a:br>
            <a:r>
              <a:rPr b="0" i="1" lang="es-ES" sz="2800" spc="-1" strike="noStrike">
                <a:solidFill>
                  <a:srgbClr val="ff9f4a"/>
                </a:solidFill>
                <a:latin typeface="Verdana"/>
                <a:ea typeface="Times New Roman"/>
              </a:rPr>
              <a:t>las heredará el linaje de sus siervos,</a:t>
            </a:r>
            <a:br>
              <a:rPr sz="2800"/>
            </a:br>
            <a:r>
              <a:rPr b="0" i="1" lang="es-ES" sz="2800" spc="-1" strike="noStrike">
                <a:solidFill>
                  <a:srgbClr val="ff9f4a"/>
                </a:solidFill>
                <a:latin typeface="Verdana"/>
                <a:ea typeface="Times New Roman"/>
              </a:rPr>
              <a:t>los que aman su nombre vivirán en ellas.</a:t>
            </a:r>
            <a:r>
              <a:rPr b="0" i="1" lang="es-ES" sz="2800" spc="-1" strike="noStrike">
                <a:solidFill>
                  <a:srgbClr val="ff9f4a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st benet\Mis documentos\Mis imágenes\ceramica\excurCeramica\resized_esgVilaCtw.jpg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85840" y="285840"/>
            <a:ext cx="8558280" cy="5338440"/>
          </a:xfrm>
          <a:prstGeom prst="rect">
            <a:avLst/>
          </a:prstGeom>
          <a:solidFill>
            <a:srgbClr val="8a6c2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l 1,15-20 </a:t>
            </a: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isto es la imagen del Dios invisible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primogénito de toda criatur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n él fueron creadas todas las cosas, las del cielo y las de la tierra, las visibles y las invisibles: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ronos, dominaciones, principados, potestades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odo lo ha creado Dios por él y para él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isto existe antes que todas las cosa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todas tienen en él su consistenci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es también la cabeza del cuerpo, que es la Iglesi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Él es el principio de todo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primogénito de los que triunfan sobre la muerte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por eso tiene la primacía sobre todas las cosas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ios, en efecto, tuvo a bien hacer habitar en él la plenitud, y por medio de él reconciliar consigo todas las cosas, tanto las del cielo como las de la tier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rayendo la paz por medio de su sangre derramada en la cruz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6248520"/>
            <a:ext cx="5257800" cy="459720"/>
          </a:xfrm>
          <a:prstGeom prst="rect">
            <a:avLst/>
          </a:prstGeom>
          <a:solidFill>
            <a:srgbClr val="dbc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Él es la Cabeza y el Cuerpo de la iglesia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#13;153527web.jpg                                                  000275E3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826920" y="2630520"/>
            <a:ext cx="6232680" cy="1251720"/>
          </a:xfrm>
          <a:prstGeom prst="rect">
            <a:avLst/>
          </a:prstGeom>
          <a:solidFill>
            <a:srgbClr val="3366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0b02"/>
                </a:solidFill>
                <a:latin typeface="Comic Sans MS"/>
              </a:rPr>
              <a:t>Aleluya</a:t>
            </a:r>
            <a:r>
              <a:rPr b="1" i="1" lang="ca-ES" sz="2400" spc="-1" strike="noStrike">
                <a:solidFill>
                  <a:srgbClr val="ba0e05"/>
                </a:solidFill>
                <a:latin typeface="Comic Sans MS"/>
              </a:rPr>
              <a:t>  </a:t>
            </a:r>
            <a:r>
              <a:rPr b="1" i="1" lang="ca-ES" sz="2400" spc="-1" strike="noStrike">
                <a:solidFill>
                  <a:srgbClr val="ff0b02"/>
                </a:solidFill>
                <a:latin typeface="Comic Sans MS"/>
              </a:rPr>
              <a:t>Jn 6, 63b, 68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Tus palabras, Señ</a:t>
            </a:r>
            <a:r>
              <a:rPr b="1" i="1" lang="ca-ES" sz="2600" spc="-1" strike="noStrike">
                <a:solidFill>
                  <a:srgbClr val="ffffff"/>
                </a:solidFill>
                <a:latin typeface="Comic Sans MS"/>
              </a:rPr>
              <a:t>or, son espíritu y vida;</a:t>
            </a:r>
            <a:br>
              <a:rPr sz="2600"/>
            </a:br>
            <a:r>
              <a:rPr b="1" i="1" lang="ca-ES" sz="2600" spc="-1" strike="noStrike">
                <a:solidFill>
                  <a:srgbClr val="ffffff"/>
                </a:solidFill>
                <a:latin typeface="Comic Sans MS"/>
              </a:rPr>
              <a:t>tú tienes palabras de vida eter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e_009018(87).jpg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570040" y="6308640"/>
            <a:ext cx="6105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mic Sans MS"/>
              </a:rPr>
              <a:t>Afueras de Jericó,dirección a Betània y Jerusalén</a:t>
            </a: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2280" y="304920"/>
            <a:ext cx="8991720" cy="5544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8c0601"/>
                </a:solidFill>
                <a:latin typeface="Comic Sans MS"/>
              </a:rPr>
              <a:t>Lc 10 , 25-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levantó entonces un maestro de la ley y le dijo para tenderle una trampa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Maestro, ¿qué debo hacer para alcanzar la vida eterna?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contest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Qué está escrito en la ley? ¿Qué lees en ella?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estro de la ley respondi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Amarás al Señor tu Dios con todo tu corazón, con toda tu alma, con todas tus fuerzas y con toda tu mente; y a tu prójimo como a ti mismo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s respondido correctamente. Haz eso y vivirás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 él, queriendo justificarse, preguntó a Jesús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Y quién es mi prójimo?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respondi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hombre bajaba de Jerusalén a Jericó y cayó en manos de unos salteadores que, después de desnudarlo y golpearlo sin piedad, se alejaron dejándolo medio muerto. Un sacerdote bajaba casualmente por aquel camino y, al verlo, se desvió y pasó de largo. Igualmente un levita que pasó por aquel lugar, al verlo, se desvió y pasó de largo. Pero un samaritano que iba de viaje, al llegar junto a él y verlo, sintió lástima. Se acercó y le vendó las heridas después de habérselas curado con aceite y vino; luego lo montó en su cabalgadura, lo llevó al mesón y cuidó de él. Al día siguiente, sacando dos denarios, se los dió al mesonero, diciendo: «Cuida de él, y lo que gastes de más te lo pagaré a mi vuelta». ¿Quién de los tres te parece que fue prójimo del que cayó en manos de los salteador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tro contest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que tuvo compasión de él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Vete y haz tú lo mismo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4:42:17Z</dcterms:created>
  <dc:creator>JOAN RAMIREZ</dc:creator>
  <dc:description/>
  <dc:language>en-US</dc:language>
  <cp:lastModifiedBy>REGINA</cp:lastModifiedBy>
  <dcterms:modified xsi:type="dcterms:W3CDTF">2013-06-26T15:52:31Z</dcterms:modified>
  <cp:revision>16</cp:revision>
  <dc:subject/>
  <dc:title>Presentación de PowerPoint</dc:title>
</cp:coreProperties>
</file>