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121Alegria%20anar%20Jerusalemw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0C5-80D7-4D6A-96D7-1D85A11B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448-C2B7-4A0B-A508-6DAFF1B6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DDB-C43E-4FA9-8368-04B72E44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E44-4BD8-45E6-A464-BCA040BC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AC7-69FB-4100-8A86-9236E702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81B-71AD-49EF-9F32-6FC886B3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39A-D225-40F0-A72B-FB52A114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C80-81FE-4510-932C-A50C5DE0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6FA-DBD3-4491-8E07-4FF2177C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B07-337D-48B0-8C8F-85227297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2A0-8C28-4CC6-8069-9ED16D87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4E9-E7A7-49A9-9683-318E5381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0266-BF6E-427C-BA2C-684C4E74BEE6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121Alegria%20anar%20Jerusalem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_x000c_15356web.jpg                                                   000275E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162920" y="152280"/>
            <a:ext cx="186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7f3ff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7f3ff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07f3ff"/>
                </a:solidFill>
                <a:latin typeface="Comic Sans MS"/>
              </a:rPr>
              <a:t> 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414440"/>
            <a:ext cx="8839440" cy="192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000" spc="-1" strike="noStrike">
                <a:solidFill>
                  <a:srgbClr val="07f3ff"/>
                </a:solidFill>
                <a:latin typeface="Comic Sans MS"/>
              </a:rPr>
              <a:t>Domingo XV</a:t>
            </a:r>
            <a:br>
              <a:rPr sz="6000"/>
            </a:br>
            <a:r>
              <a:rPr b="1" i="1" lang="ca-ES" sz="6000" spc="-1" strike="noStrike">
                <a:solidFill>
                  <a:srgbClr val="07f3ff"/>
                </a:solidFill>
                <a:latin typeface="Comic Sans MS"/>
              </a:rPr>
              <a:t>Tiempo Ordinari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968560" y="4114800"/>
            <a:ext cx="333396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07f3ff"/>
                </a:solidFill>
                <a:latin typeface="Comic Sans MS"/>
              </a:rPr>
              <a:t>14 julio 2013</a:t>
            </a:r>
            <a:r>
              <a:rPr b="0" i="1" lang="ca-ES" sz="4800" spc="-1" strike="noStrike">
                <a:solidFill>
                  <a:srgbClr val="ff072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0" y="57150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7f3ff"/>
                </a:solidFill>
                <a:latin typeface="Comic Sans MS"/>
              </a:rPr>
              <a:t>Música: Salmo para peregrinar a Jerusalén (Sinagoga Hebr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  <p:sndAc>
      <p:stSnd>
        <p:snd r:embed="rId2" name="s121Alegria%20anar%20Jerusalem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468360" y="3933720"/>
            <a:ext cx="80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</a:rPr>
              <a:t>La alegría y la paz del corazón son unos valores incomparables para seguir a Cristo. El miedo y la inquietud pueden ensombrecer la confianza de la fe.                                   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Roger de Taiz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c2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st benet\Mis documentos\Mis imágenes\bíblics\tex,map,sim\bibliatwg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47815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0" y="549360"/>
            <a:ext cx="9144000" cy="4848840"/>
          </a:xfrm>
          <a:prstGeom prst="rect">
            <a:avLst/>
          </a:prstGeom>
          <a:solidFill>
            <a:srgbClr val="c7a04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t 30, 10-14 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i escuchas la voz del Señor tu Dios, observando sus mandamientos y sus leyes escritas en este libro de la ley, si te vuelves al Señor tu Dios con todo tu corazón y con toda tu alma.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ues el precepto que yo te prescribo hoy no es superior a tus fuerzas ni está fuera de tu alcance. No está en el cielo para que digas: «¿Quién subirá al cielo a buscarlo para que nos lo dé a conocer y lo pongamos en práctica?» Tampoco está más allá de los mares para que digas: «¿Quién pasará al otro lado de los mares a buscarlo para que nos lo dé a conocer y lo pongamos en práctica?» Pues la palabra está muy cerca de ti, en tu boca y en tu corazón, para que la cump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1 CuadroTexto"/>
          <p:cNvSpPr/>
          <p:nvPr/>
        </p:nvSpPr>
        <p:spPr>
          <a:xfrm>
            <a:off x="1979640" y="5805360"/>
            <a:ext cx="70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bserva sus mandamientos y sus leyes escritas en este libro de la 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#13;153549web.jpg                                                  000275E3_x000c_Macintosh HD                   B9BE4824: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437760" y="0"/>
            <a:ext cx="38793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088f0d"/>
                </a:solidFill>
                <a:latin typeface="Comic Sans MS"/>
              </a:rPr>
              <a:t>Salmo </a:t>
            </a:r>
            <a:r>
              <a:rPr b="1" i="1" lang="ca-ES" sz="6000" spc="-1" strike="noStrike">
                <a:solidFill>
                  <a:srgbClr val="088f0d"/>
                </a:solidFill>
                <a:latin typeface="Comic Sans MS"/>
              </a:rPr>
              <a:t>68</a:t>
            </a:r>
            <a:r>
              <a:rPr b="1" i="1" lang="ca-E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04920" y="1219320"/>
            <a:ext cx="8610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Vedlo vosotros, los humildes y alegraos,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recobrad el ánimo, los que buscáis a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3200400"/>
            <a:ext cx="8077320" cy="1922760"/>
          </a:xfrm>
          <a:prstGeom prst="rect">
            <a:avLst/>
          </a:prstGeom>
          <a:solidFill>
            <a:srgbClr val="088f0d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Dirijo mi oración a ti, Señor, en el tiempo propicio;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or tu inmenso amor respóndeme,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álvame, Dios mío, pues eres fiel.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espóndeme, Señor, pues tu amor es bondadoso;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or tu inmensa ternura vuélvete hacia m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&#13;153511web.jpg                                                  000275E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28600" y="5335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bbe0e3"/>
                </a:solidFill>
                <a:latin typeface="Comic Sans MS"/>
              </a:rPr>
              <a:t>Vedlo vosotros, los humildes y alegraos,</a:t>
            </a:r>
            <a:br>
              <a:rPr sz="3200"/>
            </a:br>
            <a:r>
              <a:rPr b="1" i="1" lang="ca-ES" sz="3200" spc="-1" strike="noStrike">
                <a:solidFill>
                  <a:srgbClr val="bbe0e3"/>
                </a:solidFill>
                <a:latin typeface="Comic Sans MS"/>
              </a:rPr>
              <a:t>recobrad el ánimo, los que buscáis a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95280" y="3429000"/>
            <a:ext cx="8282160" cy="1800360"/>
          </a:xfrm>
          <a:prstGeom prst="rect">
            <a:avLst/>
          </a:prstGeom>
          <a:solidFill>
            <a:srgbClr val="ccff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6600"/>
                </a:solidFill>
                <a:latin typeface="Verdana"/>
                <a:ea typeface="Times New Roman"/>
              </a:rPr>
              <a:t>Pero a mí, humilde y afligido,</a:t>
            </a:r>
            <a:br>
              <a:rPr sz="2800"/>
            </a:br>
            <a:r>
              <a:rPr b="0" i="1" lang="es-ES" sz="2800" spc="-1" strike="noStrike">
                <a:solidFill>
                  <a:srgbClr val="336600"/>
                </a:solidFill>
                <a:latin typeface="Verdana"/>
                <a:ea typeface="Times New Roman"/>
              </a:rPr>
              <a:t>que tu salvación, Dios mío, me restablezca. </a:t>
            </a:r>
            <a:br>
              <a:rPr sz="2800"/>
            </a:br>
            <a:r>
              <a:rPr b="0" i="1" lang="es-ES" sz="2800" spc="-1" strike="noStrike">
                <a:solidFill>
                  <a:srgbClr val="336600"/>
                </a:solidFill>
                <a:latin typeface="Verdana"/>
                <a:ea typeface="Times New Roman"/>
              </a:rPr>
              <a:t>Yo alabaré el nombre de Dios con cantos, </a:t>
            </a:r>
            <a:br>
              <a:rPr sz="2800"/>
            </a:br>
            <a:r>
              <a:rPr b="0" i="1" lang="es-ES" sz="2800" spc="-1" strike="noStrike">
                <a:solidFill>
                  <a:srgbClr val="336600"/>
                </a:solidFill>
                <a:latin typeface="Verdana"/>
                <a:ea typeface="Times New Roman"/>
              </a:rPr>
              <a:t>lo ensalzaré con himnos de gratitud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i="1" lang="es-ES" sz="2800" spc="-1" strike="noStrike">
                <a:solidFill>
                  <a:srgbClr val="088f0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&#13;153515web.jpg                                                  000275E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228600" y="60948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Vedlo vosotros, los humildes y alegraos,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recobrad el ánimo, los que buscáis a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33520" y="3505320"/>
            <a:ext cx="8286480" cy="18003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Vedlo vosotros, los humildes, y alegraos,</a:t>
            </a:r>
            <a:br>
              <a:rPr sz="28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recobrad el ánimo, los que buscáis a D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orque el Señor escucha a los desvalidos,</a:t>
            </a:r>
            <a:br>
              <a:rPr sz="28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y no rechaza a sus cau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&#13;153541web.jpg                                                  000275E3_x000c_Macintosh HD                   B9BE4824: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80880" y="533520"/>
            <a:ext cx="87631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Vedlo vosotros, los humildes y alegraos,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recobrad el ánimo, los que buscáis a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80880" y="3733920"/>
            <a:ext cx="8512200" cy="1800360"/>
          </a:xfrm>
          <a:prstGeom prst="rect">
            <a:avLst/>
          </a:prstGeom>
          <a:solidFill>
            <a:srgbClr val="0ab51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9f4a"/>
                </a:solidFill>
                <a:latin typeface="Verdana"/>
                <a:ea typeface="Times New Roman"/>
              </a:rPr>
              <a:t>Dios salvará a Sión, reconstruirá las ciudades </a:t>
            </a:r>
            <a:br>
              <a:rPr sz="2800"/>
            </a:br>
            <a:r>
              <a:rPr b="0" i="1" lang="es-ES" sz="2800" spc="-1" strike="noStrike">
                <a:solidFill>
                  <a:srgbClr val="ff9f4a"/>
                </a:solidFill>
                <a:latin typeface="Verdana"/>
                <a:ea typeface="Times New Roman"/>
              </a:rPr>
              <a:t>de Judá: habitarán en ellas y las poseerán; </a:t>
            </a:r>
            <a:br>
              <a:rPr sz="2800"/>
            </a:br>
            <a:r>
              <a:rPr b="0" i="1" lang="es-ES" sz="2800" spc="-1" strike="noStrike">
                <a:solidFill>
                  <a:srgbClr val="ff9f4a"/>
                </a:solidFill>
                <a:latin typeface="Verdana"/>
                <a:ea typeface="Times New Roman"/>
              </a:rPr>
              <a:t>las heredará el linaje de sus siervos,</a:t>
            </a:r>
            <a:br>
              <a:rPr sz="2800"/>
            </a:br>
            <a:r>
              <a:rPr b="0" i="1" lang="es-ES" sz="2800" spc="-1" strike="noStrike">
                <a:solidFill>
                  <a:srgbClr val="ff9f4a"/>
                </a:solidFill>
                <a:latin typeface="Verdana"/>
                <a:ea typeface="Times New Roman"/>
              </a:rPr>
              <a:t>los que aman su nombre vivirán en ellas.</a:t>
            </a:r>
            <a:r>
              <a:rPr b="0" i="1" lang="es-ES" sz="2800" spc="-1" strike="noStrike">
                <a:solidFill>
                  <a:srgbClr val="ff9f4a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Documents and Settings\st benet\Mis documentos\Mis imágenes\ceramica\excurCeramica\resized_esgVilaCtw.jpg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85840" y="285840"/>
            <a:ext cx="8558280" cy="5338440"/>
          </a:xfrm>
          <a:prstGeom prst="rect">
            <a:avLst/>
          </a:prstGeom>
          <a:solidFill>
            <a:srgbClr val="8a6c2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l 1,15-20 </a:t>
            </a:r>
            <a:br>
              <a:rPr sz="24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isto es la imagen del Dios invisible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l primogénito de toda criatura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n él fueron creadas todas las cosas, las del cielo y las de la tierra, las visibles y las invisibles: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ronos, dominaciones, principados, potestades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odo lo ha creado Dios por él y para él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isto existe antes que todas las cosa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y todas tienen en él su consistencia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l es también la cabeza del cuerpo, que es la Iglesia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Él es el principio de todo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l primogénito de los que triunfan sobre la muerte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y por eso tiene la primacía sobre todas las cosas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Dios, en efecto, tuvo a bien hacer habitar en él la plenitud, y por medio de él reconciliar consigo todas las cosas, tanto las del cielo como las de la tierr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rayendo la paz por medio de su sangre derramada en la cruz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6248520"/>
            <a:ext cx="5257800" cy="459720"/>
          </a:xfrm>
          <a:prstGeom prst="rect">
            <a:avLst/>
          </a:prstGeom>
          <a:solidFill>
            <a:srgbClr val="dbc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Él es la Cabeza y el Cuerpo de la iglesia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&#13;153527web.jpg                                                  000275E3_x000c_Macintosh HD                   B9BE4824: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826920" y="2630520"/>
            <a:ext cx="6232680" cy="1251720"/>
          </a:xfrm>
          <a:prstGeom prst="rect">
            <a:avLst/>
          </a:prstGeom>
          <a:solidFill>
            <a:srgbClr val="3366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ff0b02"/>
                </a:solidFill>
                <a:latin typeface="Comic Sans MS"/>
              </a:rPr>
              <a:t>Aleluya</a:t>
            </a:r>
            <a:r>
              <a:rPr b="1" i="1" lang="ca-ES" sz="2400" spc="-1" strike="noStrike">
                <a:solidFill>
                  <a:srgbClr val="ba0e05"/>
                </a:solidFill>
                <a:latin typeface="Comic Sans MS"/>
              </a:rPr>
              <a:t>  </a:t>
            </a:r>
            <a:r>
              <a:rPr b="1" i="1" lang="ca-ES" sz="2400" spc="-1" strike="noStrike">
                <a:solidFill>
                  <a:srgbClr val="ff0b02"/>
                </a:solidFill>
                <a:latin typeface="Comic Sans MS"/>
              </a:rPr>
              <a:t>Jn 6, 63b, 68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400" spc="-1" strike="noStrike">
                <a:solidFill>
                  <a:srgbClr val="ffffff"/>
                </a:solidFill>
                <a:latin typeface="Comic Sans MS"/>
              </a:rPr>
              <a:t>Tus palabras, Señ</a:t>
            </a:r>
            <a:r>
              <a:rPr b="1" i="1" lang="ca-ES" sz="2600" spc="-1" strike="noStrike">
                <a:solidFill>
                  <a:srgbClr val="ffffff"/>
                </a:solidFill>
                <a:latin typeface="Comic Sans MS"/>
              </a:rPr>
              <a:t>or, son espíritu y vida;</a:t>
            </a:r>
            <a:br>
              <a:rPr sz="2600"/>
            </a:br>
            <a:r>
              <a:rPr b="1" i="1" lang="ca-ES" sz="2600" spc="-1" strike="noStrike">
                <a:solidFill>
                  <a:srgbClr val="ffffff"/>
                </a:solidFill>
                <a:latin typeface="Comic Sans MS"/>
              </a:rPr>
              <a:t>tú tienes palabras de vida eter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_x000e_009018(87).jpg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570040" y="6308640"/>
            <a:ext cx="6105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mic Sans MS"/>
              </a:rPr>
              <a:t>Afueras de Jericó,dirección a Betània y Jerusalén</a:t>
            </a: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52280" y="304920"/>
            <a:ext cx="8991720" cy="5544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8c0601"/>
                </a:solidFill>
                <a:latin typeface="Comic Sans MS"/>
              </a:rPr>
              <a:t>Lc 10 , 25-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 levantó entonces un maestro de la ley y le dijo para tenderle una trampa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Maestro, ¿qué debo hacer para alcanzar la vida eterna?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contestó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¿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Qué está escrito en la ley? ¿Qué lees en ella?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aestro de la ley respondió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Amarás al Señor tu Dios con todo tu corazón, con toda tu alma, con todas tus fuerzas y con toda tu mente; y a tu prójimo como a ti mismo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dijo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as respondido correctamente. Haz eso y vivirás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o él, queriendo justificarse, preguntó a Jesús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¿Y quién es mi prójimo?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respondió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Un hombre bajaba de Jerusalén a Jericó y cayó en manos de unos salteadores que, después de desnudarlo y golpearlo sin piedad, se alejaron dejándolo medio muerto. Un sacerdote bajaba casualmente por aquel camino y, al verlo, se desvió y pasó de largo. Igualmente un levita que pasó por aquel lugar, al verlo, se desvió y pasó de largo. Pero un samaritano que iba de viaje, al llegar junto a él y verlo, sintió lástima. Se acercó y le vendó las heridas después de habérselas curado con aceite y vino; luego lo montó en su cabalgadura, lo llevó al mesón y cuidó de él. Al día siguiente, sacando dos denarios, se los dió al mesonero, diciendo: «Cuida de él, y lo que gastes de más te lo pagaré a mi vuelta». ¿Quién de los tres te parece que fue prójimo del que cayó en manos de los salteador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otro contestó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que tuvo compasión de él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dijo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Vete y haz tú lo mismo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14:42:17Z</dcterms:created>
  <dc:creator>JOAN RAMIREZ</dc:creator>
  <dc:description/>
  <dc:language>en-US</dc:language>
  <cp:lastModifiedBy>REGINA</cp:lastModifiedBy>
  <dcterms:modified xsi:type="dcterms:W3CDTF">2013-06-26T15:52:31Z</dcterms:modified>
  <cp:revision>16</cp:revision>
  <dc:subject/>
  <dc:title>Presentación de PowerPoint</dc:title>
</cp:coreProperties>
</file>