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BONAfullesmortesCharlesTrenet.wav" ContentType="audio/x-wav"/>
  <Override PartName="/ppt/media/image5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586-E56E-4AA9-8C9F-424287D2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B90-902B-4B15-B015-EF70A308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B72-5FE1-4278-A57B-5185230F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553-F757-4AD1-A426-BD5B9EF7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3AA-650F-4569-A6ED-68E9A6C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D35-1CD8-432A-A4C9-2EDA8229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038-42DE-49E5-99CC-6A0C380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0AA-23CD-4025-BBE7-04935E6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2BE-54FA-4F1A-8371-B42BF32F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149-76DD-4DC8-994D-F3851C6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16E-2558-42A0-A6C2-0DCEC36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30B-55B8-491E-9C45-72DCB1F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2EF-4B04-45C0-9677-290428665D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NAfullesmortesCharlesTren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43040" y="4325760"/>
            <a:ext cx="424800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elodía de “Hojas muertas” de Charles Trenet, evoca la VELA, al atardecer de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1028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3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7534440" y="616284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ONAfullesmortesCharlesTren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900000" y="1123920"/>
            <a:ext cx="7199280" cy="4359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tardar el novio, a todas les dio sueño y se durmieron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 Imagen" descr=""/>
          <p:cNvPicPr/>
          <p:nvPr/>
        </p:nvPicPr>
        <p:blipFill>
          <a:blip r:embed="rId1"/>
          <a:stretch/>
        </p:blipFill>
        <p:spPr>
          <a:xfrm>
            <a:off x="3419640" y="1712880"/>
            <a:ext cx="5521320" cy="4811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50920" y="1590840"/>
            <a:ext cx="288108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Dormimos, acosados por el confort...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 por la crisis,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o nuestro corazón vel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50920" y="189000"/>
            <a:ext cx="7993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s melodías de la vida nos acaparan, hasta adormece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684360" y="907920"/>
            <a:ext cx="777528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medianoche se oyó un clamor: "¡Aquí está el novio! Salid a recibirlo."  Entonces todas aquellas vírgenes se levantaron y arreglaron sus lámparas.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3600" y="252360"/>
            <a:ext cx="30560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 día Dios nos llamará por el nom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454720" y="528480"/>
            <a:ext cx="3519360" cy="58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oñamos que vivimos, y tememos el despertar... Pero, ¿cuándo es que dormimos y cuándo es que estamos despierto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 Imagen" descr=""/>
          <p:cNvPicPr/>
          <p:nvPr/>
        </p:nvPicPr>
        <p:blipFill>
          <a:blip r:embed="rId1"/>
          <a:stretch/>
        </p:blipFill>
        <p:spPr>
          <a:xfrm>
            <a:off x="314280" y="2624040"/>
            <a:ext cx="809640" cy="1047960"/>
          </a:xfrm>
          <a:prstGeom prst="rect">
            <a:avLst/>
          </a:prstGeom>
          <a:ln w="0">
            <a:noFill/>
          </a:ln>
        </p:spPr>
      </p:pic>
      <p:pic>
        <p:nvPicPr>
          <p:cNvPr id="86" name="7 Imagen" descr=""/>
          <p:cNvPicPr/>
          <p:nvPr/>
        </p:nvPicPr>
        <p:blipFill>
          <a:blip r:embed="rId2"/>
          <a:stretch/>
        </p:blipFill>
        <p:spPr>
          <a:xfrm>
            <a:off x="4394160" y="685800"/>
            <a:ext cx="1254240" cy="1622520"/>
          </a:xfrm>
          <a:prstGeom prst="rect">
            <a:avLst/>
          </a:prstGeom>
          <a:ln w="0">
            <a:noFill/>
          </a:ln>
        </p:spPr>
      </p:pic>
      <p:pic>
        <p:nvPicPr>
          <p:cNvPr id="87" name="8 Imagen" descr=""/>
          <p:cNvPicPr/>
          <p:nvPr/>
        </p:nvPicPr>
        <p:blipFill>
          <a:blip r:embed="rId3"/>
          <a:stretch/>
        </p:blipFill>
        <p:spPr>
          <a:xfrm>
            <a:off x="314280" y="4106880"/>
            <a:ext cx="130644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9 Imagen" descr=""/>
          <p:cNvPicPr/>
          <p:nvPr/>
        </p:nvPicPr>
        <p:blipFill>
          <a:blip r:embed="rId4"/>
          <a:stretch/>
        </p:blipFill>
        <p:spPr>
          <a:xfrm>
            <a:off x="3417840" y="1793880"/>
            <a:ext cx="1432080" cy="1852560"/>
          </a:xfrm>
          <a:prstGeom prst="rect">
            <a:avLst/>
          </a:prstGeom>
          <a:ln w="0">
            <a:noFill/>
          </a:ln>
        </p:spPr>
      </p:pic>
      <p:pic>
        <p:nvPicPr>
          <p:cNvPr id="89" name="10 Imagen" descr=""/>
          <p:cNvPicPr/>
          <p:nvPr/>
        </p:nvPicPr>
        <p:blipFill>
          <a:blip r:embed="rId5"/>
          <a:stretch/>
        </p:blipFill>
        <p:spPr>
          <a:xfrm>
            <a:off x="4272120" y="3376440"/>
            <a:ext cx="1027080" cy="1328760"/>
          </a:xfrm>
          <a:prstGeom prst="rect">
            <a:avLst/>
          </a:prstGeom>
          <a:ln w="0">
            <a:noFill/>
          </a:ln>
        </p:spPr>
      </p:pic>
      <p:pic>
        <p:nvPicPr>
          <p:cNvPr id="90" name="11 Imagen" descr=""/>
          <p:cNvPicPr/>
          <p:nvPr/>
        </p:nvPicPr>
        <p:blipFill>
          <a:blip r:embed="rId6"/>
          <a:stretch/>
        </p:blipFill>
        <p:spPr>
          <a:xfrm>
            <a:off x="1795320" y="5064120"/>
            <a:ext cx="1132200" cy="1463760"/>
          </a:xfrm>
          <a:prstGeom prst="rect">
            <a:avLst/>
          </a:prstGeom>
          <a:ln w="0">
            <a:noFill/>
          </a:ln>
        </p:spPr>
      </p:pic>
      <p:pic>
        <p:nvPicPr>
          <p:cNvPr id="91" name="12 Imagen" descr=""/>
          <p:cNvPicPr/>
          <p:nvPr/>
        </p:nvPicPr>
        <p:blipFill>
          <a:blip r:embed="rId7"/>
          <a:stretch/>
        </p:blipFill>
        <p:spPr>
          <a:xfrm>
            <a:off x="3782880" y="174600"/>
            <a:ext cx="80964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13 Imagen" descr=""/>
          <p:cNvPicPr/>
          <p:nvPr/>
        </p:nvPicPr>
        <p:blipFill>
          <a:blip r:embed="rId8"/>
          <a:stretch/>
        </p:blipFill>
        <p:spPr>
          <a:xfrm>
            <a:off x="1262160" y="3068640"/>
            <a:ext cx="114624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14 Imagen" descr=""/>
          <p:cNvPicPr/>
          <p:nvPr/>
        </p:nvPicPr>
        <p:blipFill>
          <a:blip r:embed="rId9"/>
          <a:stretch/>
        </p:blipFill>
        <p:spPr>
          <a:xfrm>
            <a:off x="3697200" y="4705200"/>
            <a:ext cx="1324080" cy="1716120"/>
          </a:xfrm>
          <a:prstGeom prst="rect">
            <a:avLst/>
          </a:prstGeom>
          <a:ln w="0">
            <a:noFill/>
          </a:ln>
        </p:spPr>
      </p:pic>
      <p:pic>
        <p:nvPicPr>
          <p:cNvPr id="94" name="15 Imagen" descr=""/>
          <p:cNvPicPr/>
          <p:nvPr/>
        </p:nvPicPr>
        <p:blipFill>
          <a:blip r:embed="rId10"/>
          <a:stretch/>
        </p:blipFill>
        <p:spPr>
          <a:xfrm>
            <a:off x="2432160" y="3625920"/>
            <a:ext cx="143496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7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7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1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403200" y="404640"/>
            <a:ext cx="8137440" cy="612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s insensatas dijeron a las prudentes: "Dadnos de vuestro aceite, porque nuestras lámparas se apagan."  Pero las prudentes respondieron, diciendo: "No, no sea que no haya suficiente para nosotras y para vosotras; id más bien a los que venden y comprad para vosotras." Y mientras ellas iban a comprar, vino el novio, y las que estaban preparadas entraron con él al banquete de bodas, y se cerró la puerta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 Imagen" descr=""/>
          <p:cNvPicPr/>
          <p:nvPr/>
        </p:nvPicPr>
        <p:blipFill>
          <a:blip r:embed="rId1"/>
          <a:stretch/>
        </p:blipFill>
        <p:spPr>
          <a:xfrm>
            <a:off x="108000" y="0"/>
            <a:ext cx="50943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790640" y="5589720"/>
            <a:ext cx="729288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La puerta se cerrará, las oportunidades habrán terminad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835520" y="2060640"/>
            <a:ext cx="430848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urante la noche, silenciosamente traspasaremos el din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7647120" y="1159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No c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 Imagen" descr=""/>
          <p:cNvPicPr/>
          <p:nvPr/>
        </p:nvPicPr>
        <p:blipFill>
          <a:blip r:embed="rId2"/>
          <a:stretch/>
        </p:blipFill>
        <p:spPr>
          <a:xfrm>
            <a:off x="11160" y="-182520"/>
            <a:ext cx="9144000" cy="7037280"/>
          </a:xfrm>
          <a:prstGeom prst="rect">
            <a:avLst/>
          </a:prstGeom>
          <a:ln w="0">
            <a:noFill/>
          </a:ln>
        </p:spPr>
      </p:pic>
      <p:grpSp>
        <p:nvGrpSpPr>
          <p:cNvPr id="102" name="4 Grupo"/>
          <p:cNvGrpSpPr/>
          <p:nvPr/>
        </p:nvGrpSpPr>
        <p:grpSpPr>
          <a:xfrm>
            <a:off x="-68400" y="-206280"/>
            <a:ext cx="9212400" cy="7064640"/>
            <a:chOff x="-68400" y="-206280"/>
            <a:chExt cx="9212400" cy="7064640"/>
          </a:xfrm>
        </p:grpSpPr>
        <p:sp>
          <p:nvSpPr>
            <p:cNvPr id="103" name="4 Rectángulo"/>
            <p:cNvSpPr/>
            <p:nvPr/>
          </p:nvSpPr>
          <p:spPr>
            <a:xfrm>
              <a:off x="-68400" y="-202680"/>
              <a:ext cx="9212400" cy="7061040"/>
            </a:xfrm>
            <a:prstGeom prst="rect">
              <a:avLst/>
            </a:prstGeom>
            <a:solidFill>
              <a:srgbClr val="d89430">
                <a:alpha val="8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3 Imagen" descr=""/>
            <p:cNvPicPr/>
            <p:nvPr/>
          </p:nvPicPr>
          <p:blipFill>
            <a:blip r:embed="rId3"/>
            <a:stretch/>
          </p:blipFill>
          <p:spPr>
            <a:xfrm>
              <a:off x="971280" y="-206280"/>
              <a:ext cx="7132680" cy="706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2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55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3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666720" y="476280"/>
            <a:ext cx="7920000" cy="6266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vinieron también las otras vírgenes, diciendo: "Señor, señor, ábrenos."  Pero respondiendo él, dijo: "En verdad os digo que no os conozco." Velad, pues, porque no sabéis ni el día ni la hora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 Imagen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50920" y="189000"/>
            <a:ext cx="75610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sabemos el día ni la h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19280" y="5950080"/>
            <a:ext cx="70563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Mientras, es tiempo de VEL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828720" y="476280"/>
            <a:ext cx="7559640" cy="55450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63640" y="1163520"/>
            <a:ext cx="5616720" cy="4130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eñor Jesú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haz que cuando despierte, te pueda contemplar hasta saciarme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(Salmo 16,1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4 Grupo"/>
          <p:cNvGrpSpPr/>
          <p:nvPr/>
        </p:nvGrpSpPr>
        <p:grpSpPr>
          <a:xfrm>
            <a:off x="341280" y="404640"/>
            <a:ext cx="8286840" cy="1800360"/>
            <a:chOff x="341280" y="404640"/>
            <a:chExt cx="8286840" cy="1800360"/>
          </a:xfrm>
        </p:grpSpPr>
        <p:sp>
          <p:nvSpPr>
            <p:cNvPr id="114" name="Rectangle 5"/>
            <p:cNvSpPr/>
            <p:nvPr/>
          </p:nvSpPr>
          <p:spPr>
            <a:xfrm>
              <a:off x="341280" y="404640"/>
              <a:ext cx="8286840" cy="180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"/>
            <p:cNvSpPr/>
            <p:nvPr/>
          </p:nvSpPr>
          <p:spPr>
            <a:xfrm>
              <a:off x="555480" y="64728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82920" y="1196640"/>
              <a:ext cx="827280" cy="5500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8000" y="189000"/>
            <a:ext cx="8928000" cy="22280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5ª Parte del evangelio de Mateo (c21-25):</a:t>
            </a:r>
            <a:br>
              <a:rPr sz="3500"/>
            </a:br>
            <a:r>
              <a:rPr b="1" lang="es-ES" sz="3500" spc="-1" strike="noStrike">
                <a:solidFill>
                  <a:srgbClr val="ffcc66"/>
                </a:solidFill>
                <a:latin typeface="Arial Unicode MS"/>
              </a:rPr>
              <a:t>“Tu Rey entra humildemente en Jerusalén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95400" y="1700280"/>
            <a:ext cx="8928000" cy="550152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ef642d"/>
                </a:solidFill>
                <a:latin typeface="Arial Unicode MS"/>
              </a:rPr>
              <a:t>       </a:t>
            </a:r>
            <a:r>
              <a:rPr b="1" lang="es-ES" sz="3000" spc="-1" strike="noStrike">
                <a:solidFill>
                  <a:srgbClr val="ef642d"/>
                </a:solidFill>
                <a:latin typeface="Arial Unicode MS"/>
              </a:rPr>
              <a:t>CONCLUSIÓN. Vista la oposición con el </a:t>
            </a:r>
            <a:br>
              <a:rPr sz="3000"/>
            </a:br>
            <a:r>
              <a:rPr b="1" lang="es-ES" sz="3000" spc="-1" strike="noStrike">
                <a:solidFill>
                  <a:srgbClr val="ef642d"/>
                </a:solidFill>
                <a:latin typeface="Arial Unicode MS"/>
              </a:rPr>
              <a:t>   judaísmo de su tiempo, Jesús se separa de él: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Sus discípulos debemos ser sencillos  </a:t>
            </a: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Siempre con el óleo del amor   </a:t>
            </a:r>
            <a:r>
              <a:rPr b="1" lang="es-ES" sz="3600" spc="-1" strike="noStrike">
                <a:solidFill>
                  <a:srgbClr val="ff0000"/>
                </a:solidFill>
                <a:latin typeface="Arial Unicode MS"/>
              </a:rPr>
              <a:t>(HOY)</a:t>
            </a:r>
            <a:br>
              <a:rPr sz="32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 Multiplicando los dones recibid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3)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                      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                   FIESTA  DE  CRISTO  RE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Lo que hacemos a los demás, lo hacemos a Di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4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635280" y="6291360"/>
            <a:ext cx="5184720" cy="8859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f642d"/>
                </a:solidFill>
                <a:latin typeface="Arial Unicode MS"/>
              </a:rPr>
              <a:t>Lugar  del Templo  en la no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648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 Imagen" descr=""/>
          <p:cNvPicPr/>
          <p:nvPr/>
        </p:nvPicPr>
        <p:blipFill>
          <a:blip r:embed="rId1"/>
          <a:stretch/>
        </p:blipFill>
        <p:spPr>
          <a:xfrm>
            <a:off x="-3094200" y="0"/>
            <a:ext cx="1498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33280" y="189000"/>
            <a:ext cx="5346720" cy="15562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Vista de conjunto del lugar del Templo, al atarde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16360" y="5932440"/>
            <a:ext cx="4032360" cy="6426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Unicode MS"/>
              </a:rPr>
              <a:t>Vela  noctur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98 -1.96532E-006 L 0.44392 0.01041 E">
                                      <p:cBhvr>
                                        <p:cTn id="41" dur="16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6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22280" y="549360"/>
            <a:ext cx="784080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t 25:1-13 El reino de los cielos será semejante a diez vírgenes que tomando sus lámparas, salieron a recibir al novio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1 Imagen" descr=""/>
          <p:cNvPicPr/>
          <p:nvPr/>
        </p:nvPicPr>
        <p:blipFill>
          <a:blip r:embed="rId2"/>
          <a:stretch/>
        </p:blipFill>
        <p:spPr>
          <a:xfrm>
            <a:off x="208080" y="549360"/>
            <a:ext cx="8584920" cy="48258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252360" y="1484280"/>
            <a:ext cx="934920" cy="40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059280" y="304920"/>
            <a:ext cx="57639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debemos llevar nuestra lám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79360" y="5214960"/>
            <a:ext cx="5156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adie nos puede suplir en esta ta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1197000"/>
            <a:ext cx="828036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cinco de ellas eran insensatas, y cinco pruden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65" name="1 Imagen" descr=""/>
          <p:cNvPicPr/>
          <p:nvPr/>
        </p:nvPicPr>
        <p:blipFill>
          <a:blip r:embed="rId2"/>
          <a:stretch/>
        </p:blipFill>
        <p:spPr>
          <a:xfrm>
            <a:off x="826920" y="474840"/>
            <a:ext cx="8298000" cy="5978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79280" y="162000"/>
            <a:ext cx="81378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lante del  horizonte de la vida, cada mirada es pers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65240" y="1562040"/>
            <a:ext cx="267804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los caminos, sensatos o no, son propios de 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42960" y="836640"/>
            <a:ext cx="7677000" cy="54262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las insensatas, al tomar sus lámparas, no tomaron aceite consigo, pero las prudentes tomaron aceite en frascos junto con sus lámpar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70" name="1 Imagen" descr=""/>
          <p:cNvPicPr/>
          <p:nvPr/>
        </p:nvPicPr>
        <p:blipFill>
          <a:blip r:embed="rId2"/>
          <a:stretch/>
        </p:blipFill>
        <p:spPr>
          <a:xfrm>
            <a:off x="2987640" y="55440"/>
            <a:ext cx="6077160" cy="680256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2606760" cy="2563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09520" y="5889600"/>
            <a:ext cx="7891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vida imprudente es efím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79280" y="3213000"/>
            <a:ext cx="338472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ceite 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rdor interior, que nunca mu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3 Rectángulo"/>
          <p:cNvSpPr/>
          <p:nvPr/>
        </p:nvSpPr>
        <p:spPr>
          <a:xfrm>
            <a:off x="2857680" y="61920"/>
            <a:ext cx="57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írgenes insensatas  </a:t>
            </a: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(Pedret s 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227160" y="442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rgen pru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10-29T15:33:13Z</dcterms:modified>
  <cp:revision>689</cp:revision>
  <dc:subject/>
  <dc:title>evangeli</dc:title>
</cp:coreProperties>
</file>