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C25-8874-401F-9A30-296990E6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E1E-2B3D-406E-82EF-2D7A7B1E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D72-8E37-4937-95AF-8C7734C1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C26-923B-4DBE-904D-BA802E59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DC4-6211-4CD1-BAE9-FDC484A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CD-6DF5-4B2B-B5D5-542CD2B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FEE-87E2-4850-BF35-790F616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872-FD26-4535-BF10-FA7CFC52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3CC-56CB-4BC6-8045-97BC389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7F7-EED5-4506-A80A-1092D56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EE2-E40B-4D8C-9098-0FD221B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432-5413-43FE-BD70-ACF278B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A08-3174-46E6-A706-B50C7284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Hola… no me digas nada, vos sos de los que le gustan las minas bien blancas y depilad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Qué decís?...              ahhh… que esté bien broncea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2916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32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7325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Cómo?...                       que no te gustan las rubias, son las castañas entonc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90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907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Te pareció grande?...           un poco más joven entonc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30600" y="0"/>
            <a:ext cx="46497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68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78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8316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3280" y="27432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Pero la pucha?...            ¿y las orientales?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japonesit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chin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Ahhh…                           ¿cómo no me di cuenta?, te gustan pelirrojas con esas carnes rosadit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609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6609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Tampoco?...           entonces sos de los que le gustan las negrit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5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5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19954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Qué las negritas tampoco?...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27874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Tahoma"/>
              </a:rPr>
              <a:t>Entonces amigo, lo tuyo pasa por aquí…</a:t>
            </a: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16280" y="-1440"/>
            <a:ext cx="4564080" cy="68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49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No te gustó?...           ahhh ya sé, tiene que ser rubia natural, sin teñi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4775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49680" y="0"/>
            <a:ext cx="47754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65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468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750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594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3:41:47Z</dcterms:created>
  <dc:creator>Dick</dc:creator>
  <dc:description/>
  <dc:language>en-US</dc:language>
  <cp:lastModifiedBy>Dick</cp:lastModifiedBy>
  <dcterms:modified xsi:type="dcterms:W3CDTF">2009-12-23T00:10:15Z</dcterms:modified>
  <cp:revision>4</cp:revision>
  <dc:subject/>
  <dc:title>Diapositiva 1</dc:title>
</cp:coreProperties>
</file>