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7F8-7084-4026-8F9B-078D33CF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3DB-6D23-431E-8501-7B0760C9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529-4110-4A46-99F5-5B079317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798-D5FD-4E1A-82CA-EEDD188B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584-E835-44BF-8C99-284A6E43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016-3B88-42D8-9A73-73580E5E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503-7E98-4B5C-9B22-D615CDB5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075F-4AD9-459B-9F85-2BDBA18F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A89C-DAE0-4244-9662-E679DB21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A55-E55C-4C89-B745-6E89145C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F7EF-430D-4F51-A00A-8B40C89E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E5F7-08A5-421A-92FF-616CBB8C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D8B8-3AB5-4F5D-A890-DA248609D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227664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Hola… no me digas nada, vos sos de los que le gustan las minas bien blancas y depilad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03280" y="25527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¿Qué decís?...              ahhh… que esté bien broncead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29160" y="0"/>
            <a:ext cx="47228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7322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19440" y="0"/>
            <a:ext cx="47325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03280" y="227664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¿Cómo?...                       que no te gustan las rubias, son las castañas entonc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59072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6083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9080" y="0"/>
            <a:ext cx="459108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910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5907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910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03280" y="25527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¿Te pareció grande?...           un poco más joven entonc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59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30600" y="0"/>
            <a:ext cx="46497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6884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11520" y="0"/>
            <a:ext cx="46688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782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83160" y="0"/>
            <a:ext cx="46688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03280" y="274320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¿Pero la pucha?...            ¿y las orientales?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03280" y="189000"/>
            <a:ext cx="626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¿japonesita?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403280" y="189000"/>
            <a:ext cx="626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¿china?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03280" y="227664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Ahhh…                           ¿cómo no me di cuenta?, te gustan pelirrojas con esas carnes rosadit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6092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19440" y="0"/>
            <a:ext cx="466092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59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11520" y="0"/>
            <a:ext cx="46688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03280" y="25527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¿Tampoco?...           entonces sos de los que le gustan las negrit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3536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4500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353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4500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339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4500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71640" y="199548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¿Qué las negritas tampoco?...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98560" y="278748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00"/>
                </a:solidFill>
                <a:latin typeface="Tahoma"/>
              </a:rPr>
              <a:t>Entonces amigo, lo tuyo pasa por aquí…</a:t>
            </a: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16280" y="-1440"/>
            <a:ext cx="4564080" cy="686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497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11520" y="0"/>
            <a:ext cx="46688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591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11520" y="0"/>
            <a:ext cx="466884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25527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¿No te gustó?...           ahhh ya sé, tiene que ser rubia natural, sin teñid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47754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49680" y="0"/>
            <a:ext cx="47754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7656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14680" y="0"/>
            <a:ext cx="47656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7750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59400" y="0"/>
            <a:ext cx="47656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23:41:47Z</dcterms:created>
  <dc:creator>Dick</dc:creator>
  <dc:description/>
  <dc:language>en-US</dc:language>
  <cp:lastModifiedBy>Dick</cp:lastModifiedBy>
  <dcterms:modified xsi:type="dcterms:W3CDTF">2009-12-23T00:10:15Z</dcterms:modified>
  <cp:revision>4</cp:revision>
  <dc:subject/>
  <dc:title>Diapositiva 1</dc:title>
</cp:coreProperties>
</file>