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398-0CE6-4D1C-8F49-663620E3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273-707E-4B59-BEF2-2D0A6378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30E-AC29-4F3B-AA73-CC056586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163-AEC1-4DB7-B10A-7A829DC8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188-CD74-42CB-BA16-A6F5F9C1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30D5-4677-4A87-8901-35E1217E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A65A-F804-4B43-9840-0E18922F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4491-98DF-4C03-A2E0-3C563CA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AF7-C4F3-44E0-93BF-F2C2752A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5264-DACB-48C8-A012-008AC40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B7D-DC04-424E-BF4E-6F62FC0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091-537D-4466-AEC5-3D89927B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2B26-B343-4866-A851-8A343CE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CD69-CCF2-4308-AC4D-D4A70AF1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0ADD-1173-4B5D-9F07-12653862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AE5B-4974-4323-B0B2-95054507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28AE-D874-4210-A575-F5D1EFD3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B60-EF89-4165-94DB-D245B16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29A-7E1D-4AAC-8987-A2D607DA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64C-3F69-4601-AB22-5D3EFB55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DC1-4F2D-41AE-8B81-515ACA25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5B4-3653-4480-BEE6-2C8B789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2CE-9AE6-459E-B592-16865D0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B8B-40FD-4DD8-A753-329B7115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6769-206F-47FE-B084-1A01F432ABC2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EAA-FC76-4D0B-893E-52249965D079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4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Tahoma"/>
              </a:rPr>
              <a:t>Cuatro amigos se encontraron en una fiesta, después de 30 años sin verse. </a:t>
            </a:r>
            <a:br>
              <a:rPr sz="4800"/>
            </a:br>
            <a:br>
              <a:rPr sz="4800"/>
            </a:br>
            <a:r>
              <a:rPr b="1" lang="es-ES" sz="4800" spc="-1" strike="noStrike">
                <a:solidFill>
                  <a:srgbClr val="ffffcc"/>
                </a:solidFill>
                <a:latin typeface="Tahoma"/>
              </a:rPr>
              <a:t>Después de tomarse algunas copas, uno de ellos va para el baño.     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os que se quedaron comienzan a hablar de sus hijos.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primero dice: - Mi hijo es mi orgullo. El comenzó a trabajar como ayudante en una empresa. Estudió, se licenció en Administración de Empresas, fue promovido a gerente de la empresa, y hoy  es el presidente.  Se hizo tan rico, tan rico, que para el cumpleaños de su mejor amigo,  le regaló un Mercedes Kompressor  Km 0.   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segundo dice: - Mierda, que bárbaro! Pero mi hijo también es un gran orgullo para mí. El comenzó trabajando como vendedor de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pasajes. Estudió para  piloto comercial. Fue a trabajar a una gran empresa aérea. Entró de socio en la empresa, y hoy es el dueño de la  mayor parte. Se hizo tan rico, que para el cumpleaños de su mejor amigo, le regaló un avión Boeing 737-700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tercero dice: - Carajo, Felicidades!! Pero mi hijo también es muy rico. Estudió  Ingeniería. Abrió una constructora y le fue tan bien que se hizo millonario. El también le regaló algo importante a su mejor amigo. Le construyó  una casa de 1000 m2 especialmente para él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os tres se felicitaban mutuamente.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amigo que había ido al baño llegó y preguntó: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¿Qué pasa que están tan felices?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Estamos hablando del orgullo que sentimos por nuestros hijos. Y el tuyo ¿qué hace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Mi hijo es GAY y se gana la vida bailando como STRIPPER en una discoteca de ambiente.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os amigos dijeron: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Qué cagada, que horror,! que decepción debes sentir, hermano!!!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Y él dijo: - Para nada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es mi hijo y lo quiero tal cual es. El es mi 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orgullo y tiene una suerte!!!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Su cumpleaños fue el otro día y recibió una casa de 1000 m2, un Boeing 737-700 y un Mercedes Kompressor  km 0 de regalo de sus tres novios !!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7:00:46Z</dcterms:created>
  <dc:creator>HORA</dc:creator>
  <dc:description/>
  <dc:language>en-US</dc:language>
  <cp:lastModifiedBy>Marlyn Perez </cp:lastModifiedBy>
  <dcterms:modified xsi:type="dcterms:W3CDTF">2006-10-10T14:05:12Z</dcterms:modified>
  <cp:revision>1</cp:revision>
  <dc:subject/>
  <dc:title>Cuatro amigos se encontraron en una fiesta, después de 30 años sin verse.   Después de tomarse algunas copas, uno de ellos va para el baño.     </dc:title>
</cp:coreProperties>
</file>