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C853-D242-4B63-A474-9C926ADFE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6FFB-8ED2-48FE-A2A0-FB5938E03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8447-BC35-4C75-9088-EDAD5A59E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8899-FCEE-4011-98C0-BA0233425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F63D3-7549-4D1A-BC3B-8853CC294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F69A5-3CA5-4DC7-A485-AECB007F4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F893D-6F6A-4F46-8D5B-CF1766794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C0DF5-3BCB-4AC1-B179-979D80A77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FD2E4-B5DF-4F16-B58D-009DE1AAA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9916B-10B1-4B8A-8335-E10DA949B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511AB-59BA-4022-BA3F-E395240C2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DDF3-459A-4BF1-A3AB-98E33E3A1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362C3-0176-41B5-B709-ACB9844E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CF802-C0F1-4628-8EB9-B6E5AE41D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F3AA3-55DD-4780-998B-08303FC9F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296B9-2FFE-46B0-91C2-0F3FB4FF0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2270A-C2B2-4593-B5DA-0C7FC207D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6B51-1319-49FA-8244-3116FE27F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F323-E9D4-430E-8FD5-09227BA1C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7966-E3B5-4C95-ACD6-724ADB968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9399-3410-4654-9FB2-201F09A7D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5A9A-7923-4D8F-B813-969FFD4B6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1780-D43F-4866-B93B-9E261C47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F328-341C-4712-86E6-C8575D05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DB7EF-3BC1-4CF0-BA59-2816EC6410FE}" type="slidenum">
              <a:rPr b="0" lang="es-E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6FAF5-74A9-4FE1-9099-AEB77611C944}" type="slidenum">
              <a:rPr b="0" lang="es-E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437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cc"/>
                </a:solidFill>
                <a:latin typeface="Tahoma"/>
              </a:rPr>
              <a:t>Cuatro amigos se encontraron en una fiesta, después de 30 años sin verse. </a:t>
            </a:r>
            <a:br>
              <a:rPr sz="4800"/>
            </a:br>
            <a:br>
              <a:rPr sz="4800"/>
            </a:br>
            <a:r>
              <a:rPr b="1" lang="es-ES" sz="4800" spc="-1" strike="noStrike">
                <a:solidFill>
                  <a:srgbClr val="ffffcc"/>
                </a:solidFill>
                <a:latin typeface="Tahoma"/>
              </a:rPr>
              <a:t>Después de tomarse algunas copas, uno de ellos va para el baño.     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42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cc"/>
                </a:solidFill>
                <a:latin typeface="Tahoma"/>
              </a:rPr>
              <a:t>Los que se quedaron comienzan a hablar de sus hijos. </a:t>
            </a:r>
            <a:br>
              <a:rPr sz="3200"/>
            </a:br>
            <a:r>
              <a:rPr b="1" lang="es-ES" sz="3200" spc="-1" strike="noStrike">
                <a:solidFill>
                  <a:srgbClr val="ffffcc"/>
                </a:solidFill>
                <a:latin typeface="Tahoma"/>
              </a:rPr>
              <a:t>El primero dice: - Mi hijo es mi orgullo. El comenzó a trabajar como ayudante en una empresa. Estudió, se licenció en Administración de Empresas, fue promovido a gerente de la empresa, y hoy  es el presidente.  Se hizo tan rico, tan rico, que para el cumpleaños de su mejor amigo,  le regaló un Mercedes Kompressor  Km 0.    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42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cc"/>
                </a:solidFill>
                <a:latin typeface="Tahoma"/>
              </a:rPr>
              <a:t>El segundo dice: - Mierda, que bárbaro! Pero mi hijo también es un gran orgullo para mí. El comenzó trabajando como vendedor de</a:t>
            </a:r>
            <a:br>
              <a:rPr sz="3200"/>
            </a:br>
            <a:r>
              <a:rPr b="1" lang="es-ES" sz="3200" spc="-1" strike="noStrike">
                <a:solidFill>
                  <a:srgbClr val="ffffcc"/>
                </a:solidFill>
                <a:latin typeface="Tahoma"/>
              </a:rPr>
              <a:t>pasajes. Estudió para  piloto comercial. Fue a trabajar a una gran empresa aérea. Entró de socio en la empresa, y hoy es el dueño de la  mayor parte. Se hizo tan rico, que para el cumpleaños de su mejor amigo, le regaló un avión Boeing 737-700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14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cc"/>
                </a:solidFill>
                <a:latin typeface="Tahoma"/>
              </a:rPr>
              <a:t>El tercero dice: - Carajo, Felicidades!! Pero mi hijo también es muy rico. Estudió  Ingeniería. Abrió una constructora y le fue tan bien que se hizo millonario. El también le regaló algo importante a su mejor amigo. Le construyó  una casa de 1000 m2 especialmente para él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42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cc"/>
                </a:solidFill>
                <a:latin typeface="Tahoma"/>
              </a:rPr>
              <a:t>Los tres se felicitaban mutuamente.</a:t>
            </a:r>
            <a:br>
              <a:rPr sz="3200"/>
            </a:br>
            <a:r>
              <a:rPr b="1" lang="es-ES" sz="3200" spc="-1" strike="noStrike">
                <a:solidFill>
                  <a:srgbClr val="ffffcc"/>
                </a:solidFill>
                <a:latin typeface="Tahoma"/>
              </a:rPr>
              <a:t>   </a:t>
            </a:r>
            <a:br>
              <a:rPr sz="3200"/>
            </a:br>
            <a:r>
              <a:rPr b="1" lang="es-ES" sz="3200" spc="-1" strike="noStrike">
                <a:solidFill>
                  <a:srgbClr val="ffffcc"/>
                </a:solidFill>
                <a:latin typeface="Tahoma"/>
              </a:rPr>
              <a:t>El amigo que había ido al baño llegó y preguntó:</a:t>
            </a:r>
            <a:br>
              <a:rPr sz="3200"/>
            </a:br>
            <a:r>
              <a:rPr b="1" lang="es-ES" sz="3200" spc="-1" strike="noStrike">
                <a:solidFill>
                  <a:srgbClr val="ffffcc"/>
                </a:solidFill>
                <a:latin typeface="Tahoma"/>
              </a:rPr>
              <a:t>  </a:t>
            </a:r>
            <a:br>
              <a:rPr sz="3200"/>
            </a:br>
            <a:r>
              <a:rPr b="1" lang="es-ES" sz="3200" spc="-1" strike="noStrike">
                <a:solidFill>
                  <a:srgbClr val="ffffcc"/>
                </a:solidFill>
                <a:latin typeface="Tahoma"/>
              </a:rPr>
              <a:t>- ¿Qué pasa que están tan felices?</a:t>
            </a:r>
            <a:br>
              <a:rPr sz="3200"/>
            </a:br>
            <a:br>
              <a:rPr sz="3200"/>
            </a:br>
            <a:r>
              <a:rPr b="1" lang="es-ES" sz="3200" spc="-1" strike="noStrike">
                <a:solidFill>
                  <a:srgbClr val="ffffcc"/>
                </a:solidFill>
                <a:latin typeface="Tahoma"/>
              </a:rPr>
              <a:t>- Estamos hablando del orgullo que sentimos por nuestros hijos. Y el tuyo ¿qué hace?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42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cc"/>
                </a:solidFill>
                <a:latin typeface="Tahoma"/>
              </a:rPr>
              <a:t>- Mi hijo es GAY y se gana la vida bailando como STRIPPER en una discoteca de ambiente.</a:t>
            </a:r>
            <a:br>
              <a:rPr sz="3200"/>
            </a:br>
            <a:r>
              <a:rPr b="1" lang="es-ES" sz="3200" spc="-1" strike="noStrike">
                <a:solidFill>
                  <a:srgbClr val="ffffcc"/>
                </a:solidFill>
                <a:latin typeface="Tahoma"/>
              </a:rPr>
              <a:t>   </a:t>
            </a:r>
            <a:br>
              <a:rPr sz="3200"/>
            </a:br>
            <a:r>
              <a:rPr b="1" lang="es-ES" sz="3200" spc="-1" strike="noStrike">
                <a:solidFill>
                  <a:srgbClr val="ffffcc"/>
                </a:solidFill>
                <a:latin typeface="Tahoma"/>
              </a:rPr>
              <a:t>Los amigos dijeron:</a:t>
            </a:r>
            <a:br>
              <a:rPr sz="3200"/>
            </a:br>
            <a:r>
              <a:rPr b="1" lang="es-ES" sz="3200" spc="-1" strike="noStrike">
                <a:solidFill>
                  <a:srgbClr val="ffffcc"/>
                </a:solidFill>
                <a:latin typeface="Tahoma"/>
              </a:rPr>
              <a:t>    </a:t>
            </a:r>
            <a:br>
              <a:rPr sz="3200"/>
            </a:br>
            <a:r>
              <a:rPr b="1" lang="es-ES" sz="3200" spc="-1" strike="noStrike">
                <a:solidFill>
                  <a:srgbClr val="ffffcc"/>
                </a:solidFill>
                <a:latin typeface="Tahoma"/>
              </a:rPr>
              <a:t>- Qué cagada, que horror,! que decepción debes sentir, hermano!!!</a:t>
            </a:r>
            <a:br>
              <a:rPr sz="3200"/>
            </a:br>
            <a:r>
              <a:rPr b="1" lang="es-ES" sz="3200" spc="-1" strike="noStrike">
                <a:solidFill>
                  <a:srgbClr val="ffffcc"/>
                </a:solidFill>
                <a:latin typeface="Tahoma"/>
              </a:rPr>
              <a:t>    </a:t>
            </a:r>
            <a:br>
              <a:rPr sz="3200"/>
            </a:br>
            <a:r>
              <a:rPr b="1" lang="es-ES" sz="3200" spc="-1" strike="noStrike">
                <a:solidFill>
                  <a:srgbClr val="ffffcc"/>
                </a:solidFill>
                <a:latin typeface="Tahoma"/>
              </a:rPr>
              <a:t>Y él dijo: - Para nada!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cc"/>
                </a:solidFill>
                <a:latin typeface="Tahoma"/>
              </a:rPr>
              <a:t>El es mi hijo y lo quiero tal cual es. El es mi </a:t>
            </a:r>
            <a:br>
              <a:rPr sz="3200"/>
            </a:br>
            <a:r>
              <a:rPr b="1" lang="es-ES" sz="3200" spc="-1" strike="noStrike">
                <a:solidFill>
                  <a:srgbClr val="ffffcc"/>
                </a:solidFill>
                <a:latin typeface="Tahoma"/>
              </a:rPr>
              <a:t>orgullo y tiene una suerte!!!</a:t>
            </a:r>
            <a:br>
              <a:rPr sz="3200"/>
            </a:br>
            <a:r>
              <a:rPr b="1" lang="es-ES" sz="3200" spc="-1" strike="noStrike">
                <a:solidFill>
                  <a:srgbClr val="ffffcc"/>
                </a:solidFill>
                <a:latin typeface="Tahoma"/>
              </a:rPr>
              <a:t>   </a:t>
            </a:r>
            <a:br>
              <a:rPr sz="3200"/>
            </a:br>
            <a:r>
              <a:rPr b="1" lang="es-ES" sz="3200" spc="-1" strike="noStrike">
                <a:solidFill>
                  <a:srgbClr val="ffffcc"/>
                </a:solidFill>
                <a:latin typeface="Tahoma"/>
              </a:rPr>
              <a:t>Su cumpleaños fue el otro día y recibió una casa de 1000 m2, un Boeing 737-700 y un Mercedes Kompressor  km 0 de regalo de sus tres novios !!!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5T17:00:46Z</dcterms:created>
  <dc:creator>HORA</dc:creator>
  <dc:description/>
  <dc:language>en-US</dc:language>
  <cp:lastModifiedBy>Marlyn Perez </cp:lastModifiedBy>
  <dcterms:modified xsi:type="dcterms:W3CDTF">2006-10-10T14:05:12Z</dcterms:modified>
  <cp:revision>1</cp:revision>
  <dc:subject/>
  <dc:title>Cuatro amigos se encontraron en una fiesta, después de 30 años sin verse.   Después de tomarse algunas copas, uno de ellos va para el baño.     </dc:title>
</cp:coreProperties>
</file>