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Valeriano%20L%C3%B3pez.wav" ContentType="audio/x-wav"/>
  <Override PartName="/ppt/media/image5.jpeg" ContentType="image/jpeg"/>
  <Override PartName="/ppt/media/Acuarela%20criolla.wav" ContentType="audio/x-wav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D9E-DA52-4FAE-A2E8-C98338FC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228-5094-47D6-9B80-8B45DE29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FBA-1643-4927-B5EA-4FD5D7A9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2B8-B91D-4269-A775-4B1EC0BC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DE63-87C8-43CA-995B-977D41F7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1D5B-CA25-4202-ACC7-2CB62A08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B71F-69A3-4035-964F-4605E319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E17F-0C4F-41C0-B8EE-437B8D5E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0D9C-2B24-4D1E-A9F0-544E4A63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2A9A-3D2C-4E9D-8763-FB9A51E0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4A19-6B69-415C-8376-D52D1A98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008-AC4F-469F-8163-1FEFD4C1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60D4-4E04-41E5-BA2A-D7734B6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F042-0B16-4E88-A6E6-68A5DA96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AAFC-4F48-4B11-8431-76E91BDE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5A14-B029-46FD-A216-B801B0A0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C8E5-8DA8-4097-941B-3261BE11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1A46-2955-416B-B350-625C93CA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15CD-D2BD-4756-AB46-CD0DFF71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39F3-727A-479C-9D41-7E67CC9B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5AFE-C7A4-4679-8942-ABD1F7EE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820A-4731-4AB5-A2A3-D23DD00B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278-98A9-4027-8AA1-1BA9587E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BB6F-2C75-481D-9F28-94D30B77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9CBE9-7A9F-40E1-B198-7658F1E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B9864-A257-4FF6-98CE-62F9B4D4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7D5A-6CE6-4CB4-979D-81E80917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1DE2-D660-4963-A57A-71F25642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B5EFB-3CC5-4818-AA8D-38157796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1384-7EBC-4E31-9A3D-8547E567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902AC-3473-448B-A599-815D4FFE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E990-180F-4A34-984C-285AC6EE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C96C-F906-4B05-B82C-78A8410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91D-C7C7-48F1-BFCA-E59D947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57F9-4DC8-4609-BA7C-3C54D900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6713-9AFF-442B-8122-D287B2B4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4D718-01F5-47D0-B3B7-26530DC5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96066-6841-4464-A4EC-EC7E3A8C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E23D-2529-4067-9333-B88C455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816C-AF63-4274-A808-901ADFC9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F903-B2DA-40CB-AC09-B1603DE5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1C2BE-E5FB-4D4F-A1B4-1A7EE054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FEE3-2547-4A63-8FA8-C14DF1EC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2BE13-F45F-449B-8658-B01D4647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EC9-DE90-41B4-B8C2-F1FE27E4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3AC28-217A-4063-B8B7-BD25B673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6858-1907-4FBF-8268-E754EC59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C181-C9A2-427A-BDA1-C597AB24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0A94-90A7-44FB-99FA-C2388169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BAE4-B2D8-40F9-B09B-8E33E03A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84201-4E96-4445-BD19-DA1E90B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F9DD0-B6DF-4248-B928-C695E57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C811-B449-4D9C-AE3F-CB20F719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1BD1-DB7C-4D27-B7E5-AA5A8D8E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4288-AF4F-4F3D-9D36-33CEABBF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7C9-64C4-4065-A85F-F414DB35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6F72-554C-4DBF-AF8A-6E676AC0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2B0-E6F1-4F7D-957C-4204AD7B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828-3BAD-4C39-817F-31B1CE0E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C74-4176-42E2-BE67-22B0C9E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1187-C149-46D2-A910-916254A7FA12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48F7-B2F2-49F9-97E3-0379F7BD3E59}" type="slidenum">
              <a:rPr b="0" lang="es-E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E836-0746-4DA4-9AC8-85ECC980695E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C2BA-DDF1-4CEE-9AD2-5F78F82594EF}" type="slidenum">
              <a:rPr b="0" lang="es-E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8A93-5E99-4090-A1A1-3694392F4D7E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pe/imgres?imgurl=http://www.arcotriunfal.com/recursos/imagenes/img_futbol/personajes/julio_gaviria_1.jpg&amp;imgrefurl=http://www.arcotriunfal.com/888/58_anos_de_futbol_profesional.html&amp;usg=__uVzSJ9__t7vaBJpKbTaCsHAhDFQ=&amp;h=160&amp;w=225&amp;sz=6&amp;hl=es&amp;start=4&amp;tbnid=sS2ZIAYv0J__vM:&amp;tbnh=77&amp;tbnw=108&amp;prev=/images%3Fq%3DValeriano%2BL%25C3%25B3pez%26hl%3Des%26gbv%3D2%26tbs%3Disch:1&amp;itbs=1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Acuarela%20criolla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pe/imgres?imgurl=http://www.perufootball.4t.com/valerianoLOPEZ.jpg&amp;imgrefurl=http://www.perufootball.4t.com/idolosdeseleccion.htm&amp;usg=__GAOEEci-sd3Q1Ko8Y6CDNuv4bU0=&amp;h=141&amp;w=150&amp;sz=22&amp;hl=es&amp;start=1&amp;tbnid=8BAdo0sKnBo7oM:&amp;tbnh=90&amp;tbnw=96&amp;prev=/images%3Fq%3DValeriano%2BL%25C3%25B3pez%26hl%3Des%26sa%3DN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Valeriano%20L&#243;pez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 CuadroTexto"/>
          <p:cNvSpPr/>
          <p:nvPr/>
        </p:nvSpPr>
        <p:spPr>
          <a:xfrm>
            <a:off x="2928960" y="361152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ra el año 1949. Colombia estaba convertido en el paí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onde llegaban los mejores jugadores de sud américa, contratados por sumas millonarias. Los mejores jugadores argentinos, Labruna, Rossi, Di Stéfano, entre muchos otros, se incorporaron a clubes colombi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n agosto de ese año, un peruano de 23 años debutó por el Deportivo Cali. Al poco tiempo, sería goleador e ídolo del fútbol colomb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http://t1.gstatic.com/images?q=tbn:sS2ZIAYv0J__vM:http://www.arcotriunfal.com/recursos/imagenes/img_futbol/personajes/julio_gaviria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571680"/>
            <a:ext cx="2138400" cy="1522080"/>
          </a:xfrm>
          <a:prstGeom prst="rect">
            <a:avLst/>
          </a:prstGeom>
          <a:ln w="0">
            <a:noFill/>
          </a:ln>
        </p:spPr>
      </p:pic>
      <p:sp>
        <p:nvSpPr>
          <p:cNvPr id="222" name="3 CuadroTexto"/>
          <p:cNvSpPr/>
          <p:nvPr/>
        </p:nvSpPr>
        <p:spPr>
          <a:xfrm>
            <a:off x="8277840" y="62308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13f9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CuadroTexto"/>
          <p:cNvSpPr/>
          <p:nvPr/>
        </p:nvSpPr>
        <p:spPr>
          <a:xfrm>
            <a:off x="2755440" y="2932200"/>
            <a:ext cx="673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ALERIANO LÓPEZ MENDIOLA (1926-1994) fue un delanter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nacido en Casma que jugó por el Sport Boy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Alianza 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año 1949 fue contratado por el Deportivo C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 Colombia. Jugó varios años en ese país, en 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–</a:t>
            </a: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ice la leyenda- prendía los cigarrillos con bil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 dó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Sus últimos años los vivió en Huacho (donde se inició)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enía constantemente al Callao para reunirse con 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amigo Guillermo Barbadill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http://t1.gstatic.com/images?q=tbn:8BAdo0sKnBo7oM:http://www.perufootball.4t.com/valerianoLOPEZ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1055520"/>
            <a:ext cx="1571760" cy="147348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8277840" y="62308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13f9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4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CuadroTexto"/>
          <p:cNvSpPr/>
          <p:nvPr/>
        </p:nvSpPr>
        <p:spPr>
          <a:xfrm>
            <a:off x="3517200" y="357120"/>
            <a:ext cx="34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tribuna está llena de 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cancha está llena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y el público espera veh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al negro más grande del Bo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 CuadroTexto"/>
          <p:cNvSpPr/>
          <p:nvPr/>
        </p:nvSpPr>
        <p:spPr>
          <a:xfrm>
            <a:off x="3466080" y="1785960"/>
            <a:ext cx="335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s glorias de tardes pas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 nuevo podremos go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por eso tu patria ad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por siempre te supo esper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 CuadroTexto"/>
          <p:cNvSpPr/>
          <p:nvPr/>
        </p:nvSpPr>
        <p:spPr>
          <a:xfrm>
            <a:off x="3411720" y="321480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aleria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arti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más ce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shoteando al g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Rectángulo"/>
          <p:cNvSpPr/>
          <p:nvPr/>
        </p:nvSpPr>
        <p:spPr>
          <a:xfrm>
            <a:off x="3500280" y="4724280"/>
            <a:ext cx="272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n la ofens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l team peru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s Valeri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hombre g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6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8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33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1 CuadroTexto"/>
          <p:cNvSpPr/>
          <p:nvPr/>
        </p:nvSpPr>
        <p:spPr>
          <a:xfrm>
            <a:off x="2876760" y="3611520"/>
            <a:ext cx="60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polka que están escuchando fue compuesta a 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regreso de Colombia y grabada por Los Morochu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con su primera voz, el gran Alejandro Cortés y 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todavía no lo integraba Oscar Avilé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Se aprecia la extraordinaria segunda voz de Augus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go Agui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http://t1.gstatic.com/images?q=tbn:sS2ZIAYv0J__vM:http://www.arcotriunfal.com/recursos/imagenes/img_futbol/personajes/julio_gaviria_1.jpg"/>
          <p:cNvPicPr/>
          <p:nvPr/>
        </p:nvPicPr>
        <p:blipFill>
          <a:blip r:embed="rId1"/>
          <a:stretch/>
        </p:blipFill>
        <p:spPr>
          <a:xfrm>
            <a:off x="6715080" y="714240"/>
            <a:ext cx="2138400" cy="1522440"/>
          </a:xfrm>
          <a:prstGeom prst="rect">
            <a:avLst/>
          </a:prstGeom>
          <a:ln w="0">
            <a:noFill/>
          </a:ln>
        </p:spPr>
      </p:pic>
      <p:sp>
        <p:nvSpPr>
          <p:cNvPr id="232" name="3 CuadroTexto"/>
          <p:cNvSpPr/>
          <p:nvPr/>
        </p:nvSpPr>
        <p:spPr>
          <a:xfrm>
            <a:off x="2857680" y="1500120"/>
            <a:ext cx="39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aleriano regresó al Perú en 1951 y jugó, nuevamente, por el Boys y, luego,  por Alianza Lima y Mariscal Cast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2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260"/>
                            </p:stCondLst>
                            <p:childTnLst>
                              <p:par>
                                <p:cTn id="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26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2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656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 CuadroTexto"/>
          <p:cNvSpPr/>
          <p:nvPr/>
        </p:nvSpPr>
        <p:spPr>
          <a:xfrm>
            <a:off x="3517200" y="357120"/>
            <a:ext cx="34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tribuna está llena de 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cancha está llena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y el público espera veh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al negro más grande del Bo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 CuadroTexto"/>
          <p:cNvSpPr/>
          <p:nvPr/>
        </p:nvSpPr>
        <p:spPr>
          <a:xfrm>
            <a:off x="3466080" y="1785960"/>
            <a:ext cx="335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s glorias de tardes pas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 nuevo podremos go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por eso tu patria ad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por siempre te supo esper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CuadroTexto"/>
          <p:cNvSpPr/>
          <p:nvPr/>
        </p:nvSpPr>
        <p:spPr>
          <a:xfrm>
            <a:off x="3411720" y="321480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aleria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arti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más ce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shoteando al g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Rectángulo"/>
          <p:cNvSpPr/>
          <p:nvPr/>
        </p:nvSpPr>
        <p:spPr>
          <a:xfrm>
            <a:off x="3500280" y="4657680"/>
            <a:ext cx="24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n la ofens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l team peru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s Valeri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hombre g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http://www.rankopedia.com/CandidatePix/63218.gif"/>
          <p:cNvPicPr/>
          <p:nvPr/>
        </p:nvPicPr>
        <p:blipFill>
          <a:blip r:embed="rId1"/>
          <a:stretch/>
        </p:blipFill>
        <p:spPr>
          <a:xfrm>
            <a:off x="214200" y="3117960"/>
            <a:ext cx="228132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9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11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21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36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46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4 Rectángulo"/>
          <p:cNvSpPr/>
          <p:nvPr/>
        </p:nvSpPr>
        <p:spPr>
          <a:xfrm rot="20111400">
            <a:off x="2805840" y="2172600"/>
            <a:ext cx="5456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1d7ec"/>
                </a:solidFill>
                <a:latin typeface="Trebuchet MS"/>
              </a:rPr>
              <a:t>31 DE OCTU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1d7ec"/>
                </a:solidFill>
                <a:latin typeface="Trebuchet MS"/>
              </a:rPr>
              <a:t>DÍA DE LA CANCIÓN CRIO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6 Rectángulo"/>
          <p:cNvSpPr/>
          <p:nvPr/>
        </p:nvSpPr>
        <p:spPr>
          <a:xfrm rot="16200000">
            <a:off x="8013240" y="5591880"/>
            <a:ext cx="17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1d7ec"/>
                </a:solidFill>
                <a:latin typeface="Trebuchet MS"/>
              </a:rPr>
              <a:t>Eduardo Marcos Ru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68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38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3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23:04:18Z</dcterms:created>
  <dc:creator>pc</dc:creator>
  <dc:description/>
  <dc:language>en-US</dc:language>
  <cp:lastModifiedBy>MARIPILI</cp:lastModifiedBy>
  <dcterms:modified xsi:type="dcterms:W3CDTF">2010-11-02T02:51:19Z</dcterms:modified>
  <cp:revision>31</cp:revision>
  <dc:subject/>
  <dc:title>Diapositiva 1</dc:title>
</cp:coreProperties>
</file>