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Valeriano%20L%C3%B3pez.wav" ContentType="audio/x-wav"/>
  <Override PartName="/ppt/media/image5.jpeg" ContentType="image/jpeg"/>
  <Override PartName="/ppt/media/Acuarela%20criolla.wav" ContentType="audio/x-wav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EC0-D28A-4488-9CEB-2D91B520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C9D-C0DB-44CC-A3BA-404E41AF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3AA-88F5-4E01-BBA5-ABDAEA68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DD7-6B78-4195-B895-645C2328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CDCB-CF37-42C8-A84A-D483E0C4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525B-FA4B-47ED-A565-072DDC0A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FAE5-AEB2-43F0-B662-63B9B503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35DA-5F4A-4A76-8CBA-AA976D2E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428D-3A3B-4641-8374-21C329D4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B6D1-3DA1-47F1-B662-41782E46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8D26-5BD4-4A4F-8280-EACCAA60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BFC-7976-4FC3-8419-76F599F4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C9AD-9697-4640-AC26-0269C43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2077-5CD2-40D9-B64A-4D61B323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D747-7B55-4BB5-9F68-CF15278C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FC79-FADA-4EC9-ADFC-ADAA268E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5E38-4841-451F-A53D-4C7CA767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D573-988C-4F0C-88EB-AE7DCF1D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BD76-6365-4347-A4AF-47F41A25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76E5-AD7B-4726-B2C8-424C94E6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C3EE-A023-4C7D-AA81-B8FDCB5D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2BB2-0A86-428C-BD98-8699AB19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81B-24E3-40A5-A8F1-DF1E178F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5FEC-62C0-423D-A006-45721207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2A49-6D51-484D-B919-9D857AB1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AB61-2FBE-4B95-9012-B07ECD99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9E9F5-86CC-480D-9CF4-1DEC7DA3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95411-DB13-40B5-892F-A3C0E624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0929-BB9F-457D-8530-FAAACC78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80EE-8AD2-4C36-BE3F-6FE468D9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A181D-1491-451A-A56D-FFBDDE17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FF10-FE32-456E-94C2-3F23A3D3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8217-2B6C-446E-A90E-6F1C3885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996-AB2B-43DF-87D9-E8165CD5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17E65-85BA-4441-9D9B-E88B0D06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50041-F5CE-4944-A784-86550363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5C50-F9FE-4F45-8D48-8815E391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D3D7-F3DF-4D49-B6DF-3E4DB582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2FE0-805D-495B-8725-A7B13B58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38086-EE3F-421E-9FB7-0C8F28D7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F676A-6ACB-455C-AFCC-5431461F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E1BF-C33A-4EA9-A578-57F10968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452C-2E64-4BA2-A59C-6D749DCE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39E4B-19D5-41A5-97A4-2166CD18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B0B-A810-49DA-8FA2-4F9837AC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E0D6F-7BF6-42D7-9487-86B101C4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C383D-43C1-4BD8-8E84-7C650510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833BC-C9BC-4444-BEEF-840CD8A6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C3798-103C-473E-A75F-EFA0BBC7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BE344-F9C6-455B-B11C-A5E656D0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CB891-7A86-4EDB-A36C-7D88FDF4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670FE-59B2-4D4A-BA86-7167052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0586-5289-4049-B31B-BB2BE229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0F733-EFF8-4737-8778-C8DD57AC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6783-AAB1-45C3-AA52-E4B62ACD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DF9-2CF4-4576-A752-26D5620C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52D2C-21DE-4F8A-BF10-D4E28D4B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6EF-204B-41FA-A077-6F0BD6B5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5EE-7409-49D1-B053-E28D2D05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507-98C7-4BF5-9233-81540A2C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DE1E-4F95-4409-9064-41CF26523B7B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2190-F573-46E0-9209-1F6F499390EA}" type="slidenum">
              <a:rPr b="0" lang="es-E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F85C-2A44-4C03-B680-A7822D0E457A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2AE7-CA34-4748-85A4-E817E6F97B99}" type="slidenum">
              <a:rPr b="0" lang="es-E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8DF5-5069-49FC-94F8-CA411F913782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pe/imgres?imgurl=http://www.arcotriunfal.com/recursos/imagenes/img_futbol/personajes/julio_gaviria_1.jpg&amp;imgrefurl=http://www.arcotriunfal.com/888/58_anos_de_futbol_profesional.html&amp;usg=__uVzSJ9__t7vaBJpKbTaCsHAhDFQ=&amp;h=160&amp;w=225&amp;sz=6&amp;hl=es&amp;start=4&amp;tbnid=sS2ZIAYv0J__vM:&amp;tbnh=77&amp;tbnw=108&amp;prev=/images%3Fq%3DValeriano%2BL%25C3%25B3pez%26hl%3Des%26gbv%3D2%26tbs%3Disch:1&amp;itbs=1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Acuarela%20criolla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pe/imgres?imgurl=http://www.perufootball.4t.com/valerianoLOPEZ.jpg&amp;imgrefurl=http://www.perufootball.4t.com/idolosdeseleccion.htm&amp;usg=__GAOEEci-sd3Q1Ko8Y6CDNuv4bU0=&amp;h=141&amp;w=150&amp;sz=22&amp;hl=es&amp;start=1&amp;tbnid=8BAdo0sKnBo7oM:&amp;tbnh=90&amp;tbnw=96&amp;prev=/images%3Fq%3DValeriano%2BL%25C3%25B3pez%26hl%3Des%26sa%3DN%26gbv%3D2%26tbs%3Disch:1&amp;itbs=1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Valeriano%20L&#243;pez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 CuadroTexto"/>
          <p:cNvSpPr/>
          <p:nvPr/>
        </p:nvSpPr>
        <p:spPr>
          <a:xfrm>
            <a:off x="2928960" y="361152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ra el año 1949. Colombia estaba convertido en el paí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onde llegaban los mejores jugadores de sud américa, contratados por sumas millonarias. Los mejores jugadores argentinos, Labruna, Rossi, Di Stéfano, entre muchos otros, se incorporaron a clubes colombi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n agosto de ese año, un peruano de 23 años debutó por el Deportivo Cali. Al poco tiempo, sería goleador e ídolo del fútbol colombi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http://t1.gstatic.com/images?q=tbn:sS2ZIAYv0J__vM:http://www.arcotriunfal.com/recursos/imagenes/img_futbol/personajes/julio_gaviria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571680"/>
            <a:ext cx="2138400" cy="1522080"/>
          </a:xfrm>
          <a:prstGeom prst="rect">
            <a:avLst/>
          </a:prstGeom>
          <a:ln w="0">
            <a:noFill/>
          </a:ln>
        </p:spPr>
      </p:pic>
      <p:sp>
        <p:nvSpPr>
          <p:cNvPr id="222" name="3 CuadroTexto"/>
          <p:cNvSpPr/>
          <p:nvPr/>
        </p:nvSpPr>
        <p:spPr>
          <a:xfrm>
            <a:off x="8277840" y="62308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13f9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CuadroTexto"/>
          <p:cNvSpPr/>
          <p:nvPr/>
        </p:nvSpPr>
        <p:spPr>
          <a:xfrm>
            <a:off x="2755440" y="2932200"/>
            <a:ext cx="673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VALERIANO LÓPEZ MENDIOLA (1926-1994) fue un delanter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nacido en Casma que jugó por el Sport Boy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Alianza L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año 1949 fue contratado por el Deportivo C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 Colombia. Jugó varios años en ese país, en do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–</a:t>
            </a: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ice la leyenda- prendía los cigarrillos con bill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 dó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Sus últimos años los vivió en Huacho (donde se inició)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venía constantemente al Callao para reunirse con 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amigo Guillermo Barbadill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http://t1.gstatic.com/images?q=tbn:8BAdo0sKnBo7oM:http://www.perufootball.4t.com/valerianoLOPEZ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1055520"/>
            <a:ext cx="1571760" cy="147348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8277840" y="62308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13f9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4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CuadroTexto"/>
          <p:cNvSpPr/>
          <p:nvPr/>
        </p:nvSpPr>
        <p:spPr>
          <a:xfrm>
            <a:off x="3517200" y="357120"/>
            <a:ext cx="345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 tribuna está llena de 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 cancha está llena d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y el público espera veh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al negro más grande del Bo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 CuadroTexto"/>
          <p:cNvSpPr/>
          <p:nvPr/>
        </p:nvSpPr>
        <p:spPr>
          <a:xfrm>
            <a:off x="3466080" y="1785960"/>
            <a:ext cx="335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s glorias de tardes pas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 nuevo podremos go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por eso tu patria ad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por siempre te supo esper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3 CuadroTexto"/>
          <p:cNvSpPr/>
          <p:nvPr/>
        </p:nvSpPr>
        <p:spPr>
          <a:xfrm>
            <a:off x="3411720" y="321480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Valeria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artil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más ce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shoteando al g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 Rectángulo"/>
          <p:cNvSpPr/>
          <p:nvPr/>
        </p:nvSpPr>
        <p:spPr>
          <a:xfrm>
            <a:off x="3500280" y="4724280"/>
            <a:ext cx="272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n la ofens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l team peru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s Valeri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hombre g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6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8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33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1 CuadroTexto"/>
          <p:cNvSpPr/>
          <p:nvPr/>
        </p:nvSpPr>
        <p:spPr>
          <a:xfrm>
            <a:off x="2876760" y="3611520"/>
            <a:ext cx="60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 polka que están escuchando fue compuesta a 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regreso de Colombia y grabada por Los Morochu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con su primera voz, el gran Alejandro Cortés y 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todavía no lo integraba Oscar Avilé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Se aprecia la extraordinaria segunda voz de Augus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go Aguir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http://t1.gstatic.com/images?q=tbn:sS2ZIAYv0J__vM:http://www.arcotriunfal.com/recursos/imagenes/img_futbol/personajes/julio_gaviria_1.jpg"/>
          <p:cNvPicPr/>
          <p:nvPr/>
        </p:nvPicPr>
        <p:blipFill>
          <a:blip r:embed="rId1"/>
          <a:stretch/>
        </p:blipFill>
        <p:spPr>
          <a:xfrm>
            <a:off x="6715080" y="714240"/>
            <a:ext cx="2138400" cy="1522440"/>
          </a:xfrm>
          <a:prstGeom prst="rect">
            <a:avLst/>
          </a:prstGeom>
          <a:ln w="0">
            <a:noFill/>
          </a:ln>
        </p:spPr>
      </p:pic>
      <p:sp>
        <p:nvSpPr>
          <p:cNvPr id="232" name="3 CuadroTexto"/>
          <p:cNvSpPr/>
          <p:nvPr/>
        </p:nvSpPr>
        <p:spPr>
          <a:xfrm>
            <a:off x="2857680" y="1500120"/>
            <a:ext cx="39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Valeriano regresó al Perú en 1951 y jugó, nuevamente, por el Boys y, luego,  por Alianza Lima y Mariscal Cast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2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260"/>
                            </p:stCondLst>
                            <p:childTnLst>
                              <p:par>
                                <p:cTn id="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26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2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656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 CuadroTexto"/>
          <p:cNvSpPr/>
          <p:nvPr/>
        </p:nvSpPr>
        <p:spPr>
          <a:xfrm>
            <a:off x="3517200" y="357120"/>
            <a:ext cx="345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 tribuna está llena de 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 cancha está llena d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y el público espera veh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al negro más grande del Bo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 CuadroTexto"/>
          <p:cNvSpPr/>
          <p:nvPr/>
        </p:nvSpPr>
        <p:spPr>
          <a:xfrm>
            <a:off x="3466080" y="1785960"/>
            <a:ext cx="335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Las glorias de tardes pas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 nuevo podremos go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por eso tu patria ado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por siempre te supo esper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CuadroTexto"/>
          <p:cNvSpPr/>
          <p:nvPr/>
        </p:nvSpPr>
        <p:spPr>
          <a:xfrm>
            <a:off x="3411720" y="321480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Valeria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artil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más ce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shoteando al g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4 Rectángulo"/>
          <p:cNvSpPr/>
          <p:nvPr/>
        </p:nvSpPr>
        <p:spPr>
          <a:xfrm>
            <a:off x="3500280" y="4657680"/>
            <a:ext cx="244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n la ofens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del team peru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s Valeri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1d7ec"/>
                </a:solidFill>
                <a:latin typeface="Trebuchet MS"/>
              </a:rPr>
              <a:t>el hombre g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http://www.rankopedia.com/CandidatePix/63218.gif"/>
          <p:cNvPicPr/>
          <p:nvPr/>
        </p:nvPicPr>
        <p:blipFill>
          <a:blip r:embed="rId1"/>
          <a:stretch/>
        </p:blipFill>
        <p:spPr>
          <a:xfrm>
            <a:off x="214200" y="3117960"/>
            <a:ext cx="2281320" cy="31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9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6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11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21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36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46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4 Rectángulo"/>
          <p:cNvSpPr/>
          <p:nvPr/>
        </p:nvSpPr>
        <p:spPr>
          <a:xfrm rot="20111400">
            <a:off x="2805840" y="2172600"/>
            <a:ext cx="5456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1d7ec"/>
                </a:solidFill>
                <a:latin typeface="Trebuchet MS"/>
              </a:rPr>
              <a:t>31 DE OCTU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1d7ec"/>
                </a:solidFill>
                <a:latin typeface="Trebuchet MS"/>
              </a:rPr>
              <a:t>DÍA DE LA CANCIÓN CRIO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6 Rectángulo"/>
          <p:cNvSpPr/>
          <p:nvPr/>
        </p:nvSpPr>
        <p:spPr>
          <a:xfrm rot="16200000">
            <a:off x="8013240" y="5591880"/>
            <a:ext cx="171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1d7ec"/>
                </a:solidFill>
                <a:latin typeface="Trebuchet MS"/>
              </a:rPr>
              <a:t>Eduardo Marcos Ru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68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38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3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23:04:18Z</dcterms:created>
  <dc:creator>pc</dc:creator>
  <dc:description/>
  <dc:language>en-US</dc:language>
  <cp:lastModifiedBy>MARIPILI</cp:lastModifiedBy>
  <dcterms:modified xsi:type="dcterms:W3CDTF">2010-11-02T02:51:19Z</dcterms:modified>
  <cp:revision>31</cp:revision>
  <dc:subject/>
  <dc:title>Diapositiva 1</dc:title>
</cp:coreProperties>
</file>