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Stellafulget07%20Epifaniaw.wav" ContentType="audio/x-wav"/>
  <Override PartName="/ppt/media/image5.jpeg" ContentType="image/jpeg"/>
  <Override PartName="/ppt/media/image10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CAA5-19A3-4BAE-9CF3-F0D332437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C816-ED53-4899-A85D-D5251B617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2638-A658-4483-8350-AEB3A7953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2AC6-4098-4C47-ABCD-8389061CC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5F62-A81B-4239-8CBF-FFA567B72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E8F5-85FC-432E-B233-DBB6C0F03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54CB-124D-4425-A93A-E881C3261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3C18-E6B9-4C5B-B8BF-13AB922AB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9502-22A7-497A-854F-20C6A46F9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5CDE-20A4-45A4-8055-ED324B1C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EEC2-2479-4424-966A-F1BC02E1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D58D-90CC-414B-AA04-B3F1B4F0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BFFFD-0776-47F2-8287-4B1B371BE4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audio" Target="../media/Stellafulget07%20Epifaniaw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enedictinescat.com/Montserrat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78200" y="0"/>
            <a:ext cx="5041800" cy="5516640"/>
          </a:xfrm>
          <a:prstGeom prst="rect">
            <a:avLst/>
          </a:prstGeom>
          <a:solidFill>
            <a:srgbClr val="2405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6445080"/>
            <a:ext cx="5348160" cy="398880"/>
            <a:chOff x="0" y="6445080"/>
            <a:chExt cx="5348160" cy="398880"/>
          </a:xfrm>
        </p:grpSpPr>
        <p:sp>
          <p:nvSpPr>
            <p:cNvPr id="43" name=""/>
            <p:cNvSpPr/>
            <p:nvPr/>
          </p:nvSpPr>
          <p:spPr>
            <a:xfrm>
              <a:off x="699120" y="6445080"/>
              <a:ext cx="4649040" cy="39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"/>
                </a:rPr>
                <a:t>Monjas de Sant  Benet de Montserr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0" y="6456240"/>
              <a:ext cx="701640" cy="357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"/>
          <p:cNvSpPr/>
          <p:nvPr/>
        </p:nvSpPr>
        <p:spPr>
          <a:xfrm>
            <a:off x="395280" y="5506920"/>
            <a:ext cx="8497800" cy="947160"/>
          </a:xfrm>
          <a:prstGeom prst="rect">
            <a:avLst/>
          </a:prstGeom>
          <a:solidFill>
            <a:srgbClr val="00000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c64b14"/>
                </a:solidFill>
                <a:latin typeface="Arial"/>
              </a:rPr>
              <a:t>La melodía de “Stella fulget hodie” evoca las melodías medievales cristian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7236000" y="1197000"/>
            <a:ext cx="136836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e8994a"/>
                    </a:gs>
                    <a:gs pos="100000">
                      <a:srgbClr val="9c3110"/>
                    </a:gs>
                  </a:gsLst>
                  <a:lin ang="5400000"/>
                </a:gradFill>
                <a:latin typeface="Arial Black"/>
              </a:rPr>
              <a:t>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e8994a"/>
                  </a:gs>
                  <a:gs pos="100000">
                    <a:srgbClr val="9c3110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e8994a"/>
                    </a:gs>
                    <a:gs pos="100000">
                      <a:srgbClr val="9c3110"/>
                    </a:gs>
                  </a:gsLst>
                  <a:lin ang="5400000"/>
                </a:gradFill>
                <a:latin typeface="Arial Black"/>
              </a:rPr>
              <a:t>P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e8994a"/>
                  </a:gs>
                  <a:gs pos="100000">
                    <a:srgbClr val="9c3110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e8994a"/>
                    </a:gs>
                    <a:gs pos="100000">
                      <a:srgbClr val="9c3110"/>
                    </a:gs>
                  </a:gsLst>
                  <a:lin ang="5400000"/>
                </a:gradFill>
                <a:latin typeface="Arial Black"/>
              </a:rPr>
              <a:t>I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e8994a"/>
                  </a:gs>
                  <a:gs pos="100000">
                    <a:srgbClr val="9c3110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e8994a"/>
                    </a:gs>
                    <a:gs pos="100000">
                      <a:srgbClr val="9c3110"/>
                    </a:gs>
                  </a:gsLst>
                  <a:lin ang="5400000"/>
                </a:gradFill>
                <a:latin typeface="Arial Black"/>
              </a:rPr>
              <a:t>F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e8994a"/>
                  </a:gs>
                  <a:gs pos="100000">
                    <a:srgbClr val="9c3110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e8994a"/>
                    </a:gs>
                    <a:gs pos="100000">
                      <a:srgbClr val="9c3110"/>
                    </a:gs>
                  </a:gsLst>
                  <a:lin ang="5400000"/>
                </a:gradFill>
                <a:latin typeface="Arial Black"/>
              </a:rPr>
              <a:t>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e8994a"/>
                  </a:gs>
                  <a:gs pos="100000">
                    <a:srgbClr val="9c3110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e8994a"/>
                    </a:gs>
                    <a:gs pos="100000">
                      <a:srgbClr val="9c3110"/>
                    </a:gs>
                  </a:gsLst>
                  <a:lin ang="5400000"/>
                </a:gradFill>
                <a:latin typeface="Arial Black"/>
              </a:rPr>
              <a:t>N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e8994a"/>
                  </a:gs>
                  <a:gs pos="100000">
                    <a:srgbClr val="9c3110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e8994a"/>
                    </a:gs>
                    <a:gs pos="100000">
                      <a:srgbClr val="9c3110"/>
                    </a:gs>
                  </a:gsLst>
                  <a:lin ang="5400000"/>
                </a:gradFill>
                <a:latin typeface="Arial Black"/>
              </a:rPr>
              <a:t>I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e8994a"/>
                  </a:gs>
                  <a:gs pos="100000">
                    <a:srgbClr val="9c3110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e8994a"/>
                    </a:gs>
                    <a:gs pos="100000">
                      <a:srgbClr val="9c3110"/>
                    </a:gs>
                  </a:gsLst>
                  <a:lin ang="5400000"/>
                </a:gradFill>
                <a:latin typeface="Arial Black"/>
              </a:rPr>
              <a:t>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e8994a"/>
                  </a:gs>
                  <a:gs pos="100000">
                    <a:srgbClr val="9c311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24000" y="1050840"/>
            <a:ext cx="1223640" cy="324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c64b14"/>
                    </a:gs>
                    <a:gs pos="100000">
                      <a:srgbClr val="6f230b"/>
                    </a:gs>
                  </a:gsLst>
                  <a:lin ang="5400000"/>
                </a:gradFill>
                <a:latin typeface="Arial Black"/>
              </a:rPr>
              <a:t>F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c64b14"/>
                  </a:gs>
                  <a:gs pos="100000">
                    <a:srgbClr val="6f230b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c64b14"/>
                    </a:gs>
                    <a:gs pos="100000">
                      <a:srgbClr val="6f230b"/>
                    </a:gs>
                  </a:gsLst>
                  <a:lin ang="5400000"/>
                </a:gradFill>
                <a:latin typeface="Arial Black"/>
              </a:rPr>
              <a:t>I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c64b14"/>
                  </a:gs>
                  <a:gs pos="100000">
                    <a:srgbClr val="6f230b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c64b14"/>
                    </a:gs>
                    <a:gs pos="100000">
                      <a:srgbClr val="6f230b"/>
                    </a:gs>
                  </a:gsLst>
                  <a:lin ang="5400000"/>
                </a:gradFill>
                <a:latin typeface="Arial Black"/>
              </a:rPr>
              <a:t>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c64b14"/>
                  </a:gs>
                  <a:gs pos="100000">
                    <a:srgbClr val="6f230b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c64b14"/>
                    </a:gs>
                    <a:gs pos="100000">
                      <a:srgbClr val="6f230b"/>
                    </a:gs>
                  </a:gsLst>
                  <a:lin ang="5400000"/>
                </a:gradFill>
                <a:latin typeface="Arial Black"/>
              </a:rPr>
              <a:t>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c64b14"/>
                  </a:gs>
                  <a:gs pos="100000">
                    <a:srgbClr val="6f230b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c64b14"/>
                    </a:gs>
                    <a:gs pos="100000">
                      <a:srgbClr val="6f230b"/>
                    </a:gs>
                  </a:gsLst>
                  <a:lin ang="5400000"/>
                </a:gradFill>
                <a:latin typeface="Arial Black"/>
              </a:rPr>
              <a:t>T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c64b14"/>
                  </a:gs>
                  <a:gs pos="100000">
                    <a:srgbClr val="6f230b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c64b14"/>
                    </a:gs>
                    <a:gs pos="100000">
                      <a:srgbClr val="6f230b"/>
                    </a:gs>
                  </a:gsLst>
                  <a:lin ang="5400000"/>
                </a:gradFill>
                <a:latin typeface="Arial Black"/>
              </a:rPr>
              <a:t>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c64b14"/>
                  </a:gs>
                  <a:gs pos="100000">
                    <a:srgbClr val="6f230b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c64b14"/>
                  </a:gs>
                  <a:gs pos="100000">
                    <a:srgbClr val="6f230b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c64b14"/>
                    </a:gs>
                    <a:gs pos="100000">
                      <a:srgbClr val="6f230b"/>
                    </a:gs>
                  </a:gsLst>
                  <a:lin ang="5400000"/>
                </a:gradFill>
                <a:latin typeface="Arial Black"/>
              </a:rPr>
              <a:t>D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c64b14"/>
                  </a:gs>
                  <a:gs pos="100000">
                    <a:srgbClr val="6f230b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c64b14"/>
                    </a:gs>
                    <a:gs pos="100000">
                      <a:srgbClr val="6f230b"/>
                    </a:gs>
                  </a:gsLst>
                  <a:lin ang="5400000"/>
                </a:gradFill>
                <a:latin typeface="Arial Black"/>
              </a:rPr>
              <a:t>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c64b14"/>
                  </a:gs>
                  <a:gs pos="100000">
                    <a:srgbClr val="6f230b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344680" y="189000"/>
            <a:ext cx="4314960" cy="5040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 rot="21090600">
            <a:off x="1979640" y="-26640"/>
            <a:ext cx="1944720" cy="1628640"/>
          </a:xfrm>
          <a:prstGeom prst="star5">
            <a:avLst/>
          </a:prstGeom>
          <a:gradFill rotWithShape="0">
            <a:gsLst>
              <a:gs pos="0">
                <a:srgbClr val="ffffcc"/>
              </a:gs>
              <a:gs pos="100000">
                <a:srgbClr val="ffcc00"/>
              </a:gs>
            </a:gsLst>
            <a:lin ang="59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  <p:sndAc>
      <p:stSnd>
        <p:snd r:embed="rId4" name="Stellafulget07%20Epifania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" dur="2000" fill="hold"/>
                                        <p:tgtEl>
                                          <p:spTgt spid="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" dur="2000" fill="hold"/>
                                        <p:tgtEl>
                                          <p:spTgt spid="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84360" y="692280"/>
            <a:ext cx="7067520" cy="5486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292720" y="4653000"/>
            <a:ext cx="3635280" cy="1922400"/>
          </a:xfrm>
          <a:prstGeom prst="rect">
            <a:avLst/>
          </a:prstGeom>
          <a:solidFill>
            <a:srgbClr val="a33e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Unicode MS"/>
              </a:rPr>
              <a:t>Para Herodes la religión es una fars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8000" y="189000"/>
            <a:ext cx="880740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 Unicode MS"/>
              </a:rPr>
              <a:t>Sólo el corazón limpio sabe ADORAR</a:t>
            </a:r>
            <a:r>
              <a:rPr b="1" lang="ca-ES" sz="4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5715000"/>
            <a:ext cx="1371600" cy="1143000"/>
          </a:xfrm>
          <a:prstGeom prst="star5">
            <a:avLst/>
          </a:prstGeom>
          <a:gradFill rotWithShape="0">
            <a:gsLst>
              <a:gs pos="0">
                <a:srgbClr val="ffffcc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76520" y="5410080"/>
            <a:ext cx="1371600" cy="1219320"/>
          </a:xfrm>
          <a:prstGeom prst="star5">
            <a:avLst/>
          </a:prstGeom>
          <a:gradFill rotWithShape="0">
            <a:gsLst>
              <a:gs pos="0">
                <a:srgbClr val="ffffcc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4648320"/>
            <a:ext cx="1295280" cy="1143000"/>
          </a:xfrm>
          <a:prstGeom prst="star5">
            <a:avLst/>
          </a:prstGeom>
          <a:gradFill rotWithShape="0">
            <a:gsLst>
              <a:gs pos="0">
                <a:srgbClr val="ffffcc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6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304920"/>
            <a:ext cx="7921800" cy="5579280"/>
          </a:xfrm>
          <a:prstGeom prst="rect">
            <a:avLst/>
          </a:prstGeom>
          <a:solidFill>
            <a:srgbClr val="6f230b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Y habiendo oído al rey, se fueron; y he aquí, la </a:t>
            </a:r>
            <a:r>
              <a:rPr b="1" lang="es-ES" sz="4000" spc="-1" strike="noStrike">
                <a:solidFill>
                  <a:srgbClr val="fbefa7"/>
                </a:solidFill>
                <a:latin typeface="Arial Unicode MS"/>
                <a:ea typeface="Arial Unicode MS"/>
              </a:rPr>
              <a:t>estrella </a:t>
            </a:r>
            <a:r>
              <a:rPr b="1" lang="es-E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que habían visto en el oriente iba delante de ellos, hasta que llegó y se detuvo sobre el lugar donde estaba el niño. Cuando vieron la estrella, se regocijaron sobremanera con gran alegría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6019920"/>
            <a:ext cx="1509480" cy="637920"/>
          </a:xfrm>
          <a:prstGeom prst="rightArrow">
            <a:avLst>
              <a:gd name="adj1" fmla="val 50000"/>
              <a:gd name="adj2" fmla="val 59156"/>
            </a:avLst>
          </a:prstGeom>
          <a:solidFill>
            <a:srgbClr val="9c3110">
              <a:alpha val="85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260280"/>
            <a:ext cx="83822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 Unicode MS"/>
              </a:rPr>
              <a:t>Todos tenemos una estrella</a:t>
            </a:r>
            <a:r>
              <a:rPr b="1" lang="ca-ES" sz="4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4437000"/>
            <a:ext cx="7777080" cy="1922400"/>
          </a:xfrm>
          <a:prstGeom prst="rect">
            <a:avLst/>
          </a:prstGeom>
          <a:solidFill>
            <a:srgbClr val="a33e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cluso en las noches oscuras hay estrellas que señalan al NIÑO que llevamos dent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24000" y="1257480"/>
            <a:ext cx="8610480" cy="28191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580000" y="2133720"/>
            <a:ext cx="1871640" cy="1871640"/>
          </a:xfrm>
          <a:prstGeom prst="star5">
            <a:avLst/>
          </a:prstGeom>
          <a:gradFill rotWithShape="0">
            <a:gsLst>
              <a:gs pos="0">
                <a:srgbClr val="ffffcc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08360" y="1628640"/>
            <a:ext cx="2016000" cy="1663920"/>
          </a:xfrm>
          <a:prstGeom prst="star5">
            <a:avLst/>
          </a:prstGeom>
          <a:gradFill rotWithShape="0">
            <a:gsLst>
              <a:gs pos="0">
                <a:srgbClr val="ffffcc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2781360"/>
            <a:ext cx="1763640" cy="1290600"/>
          </a:xfrm>
          <a:prstGeom prst="star5">
            <a:avLst/>
          </a:prstGeom>
          <a:gradFill rotWithShape="0">
            <a:gsLst>
              <a:gs pos="0">
                <a:srgbClr val="ffffcc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1557360"/>
            <a:ext cx="1798560" cy="1440000"/>
          </a:xfrm>
          <a:prstGeom prst="star5">
            <a:avLst/>
          </a:prstGeom>
          <a:gradFill rotWithShape="0">
            <a:gsLst>
              <a:gs pos="0">
                <a:srgbClr val="ffffcc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51080" y="927000"/>
            <a:ext cx="1673280" cy="1422360"/>
          </a:xfrm>
          <a:prstGeom prst="star5">
            <a:avLst/>
          </a:prstGeom>
          <a:gradFill rotWithShape="0">
            <a:gsLst>
              <a:gs pos="0">
                <a:srgbClr val="ffffcc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451640" y="2421000"/>
            <a:ext cx="1692360" cy="1646280"/>
          </a:xfrm>
          <a:prstGeom prst="star5">
            <a:avLst/>
          </a:prstGeom>
          <a:gradFill rotWithShape="0">
            <a:gsLst>
              <a:gs pos="0">
                <a:srgbClr val="ffffcc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000"/>
                            </p:stCondLst>
                            <p:childTnLst>
                              <p:par>
                                <p:cTn id="21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8000"/>
                            </p:stCondLst>
                            <p:childTnLst>
                              <p:par>
                                <p:cTn id="215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8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6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380880"/>
            <a:ext cx="8305920" cy="5212080"/>
          </a:xfrm>
          <a:prstGeom prst="rect">
            <a:avLst/>
          </a:prstGeom>
          <a:solidFill>
            <a:srgbClr val="6f230b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Y entrando en la casa, vieron al niño con su madre María, y postrándose le adoraron; y abriendo sus tesoros le presentaron obsequios de</a:t>
            </a:r>
            <a:r>
              <a:rPr b="1" lang="en-US" sz="4800" spc="-1" strike="noStrike">
                <a:solidFill>
                  <a:srgbClr val="fbefa7"/>
                </a:solidFill>
                <a:latin typeface="Arial Unicode MS"/>
                <a:ea typeface="Arial Unicode MS"/>
              </a:rPr>
              <a:t> oro, incienso y mirra.  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010280" y="6019920"/>
            <a:ext cx="1509840" cy="637920"/>
          </a:xfrm>
          <a:prstGeom prst="rightArrow">
            <a:avLst>
              <a:gd name="adj1" fmla="val 50000"/>
              <a:gd name="adj2" fmla="val 59170"/>
            </a:avLst>
          </a:prstGeom>
          <a:solidFill>
            <a:srgbClr val="9c3110">
              <a:alpha val="85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79280" y="182520"/>
            <a:ext cx="5904000" cy="49021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651640" y="3108240"/>
            <a:ext cx="3492360" cy="3750840"/>
          </a:xfrm>
          <a:prstGeom prst="rect">
            <a:avLst/>
          </a:prstGeom>
          <a:solidFill>
            <a:srgbClr val="a33e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frecieron oro al Rey, incienso a  Dios, y mirra al Hombre mort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695400">
            <a:off x="6516720" y="1197000"/>
            <a:ext cx="1655640" cy="1339920"/>
          </a:xfrm>
          <a:prstGeom prst="star5">
            <a:avLst/>
          </a:prstGeom>
          <a:gradFill rotWithShape="0">
            <a:gsLst>
              <a:gs pos="0">
                <a:srgbClr val="ffffcc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5391000"/>
            <a:ext cx="437328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Unicode MS"/>
              </a:rPr>
              <a:t>¿Somos ofrend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838080" y="380880"/>
            <a:ext cx="7561440" cy="5960520"/>
          </a:xfrm>
          <a:prstGeom prst="rect">
            <a:avLst/>
          </a:prstGeom>
          <a:solidFill>
            <a:srgbClr val="6f230b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Y habiendo sido advertidos por Dios en sueños que no volvieran a Herodes, partieron para su tierra por </a:t>
            </a:r>
            <a:r>
              <a:rPr b="1" lang="en-US" sz="5500" spc="-1" strike="noStrike">
                <a:solidFill>
                  <a:srgbClr val="fbefa7"/>
                </a:solidFill>
                <a:latin typeface="Arial Unicode MS"/>
                <a:ea typeface="Arial Unicode MS"/>
              </a:rPr>
              <a:t>otro camino</a:t>
            </a:r>
            <a:r>
              <a:rPr b="1" lang="en-US" sz="5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.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86600" y="6019920"/>
            <a:ext cx="1509840" cy="637920"/>
          </a:xfrm>
          <a:prstGeom prst="rightArrow">
            <a:avLst>
              <a:gd name="adj1" fmla="val 50000"/>
              <a:gd name="adj2" fmla="val 59170"/>
            </a:avLst>
          </a:prstGeom>
          <a:solidFill>
            <a:srgbClr val="9c3110">
              <a:alpha val="85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313080" y="1200240"/>
            <a:ext cx="5796000" cy="5657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492360" y="260280"/>
            <a:ext cx="534672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Unicode MS"/>
              </a:rPr>
              <a:t>Cuando damos nos llena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404640"/>
            <a:ext cx="2952720" cy="2531880"/>
          </a:xfrm>
          <a:prstGeom prst="rect">
            <a:avLst/>
          </a:prstGeom>
          <a:solidFill>
            <a:srgbClr val="a33e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Hacer regalos ensancha  caminos</a:t>
            </a:r>
            <a:r>
              <a:rPr b="1" lang="ca-E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21043200">
            <a:off x="158400" y="3068280"/>
            <a:ext cx="2973240" cy="2943360"/>
          </a:xfrm>
          <a:prstGeom prst="star5">
            <a:avLst/>
          </a:prstGeom>
          <a:gradFill rotWithShape="0">
            <a:gsLst>
              <a:gs pos="0">
                <a:srgbClr val="ffffcc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-1219320" y="-1295280"/>
            <a:ext cx="10668240" cy="8610480"/>
          </a:xfrm>
          <a:prstGeom prst="star5">
            <a:avLst/>
          </a:prstGeom>
          <a:gradFill rotWithShape="0">
            <a:gsLst>
              <a:gs pos="0">
                <a:srgbClr val="ffffcc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692360" y="549360"/>
            <a:ext cx="4705200" cy="51307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003640" y="5229360"/>
            <a:ext cx="3745080" cy="1312920"/>
          </a:xfrm>
          <a:prstGeom prst="rect">
            <a:avLst/>
          </a:prstGeom>
          <a:solidFill>
            <a:srgbClr val="a33e11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El camino es  de humill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16000" y="476280"/>
            <a:ext cx="7129440" cy="5616720"/>
          </a:xfrm>
          <a:prstGeom prst="rect">
            <a:avLst/>
          </a:prstGeom>
          <a:gradFill rotWithShape="0">
            <a:gsLst>
              <a:gs pos="0">
                <a:srgbClr val="dd4b09"/>
              </a:gs>
              <a:gs pos="100000">
                <a:srgbClr val="3a090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47640" y="981000"/>
            <a:ext cx="6121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 Unicode MS"/>
              </a:rPr>
              <a:t>Tu, Señor, que te has MANIFESTADO </a:t>
            </a:r>
            <a:br>
              <a:rPr sz="4500"/>
            </a:br>
            <a:r>
              <a:rPr b="1" lang="en-US" sz="4500" spc="-1" strike="noStrike">
                <a:solidFill>
                  <a:srgbClr val="ffffff"/>
                </a:solidFill>
                <a:latin typeface="Arial Unicode MS"/>
              </a:rPr>
              <a:t>abundantemente en estos días, ayúdanos a corresponder con agradecimiento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20684400">
            <a:off x="6803640" y="4797360"/>
            <a:ext cx="1979640" cy="1657440"/>
          </a:xfrm>
          <a:prstGeom prst="star5">
            <a:avLst/>
          </a:prstGeom>
          <a:gradFill rotWithShape="0">
            <a:gsLst>
              <a:gs pos="0">
                <a:srgbClr val="ffffcc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5300640"/>
            <a:ext cx="9144000" cy="1403640"/>
          </a:xfrm>
          <a:prstGeom prst="rect">
            <a:avLst/>
          </a:prstGeom>
          <a:gradFill rotWithShape="0">
            <a:gsLst>
              <a:gs pos="0">
                <a:srgbClr val="782402"/>
              </a:gs>
              <a:gs pos="100000">
                <a:srgbClr val="371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benedictinescat.com/Montserr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4000" y="692280"/>
            <a:ext cx="8440560" cy="1922400"/>
          </a:xfrm>
          <a:prstGeom prst="rect">
            <a:avLst/>
          </a:prstGeom>
          <a:solidFill>
            <a:srgbClr val="9c311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 Unicode MS"/>
              </a:rPr>
              <a:t>Con los magos (sabios) volvamos de Belén por un</a:t>
            </a:r>
            <a:r>
              <a:rPr b="1" lang="pt-BR" sz="4000" spc="-1" strike="noStrike">
                <a:solidFill>
                  <a:srgbClr val="ffffff"/>
                </a:solidFill>
                <a:latin typeface="Arial Unicode MS"/>
              </a:rPr>
              <a:t> CAMINO nue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867280" y="4572000"/>
            <a:ext cx="3097440" cy="520560"/>
          </a:xfrm>
          <a:prstGeom prst="rect">
            <a:avLst/>
          </a:prstGeom>
          <a:solidFill>
            <a:srgbClr val="3a090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 Unicode MS"/>
              </a:rPr>
              <a:t>Plaza de Belé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5257800"/>
            <a:ext cx="8891640" cy="1556280"/>
          </a:xfrm>
          <a:prstGeom prst="rect">
            <a:avLst/>
          </a:prstGeom>
          <a:solidFill>
            <a:srgbClr val="000000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Unicode MS"/>
              </a:rPr>
              <a:t>Las imágenes son de las iglesias de Ravenna, durante el siglo de oro de la ciudad (425-54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9480" y="304920"/>
            <a:ext cx="7993080" cy="5579280"/>
          </a:xfrm>
          <a:prstGeom prst="rect">
            <a:avLst/>
          </a:prstGeom>
          <a:solidFill>
            <a:srgbClr val="6f230b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t 2,1-12 Cuando nació Jesús en Belén de Judea, en tiempos del rey Herodes, he aquí, unos magos del oriente llegaron a Jerusalén, diciendo: ¿Dónde está el Rey de los judíos que ha nacido? Porque vimos su estrella en el oriente y hemos venido a adorarl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6019920"/>
            <a:ext cx="1509840" cy="637920"/>
          </a:xfrm>
          <a:prstGeom prst="rightArrow">
            <a:avLst>
              <a:gd name="adj1" fmla="val 50000"/>
              <a:gd name="adj2" fmla="val 59170"/>
            </a:avLst>
          </a:prstGeom>
          <a:solidFill>
            <a:srgbClr val="9c3110">
              <a:alpha val="85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6264360" cy="49831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867280" y="2122560"/>
            <a:ext cx="3203640" cy="2531880"/>
          </a:xfrm>
          <a:prstGeom prst="rect">
            <a:avLst/>
          </a:prstGeom>
          <a:solidFill>
            <a:srgbClr val="a33e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Jerusalén es la ciudad santa y pecado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4869000"/>
            <a:ext cx="7307280" cy="19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ner pecados es propio de la naturaleza, reconocerlos es propio de la Grac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6156360" cy="550800"/>
          </a:xfrm>
          <a:prstGeom prst="rect">
            <a:avLst/>
          </a:prstGeom>
          <a:solidFill>
            <a:srgbClr val="a33e11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Mosaico representando  Jerusalé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04000" y="476280"/>
            <a:ext cx="1600200" cy="1295280"/>
          </a:xfrm>
          <a:prstGeom prst="star5">
            <a:avLst/>
          </a:prstGeom>
          <a:gradFill rotWithShape="0">
            <a:gsLst>
              <a:gs pos="0">
                <a:srgbClr val="ffffcc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380880"/>
            <a:ext cx="8112240" cy="5580360"/>
          </a:xfrm>
          <a:prstGeom prst="rect">
            <a:avLst/>
          </a:prstGeom>
          <a:solidFill>
            <a:srgbClr val="6f230b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uando lo oyó el rey Herodes, se turbó, y toda Jerusalén con él. Entonces, reuniendo a todos los principales sacerdotes y escribas del pueblo, indagó de ellos dónde había de nacer el Cristo. 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086600" y="6019920"/>
            <a:ext cx="1509840" cy="637920"/>
          </a:xfrm>
          <a:prstGeom prst="rightArrow">
            <a:avLst>
              <a:gd name="adj1" fmla="val 50000"/>
              <a:gd name="adj2" fmla="val 59170"/>
            </a:avLst>
          </a:prstGeom>
          <a:solidFill>
            <a:srgbClr val="9c3110">
              <a:alpha val="85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987640" y="0"/>
            <a:ext cx="454032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50920" y="404640"/>
            <a:ext cx="3168720" cy="3141360"/>
          </a:xfrm>
          <a:prstGeom prst="rect">
            <a:avLst/>
          </a:prstGeom>
          <a:solidFill>
            <a:srgbClr val="a33e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os poderosos se inquietan ante una Luz aje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96000" y="5445000"/>
            <a:ext cx="3058920" cy="116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La LUZ de Dios clarific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1846800">
            <a:off x="590040" y="4193640"/>
            <a:ext cx="2819520" cy="2306880"/>
          </a:xfrm>
          <a:prstGeom prst="star5">
            <a:avLst/>
          </a:prstGeom>
          <a:gradFill rotWithShape="0">
            <a:gsLst>
              <a:gs pos="0">
                <a:srgbClr val="ffffcc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8600" y="260280"/>
            <a:ext cx="8686800" cy="6126840"/>
          </a:xfrm>
          <a:prstGeom prst="rect">
            <a:avLst/>
          </a:prstGeom>
          <a:solidFill>
            <a:srgbClr val="6f230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Y ellos le dijeron: En Belén de Judea, porque así está escrito por el profeta: "y tú, Belén, tierra de judá, de    ningún modo eres la más pequeña entre los príncipes de judá;         porque de ti saldrá un gobernante que pastoreará a mi pueblo Israel."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238880" y="6019920"/>
            <a:ext cx="1509840" cy="637920"/>
          </a:xfrm>
          <a:prstGeom prst="rightArrow">
            <a:avLst>
              <a:gd name="adj1" fmla="val 50000"/>
              <a:gd name="adj2" fmla="val 59170"/>
            </a:avLst>
          </a:prstGeom>
          <a:solidFill>
            <a:srgbClr val="9c3110">
              <a:alpha val="85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9280" y="115920"/>
            <a:ext cx="8064720" cy="1312920"/>
          </a:xfrm>
          <a:prstGeom prst="rect">
            <a:avLst/>
          </a:prstGeom>
          <a:solidFill>
            <a:srgbClr val="a33e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unque hoy viva cercada, Belén es de los        pequeños de Dio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907920"/>
            <a:ext cx="6013440" cy="5329440"/>
          </a:xfrm>
          <a:prstGeom prst="star5">
            <a:avLst/>
          </a:prstGeom>
          <a:gradFill rotWithShape="0">
            <a:gsLst>
              <a:gs pos="0">
                <a:srgbClr val="ffffcc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500720" y="1557360"/>
            <a:ext cx="4643280" cy="4594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564000" y="6237360"/>
            <a:ext cx="5329080" cy="550800"/>
          </a:xfrm>
          <a:prstGeom prst="rect">
            <a:avLst/>
          </a:prstGeom>
          <a:solidFill>
            <a:srgbClr val="a33e11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ffffff"/>
                </a:solidFill>
                <a:latin typeface="Times New Roman"/>
              </a:rPr>
              <a:t>Mosaico representando Belé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3645000"/>
            <a:ext cx="3095640" cy="19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ara Dios lo pequeño es gran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33520" y="304920"/>
            <a:ext cx="8305560" cy="5579280"/>
          </a:xfrm>
          <a:prstGeom prst="rect">
            <a:avLst/>
          </a:prstGeom>
          <a:solidFill>
            <a:srgbClr val="6f230b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ntonces Herodes llamó a los magos en secreto y se cercioró con ellos del tiempo en que había aparecido la estrella. Y enviándolos a Belén, dijo: Id y buscad con diligencia al niño; y cuando le encontréis, avisadme para que yo también vaya y le ador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010280" y="6019920"/>
            <a:ext cx="1509840" cy="637920"/>
          </a:xfrm>
          <a:prstGeom prst="rightArrow">
            <a:avLst>
              <a:gd name="adj1" fmla="val 50000"/>
              <a:gd name="adj2" fmla="val 59170"/>
            </a:avLst>
          </a:prstGeom>
          <a:solidFill>
            <a:srgbClr val="9c3110">
              <a:alpha val="85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0T22:24:07Z</dcterms:created>
  <dc:creator>Regina</dc:creator>
  <dc:description/>
  <dc:language>en-US</dc:language>
  <cp:lastModifiedBy>Usuario</cp:lastModifiedBy>
  <dcterms:modified xsi:type="dcterms:W3CDTF">2010-01-01T21:04:20Z</dcterms:modified>
  <cp:revision>496</cp:revision>
  <dc:subject/>
  <dc:title>evangelio</dc:title>
</cp:coreProperties>
</file>