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Stellafulget07%20Epifaniaw.wav" ContentType="audio/x-wav"/>
  <Override PartName="/ppt/media/image5.jpeg" ContentType="image/jpeg"/>
  <Override PartName="/ppt/media/image10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17B-9855-432A-BF29-D7AB1A67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F5E-9555-42B0-8D0E-699431B2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791-205E-4B86-8536-E90CD8C4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82D-BB4C-4E23-AB59-1E1C9BA8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4AB-9336-403F-9C64-C51D1236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D24-0799-4B6A-ACCA-AD7CF635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708-EF81-4FD0-B4AF-AEC095F6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BAC-DE5B-4552-AFBA-BAC17506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153-0BF7-473E-8F20-AE7564BF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ECC-C168-4001-A7FE-93441AB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7FD-C882-4851-9E35-9684CBC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0BB-E6A3-43D6-BC59-5AE5765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A7FC-C862-4DAF-9EE8-9769B2417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Stellafulget07%20Epifaniaw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8200" y="0"/>
            <a:ext cx="5041800" cy="5516640"/>
          </a:xfrm>
          <a:prstGeom prst="rect">
            <a:avLst/>
          </a:prstGeom>
          <a:solidFill>
            <a:srgbClr val="240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6445080"/>
            <a:ext cx="5348160" cy="398880"/>
            <a:chOff x="0" y="6445080"/>
            <a:chExt cx="5348160" cy="398880"/>
          </a:xfrm>
        </p:grpSpPr>
        <p:sp>
          <p:nvSpPr>
            <p:cNvPr id="43" name=""/>
            <p:cNvSpPr/>
            <p:nvPr/>
          </p:nvSpPr>
          <p:spPr>
            <a:xfrm>
              <a:off x="699120" y="6445080"/>
              <a:ext cx="464904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Monjas de Sant  Benet de Montserr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6456240"/>
              <a:ext cx="701640" cy="35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395280" y="5506920"/>
            <a:ext cx="8497800" cy="947160"/>
          </a:xfrm>
          <a:prstGeom prst="rect">
            <a:avLst/>
          </a:prstGeom>
          <a:solidFill>
            <a:srgbClr val="00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64b14"/>
                </a:solidFill>
                <a:latin typeface="Arial"/>
              </a:rPr>
              <a:t>La melodía de “Stella fulget hodie” evoca las melodías medievales cristia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36000" y="1197000"/>
            <a:ext cx="1368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e8994a"/>
                    </a:gs>
                    <a:gs pos="100000">
                      <a:srgbClr val="9c3110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e8994a"/>
                  </a:gs>
                  <a:gs pos="100000">
                    <a:srgbClr val="9c311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050840"/>
            <a:ext cx="12236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F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64b14"/>
                    </a:gs>
                    <a:gs pos="100000">
                      <a:srgbClr val="6f230b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64b14"/>
                  </a:gs>
                  <a:gs pos="100000">
                    <a:srgbClr val="6f230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344680" y="189000"/>
            <a:ext cx="4314960" cy="504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1090600">
            <a:off x="1979640" y="-26640"/>
            <a:ext cx="1944720" cy="162864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9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4" name="Stellafulget07%20Epifani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067520" cy="548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92720" y="4653000"/>
            <a:ext cx="36352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Para Herodes la religión es una far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189000"/>
            <a:ext cx="8807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Unicode MS"/>
              </a:rPr>
              <a:t>Sólo el corazón limpio sabe ADORAR</a:t>
            </a:r>
            <a:r>
              <a:rPr b="1" lang="ca-ES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715000"/>
            <a:ext cx="1371600" cy="114300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371600" cy="121932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648320"/>
            <a:ext cx="1295280" cy="114300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04920"/>
            <a:ext cx="7921800" cy="5579280"/>
          </a:xfrm>
          <a:prstGeom prst="rect">
            <a:avLst/>
          </a:prstGeom>
          <a:solidFill>
            <a:srgbClr val="6f230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habiendo oído al rey, se fueron; y he aquí, la </a:t>
            </a:r>
            <a:r>
              <a:rPr b="1" lang="es-ES" sz="4000" spc="-1" strike="noStrike">
                <a:solidFill>
                  <a:srgbClr val="fbefa7"/>
                </a:solidFill>
                <a:latin typeface="Arial Unicode MS"/>
                <a:ea typeface="Arial Unicode MS"/>
              </a:rPr>
              <a:t>estrella </a:t>
            </a: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que habían visto en el oriente iba delante de ellos, hasta que llegó y se detuvo sobre el lugar donde estaba el niño. Cuando vieron la estrella, se regocijaron sobremanera con gran alegría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6019920"/>
            <a:ext cx="1509480" cy="637920"/>
          </a:xfrm>
          <a:prstGeom prst="rightArrow">
            <a:avLst>
              <a:gd name="adj1" fmla="val 50000"/>
              <a:gd name="adj2" fmla="val 59156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60280"/>
            <a:ext cx="83822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Unicode MS"/>
              </a:rPr>
              <a:t>Todos tenemos una estrella</a:t>
            </a:r>
            <a:r>
              <a:rPr b="1" lang="ca-ES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437000"/>
            <a:ext cx="7777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luso en las noches oscuras hay estrellas que señalan al NIÑO que llevamos d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257480"/>
            <a:ext cx="8610480" cy="281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80000" y="2133720"/>
            <a:ext cx="1871640" cy="187164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08360" y="1628640"/>
            <a:ext cx="2016000" cy="166392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781360"/>
            <a:ext cx="1763640" cy="129060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557360"/>
            <a:ext cx="1798560" cy="144000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51080" y="927000"/>
            <a:ext cx="1673280" cy="142236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51640" y="2421000"/>
            <a:ext cx="1692360" cy="164628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880"/>
            <a:ext cx="8305920" cy="5212080"/>
          </a:xfrm>
          <a:prstGeom prst="rect">
            <a:avLst/>
          </a:prstGeom>
          <a:solidFill>
            <a:srgbClr val="6f230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ntrando en la casa, vieron al niño con su madre María, y postrándose le adoraron; y abriendo sus tesoros le presentaron obsequios de</a:t>
            </a:r>
            <a:r>
              <a:rPr b="1" lang="en-US" sz="4800" spc="-1" strike="noStrike">
                <a:solidFill>
                  <a:srgbClr val="fbefa7"/>
                </a:solidFill>
                <a:latin typeface="Arial Unicode MS"/>
                <a:ea typeface="Arial Unicode MS"/>
              </a:rPr>
              <a:t> oro, incienso y mirra.  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182520"/>
            <a:ext cx="5904000" cy="4902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1640" y="3108240"/>
            <a:ext cx="3492360" cy="375084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recieron oro al Rey, incienso a  Dios, y mirra al Hombre mor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695400">
            <a:off x="6516720" y="1197000"/>
            <a:ext cx="1655640" cy="133992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391000"/>
            <a:ext cx="4373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Somos ofrend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380880"/>
            <a:ext cx="7561440" cy="5960520"/>
          </a:xfrm>
          <a:prstGeom prst="rect">
            <a:avLst/>
          </a:prstGeom>
          <a:solidFill>
            <a:srgbClr val="6f230b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habiendo sido advertidos por Dios en sueños que no volvieran a Herodes, partieron para su tierra por </a:t>
            </a:r>
            <a:r>
              <a:rPr b="1" lang="en-US" sz="5500" spc="-1" strike="noStrike">
                <a:solidFill>
                  <a:srgbClr val="fbefa7"/>
                </a:solidFill>
                <a:latin typeface="Arial Unicode MS"/>
                <a:ea typeface="Arial Unicode MS"/>
              </a:rPr>
              <a:t>otro camino</a:t>
            </a:r>
            <a:r>
              <a:rPr b="1" lang="en-U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13080" y="1200240"/>
            <a:ext cx="5796000" cy="5657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92360" y="260280"/>
            <a:ext cx="5346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uando damos nos llena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04640"/>
            <a:ext cx="295272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Hacer regalos ensancha  caminos</a:t>
            </a: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043200">
            <a:off x="158400" y="3068280"/>
            <a:ext cx="2973240" cy="294336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219320" y="-1295280"/>
            <a:ext cx="10668240" cy="861048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92360" y="549360"/>
            <a:ext cx="4705200" cy="5130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03640" y="5229360"/>
            <a:ext cx="3745080" cy="1312920"/>
          </a:xfrm>
          <a:prstGeom prst="rect">
            <a:avLst/>
          </a:prstGeom>
          <a:solidFill>
            <a:srgbClr val="a33e11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camino es  de humil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476280"/>
            <a:ext cx="7129440" cy="561672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981000"/>
            <a:ext cx="612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</a:rPr>
              <a:t>Tu, Señor, que te has MANIFESTADO 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Arial Unicode MS"/>
              </a:rPr>
              <a:t>abundantemente en estos días, ayúdanos a corresponder con agradecimien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684400">
            <a:off x="6803640" y="4797360"/>
            <a:ext cx="1979640" cy="165744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300640"/>
            <a:ext cx="9144000" cy="1403640"/>
          </a:xfrm>
          <a:prstGeom prst="rect">
            <a:avLst/>
          </a:prstGeom>
          <a:gradFill rotWithShape="0">
            <a:gsLst>
              <a:gs pos="0">
                <a:srgbClr val="782402"/>
              </a:gs>
              <a:gs pos="100000">
                <a:srgbClr val="371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benedictinescat.com/Montserr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692280"/>
            <a:ext cx="8440560" cy="1922400"/>
          </a:xfrm>
          <a:prstGeom prst="rect">
            <a:avLst/>
          </a:prstGeom>
          <a:solidFill>
            <a:srgbClr val="9c311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Con los magos (sabios) volvamos de Belén por un</a:t>
            </a:r>
            <a:r>
              <a:rPr b="1" lang="pt-BR" sz="4000" spc="-1" strike="noStrike">
                <a:solidFill>
                  <a:srgbClr val="ffffff"/>
                </a:solidFill>
                <a:latin typeface="Arial Unicode MS"/>
              </a:rPr>
              <a:t> CAMINO nue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4572000"/>
            <a:ext cx="3097440" cy="520560"/>
          </a:xfrm>
          <a:prstGeom prst="rect">
            <a:avLst/>
          </a:prstGeom>
          <a:solidFill>
            <a:srgbClr val="3a09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 Unicode MS"/>
              </a:rPr>
              <a:t>Plaza de Bel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257800"/>
            <a:ext cx="8891640" cy="155628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Las imágenes son de las iglesias de Ravenna, durante el siglo de oro de la ciudad (425-54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304920"/>
            <a:ext cx="7993080" cy="5579280"/>
          </a:xfrm>
          <a:prstGeom prst="rect">
            <a:avLst/>
          </a:prstGeom>
          <a:solidFill>
            <a:srgbClr val="6f230b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,1-12 Cuando nació Jesús en Belén de Judea, en tiempos del rey Herodes, he aquí, unos magos del oriente llegaron a Jerusalén, diciendo: ¿Dónde está el Rey de los judíos que ha nacido? Porque vimos su estrella en el oriente y hemos venido a adorar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6264360" cy="4983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2122560"/>
            <a:ext cx="320364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rusalén es la ciudad santa y pec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4869000"/>
            <a:ext cx="7307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ner pecados es propio de la naturaleza, reconocerlos es propio de la Gra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156360" cy="550800"/>
          </a:xfrm>
          <a:prstGeom prst="rect">
            <a:avLst/>
          </a:prstGeom>
          <a:solidFill>
            <a:srgbClr val="a33e1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osaico representando  Jerusa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476280"/>
            <a:ext cx="1600200" cy="129528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80880"/>
            <a:ext cx="8112240" cy="5580360"/>
          </a:xfrm>
          <a:prstGeom prst="rect">
            <a:avLst/>
          </a:prstGeom>
          <a:solidFill>
            <a:srgbClr val="6f230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lo oyó el rey Herodes, se turbó, y toda Jerusalén con él. Entonces, reuniendo a todos los principales sacerdotes y escribas del pueblo, indagó de ellos dónde había de nacer el Cristo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4540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404640"/>
            <a:ext cx="3168720" cy="314136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s poderosos se inquietan ante una Luz aj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5445000"/>
            <a:ext cx="305892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a LUZ de Dios clarif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846800">
            <a:off x="590040" y="4193640"/>
            <a:ext cx="2819520" cy="230688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60280"/>
            <a:ext cx="8686800" cy="6126840"/>
          </a:xfrm>
          <a:prstGeom prst="rect">
            <a:avLst/>
          </a:prstGeom>
          <a:solidFill>
            <a:srgbClr val="6f230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llos le dijeron: En Belén de Judea, porque así está escrito por el profeta: "y tú, Belén, tierra de judá, de    ningún modo eres la más pequeña entre los príncipes de judá;         porque de ti saldrá un gobernante que pastoreará a mi pueblo Israel."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15920"/>
            <a:ext cx="8064720" cy="131292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nque hoy viva cercada, Belén es de los        pequeños de Di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907920"/>
            <a:ext cx="6013440" cy="532944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4594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64000" y="6237360"/>
            <a:ext cx="5329080" cy="550800"/>
          </a:xfrm>
          <a:prstGeom prst="rect">
            <a:avLst/>
          </a:prstGeom>
          <a:solidFill>
            <a:srgbClr val="a33e11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Times New Roman"/>
              </a:rPr>
              <a:t>Mosaico representando Be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645000"/>
            <a:ext cx="30956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 Dios lo pequeño es gra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8305560" cy="5579280"/>
          </a:xfrm>
          <a:prstGeom prst="rect">
            <a:avLst/>
          </a:prstGeom>
          <a:solidFill>
            <a:srgbClr val="6f230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Herodes llamó a los magos en secreto y se cercioró con ellos del tiempo en que había aparecido la estrella. Y enviándolos a Belén, dijo: Id y buscad con diligencia al niño; y cuando le encontréis, avisadme para que yo también vaya y le ador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019920"/>
            <a:ext cx="1509840" cy="637920"/>
          </a:xfrm>
          <a:prstGeom prst="rightArrow">
            <a:avLst>
              <a:gd name="adj1" fmla="val 50000"/>
              <a:gd name="adj2" fmla="val 59170"/>
            </a:avLst>
          </a:prstGeom>
          <a:solidFill>
            <a:srgbClr val="9c3110">
              <a:alpha val="8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1-01T21:04:20Z</dcterms:modified>
  <cp:revision>496</cp:revision>
  <dc:subject/>
  <dc:title>evangelio</dc:title>
</cp:coreProperties>
</file>