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970-B7E0-4879-8FA2-F1BD84AC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5E5-D408-4F34-BE87-07A300E3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6D0-9ED7-4186-BA38-6DFBE7BC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2F6-AC19-49C0-8E33-E8876332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14B-A084-469F-9541-778C20DD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91F-5C2F-4E00-A052-B00D69DE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D08-25F6-40DA-A492-90E652B7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CEA-AF71-42E8-8F42-E2E5D4C4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79A-EB65-4024-B25B-190AA663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587-1906-4909-9DEA-52699C2F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4E1-B4F3-4D73-B76B-A492CE57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5EF-A7F2-4B12-A237-E2CDE22E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2AE6-E971-4F7F-A7D3-95A0E276BC8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3 Imagen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marchas militares usa - 77 trombones - crÓnic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Marcador de contenido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Marcador de contenido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Marcador de contenido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Marcador de contenido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2:12:36Z</dcterms:created>
  <dc:creator>MARIPILI</dc:creator>
  <dc:description/>
  <dc:language>en-US</dc:language>
  <cp:lastModifiedBy>MARIPILI</cp:lastModifiedBy>
  <dcterms:modified xsi:type="dcterms:W3CDTF">2010-09-14T02:17:09Z</dcterms:modified>
  <cp:revision>1</cp:revision>
  <dc:subject/>
  <dc:title>Diapositiva 1</dc:title>
</cp:coreProperties>
</file>