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EEA-AF46-45B1-B9BC-A65FC85C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93DA-A84E-4F3E-A3F3-E3A832F0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2A9-DBA4-440D-B06D-DAAFAA80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751-BD17-4DB7-8B40-273F26D5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03B-775B-49FE-BD6B-D1F6C7E1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60E-EA84-468D-AAAF-0CFCDE35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F06A-1FC7-40E3-B83E-31DE8420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8A9-3CCC-4FDA-9518-3DC8BB4A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1233-A91D-4BD5-B38D-BD3DA69E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B57-4163-4D40-9D6A-8A141AE5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B8C3-56A8-45E6-A949-3D149A9C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F6A-5428-4657-95D3-205EB46F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4C46-3491-485E-BFAE-63EE15C05E6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marchas militares usa - 77 trombones - crÓnic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3 Marcador de contenido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3 Marcador de contenido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3 Marcador de contenido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3 Marcador de contenido" descr="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02:12:36Z</dcterms:created>
  <dc:creator>MARIPILI</dc:creator>
  <dc:description/>
  <dc:language>en-US</dc:language>
  <cp:lastModifiedBy>MARIPILI</cp:lastModifiedBy>
  <dcterms:modified xsi:type="dcterms:W3CDTF">2010-09-14T02:17:09Z</dcterms:modified>
  <cp:revision>1</cp:revision>
  <dc:subject/>
  <dc:title>Diapositiva 1</dc:title>
</cp:coreProperties>
</file>