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6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7.jpeg" ContentType="image/jpeg"/>
  <Override PartName="/ppt/media/Hakim%20-%20Tani.wav" ContentType="audio/x-wav"/>
  <Override PartName="/ppt/media/image17.gif" ContentType="image/gif"/>
  <Override PartName="/ppt/media/image21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53D-1840-454E-8160-DBB2D7DE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955-B09C-4AB7-AFB5-768C1E82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D87-78B7-4640-9C72-A79E4997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308-2DA8-4CAF-9D81-0BA321BD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BAA-5E7C-4673-B614-DB08BEE7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EED-62B3-4798-B271-2BCD5703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337-FE63-41E8-9AE0-E40B99EA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7C5-5C5A-4EB0-B0C9-51F1FBF3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456-1391-4241-807D-65848807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842-7E24-49E3-B6FF-235FDC88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CB4-9322-4035-9238-BFE12FE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CE3-BCDC-4799-8DE5-3287435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2127-5924-4073-91F5-DA713784ADA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Hakim%20-%20Tani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1844640"/>
            <a:ext cx="432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scenas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3357720"/>
            <a:ext cx="554508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la bod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5445000"/>
            <a:ext cx="792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s fotos que no se guardan en el album 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460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934920" cy="89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79640" y="54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Tani. Ha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  <p:sndAc>
      <p:stSnd>
        <p:snd r:embed="rId3" name="Hakim%20-%20T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203800" cy="6669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510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5761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 flipH="1" flipV="1">
            <a:off x="5508360" y="4508640"/>
            <a:ext cx="1368360" cy="180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0720" cy="6070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755640" y="1413000"/>
            <a:ext cx="1727280" cy="431640"/>
          </a:xfrm>
          <a:prstGeom prst="rightArrow">
            <a:avLst>
              <a:gd name="adj1" fmla="val 50000"/>
              <a:gd name="adj2" fmla="val 10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907920"/>
            <a:ext cx="35240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 tuvieron que "convencer"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40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705800" cy="5656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 txBox="1"/>
          <p:nvPr/>
        </p:nvSpPr>
        <p:spPr>
          <a:xfrm>
            <a:off x="1835280" y="260280"/>
            <a:ext cx="5381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l riesgo de casarse en la playa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00720" y="4437000"/>
            <a:ext cx="1917720" cy="35892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86900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6688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95612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79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964720" cy="5348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345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5811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57848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58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9784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44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594320" cy="6337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31960" y="746280"/>
            <a:ext cx="3880080" cy="5851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 txBox="1"/>
          <p:nvPr/>
        </p:nvSpPr>
        <p:spPr>
          <a:xfrm>
            <a:off x="2809800" y="189000"/>
            <a:ext cx="352440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mejor...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097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586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26068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1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7201080" cy="6424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5388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257040"/>
            <a:ext cx="6096240" cy="6343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1:05:08Z</dcterms:created>
  <dc:creator>rokko</dc:creator>
  <dc:description/>
  <dc:language>en-US</dc:language>
  <cp:lastModifiedBy>p</cp:lastModifiedBy>
  <dcterms:modified xsi:type="dcterms:W3CDTF">2008-06-07T12:15:59Z</dcterms:modified>
  <cp:revision>30</cp:revision>
  <dc:subject>www.ocramnaig.com</dc:subject>
  <dc:title>scene da  matrimoni</dc:title>
</cp:coreProperties>
</file>