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6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Hakim%20-%20Tani.wav" ContentType="audio/x-wav"/>
  <Override PartName="/ppt/media/image17.gif" ContentType="image/gif"/>
  <Override PartName="/ppt/media/image21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974-58CB-436A-9EA2-D1BC58D6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5A5-9C0A-4248-BBAA-5D91DDEE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F46-9BAE-4EA3-B343-E6751A90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4D0-5DB9-4339-BEE8-31DC8B05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010-B321-4DCA-AC6A-D1C0C845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8AB-78DE-4F6B-A1D2-E4175141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779-E8C6-400D-878D-546B48E9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970-640A-466F-988D-47A525DE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1E3-35E9-46D8-9F98-45CBF151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58E-83FC-4662-957B-521D559C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479-141D-4D30-9D6A-87D2777B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71E-639A-4169-8881-C56ADB2C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482-C97E-4784-A269-AEF3854880B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Hakim%20-%20Tani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1844640"/>
            <a:ext cx="43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scena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3357720"/>
            <a:ext cx="554508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la bod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5445000"/>
            <a:ext cx="792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s fotos que no se guardan en el album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460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934920" cy="89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9640" y="54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Tani. Ha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  <p:sndAc>
      <p:stSnd>
        <p:snd r:embed="rId3" name="Hakim%20-%20T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203800" cy="6669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510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761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 flipH="1" flipV="1">
            <a:off x="5508360" y="4508640"/>
            <a:ext cx="1368360" cy="180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0720" cy="607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755640" y="1413000"/>
            <a:ext cx="1727280" cy="431640"/>
          </a:xfrm>
          <a:prstGeom prst="rightArrow">
            <a:avLst>
              <a:gd name="adj1" fmla="val 50000"/>
              <a:gd name="adj2" fmla="val 10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907920"/>
            <a:ext cx="35240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 tuvieron que "convencer"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40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705800" cy="565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 txBox="1"/>
          <p:nvPr/>
        </p:nvSpPr>
        <p:spPr>
          <a:xfrm>
            <a:off x="1835280" y="260280"/>
            <a:ext cx="5381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 riesgo de casarse en la playa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0720" y="4437000"/>
            <a:ext cx="1917720" cy="3589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86900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6688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95612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79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964720" cy="5348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345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5811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57848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58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9784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44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594320" cy="6337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31960" y="746280"/>
            <a:ext cx="3880080" cy="5851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 txBox="1"/>
          <p:nvPr/>
        </p:nvSpPr>
        <p:spPr>
          <a:xfrm>
            <a:off x="2809800" y="189000"/>
            <a:ext cx="352440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mejor...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097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586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26068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1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7201080" cy="6424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5388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257040"/>
            <a:ext cx="6096240" cy="6343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1:05:08Z</dcterms:created>
  <dc:creator>rokko</dc:creator>
  <dc:description/>
  <dc:language>en-US</dc:language>
  <cp:lastModifiedBy>p</cp:lastModifiedBy>
  <dcterms:modified xsi:type="dcterms:W3CDTF">2008-06-07T12:15:59Z</dcterms:modified>
  <cp:revision>30</cp:revision>
  <dc:subject>www.ocramnaig.com</dc:subject>
  <dc:title>scene da  matrimoni</dc:title>
</cp:coreProperties>
</file>