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PLUGIN.WAV" ContentType="audio/x-wav"/>
  <Override PartName="/ppt/media/chimes.wav" ContentType="audio/x-wav"/>
  <Override PartName="/ppt/media/image6.jpeg" ContentType="image/jpeg"/>
  <Override PartName="/ppt/media/image13.jpeg" ContentType="image/jpeg"/>
  <Override PartName="/ppt/media/image1.jpeg" ContentType="image/jpeg"/>
  <Override PartName="/ppt/media/veni%20Dne%20noli%20tardarew.wav" ContentType="audio/x-wav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A482-C7B1-4BF7-AD59-9555867144D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6E8C-A911-45AA-AD7C-5F0906DAC0D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A077-63DE-4901-A3FA-C16228BB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A7A-5CFF-4207-8658-A0A69040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64C-2426-4A24-A080-D1116118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C5E-735C-48AA-9680-881C4444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10B3-DD33-4E5F-B5D2-4272BC70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9D21-4167-4AE7-AEF0-47D3EB90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50E-52A0-4A15-8B15-61527724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2377-B229-49D4-979B-C53A1A9B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AC3-6D8F-4CAC-8CA0-0AF49331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100-D32C-4750-9B74-A0F22017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6644-37BF-4A7D-AF0A-04F5E376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EE5A-E12B-4921-AECB-1BDD7D25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3A65-9F6B-466C-A099-BA4479CE8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veni%20Dne%20noli%20tardare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chimes.wav"/><Relationship Id="rId10" Type="http://schemas.openxmlformats.org/officeDocument/2006/relationships/audio" Target="../media/PLUGIN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9 Imagen" descr="resized_Arbel78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7"/>
          <p:cNvSpPr/>
          <p:nvPr/>
        </p:nvSpPr>
        <p:spPr>
          <a:xfrm>
            <a:off x="7328880" y="160200"/>
            <a:ext cx="1599480" cy="627480"/>
          </a:xfrm>
          <a:prstGeom prst="rect">
            <a:avLst/>
          </a:prstGeom>
          <a:solidFill>
            <a:srgbClr val="ddeaa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Galil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571680" y="1106640"/>
            <a:ext cx="701172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b61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b61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94400" y="27273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b3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0" y="335772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db32d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db32d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1214280" y="5786280"/>
            <a:ext cx="7012080" cy="76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eaa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deaa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WordArt 8"/>
          <p:cNvSpPr txBox="1"/>
          <p:nvPr/>
        </p:nvSpPr>
        <p:spPr>
          <a:xfrm>
            <a:off x="1143000" y="110664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782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 1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d782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94400" y="27147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500040" y="3357720"/>
            <a:ext cx="82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b61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b61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WordArt 12"/>
          <p:cNvSpPr txBox="1"/>
          <p:nvPr/>
        </p:nvSpPr>
        <p:spPr>
          <a:xfrm>
            <a:off x="1143000" y="5715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42920" y="47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2d050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42920" y="4857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3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0" y="0"/>
            <a:ext cx="5429160" cy="100764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scuchemos “Veni Domine” con el deseo de seguir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3" name="veni%20Dne%20noli%20tardare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12" dur="1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14" dur="8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6" dur="1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18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20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28760" y="928800"/>
            <a:ext cx="8143920" cy="4239000"/>
          </a:xfrm>
          <a:prstGeom prst="rect">
            <a:avLst/>
          </a:prstGeom>
          <a:solidFill>
            <a:srgbClr val="ffffb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VOCACIONES en este nuevo INICIO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mo al empezar la misión en Galilea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 no tener donde reclinarnos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  A vivir atraídos por el Rein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 mirar siempre hacia del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0880" y="380880"/>
            <a:ext cx="8358480" cy="61887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ientras iban de camino, le dijo uno: "Te seguiré adonde vayas."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791320" y="1500120"/>
            <a:ext cx="304776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¿Llevamos tu nombre en el vestido o en el corazó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57120" y="500040"/>
            <a:ext cx="842976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ólo Tú nos haces felices 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(salm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7 Imagen" descr="samarreta.jpg"/>
          <p:cNvPicPr/>
          <p:nvPr/>
        </p:nvPicPr>
        <p:blipFill>
          <a:blip r:embed="rId2"/>
          <a:stretch/>
        </p:blipFill>
        <p:spPr>
          <a:xfrm>
            <a:off x="344520" y="1500120"/>
            <a:ext cx="5299200" cy="51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571680" y="142920"/>
            <a:ext cx="8072280" cy="64947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le respondió: "Las zorras tienen madriguera, y los pájaros nido, pero el Hijo del hombre no tiene donde reclinar la cabeza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80" descr="C:\Documents and Settings\st benet\Mis documentos\Mis imágenes\persones\mans i peus\resized_mansocell2.jpg"/>
          <p:cNvPicPr/>
          <p:nvPr/>
        </p:nvPicPr>
        <p:blipFill>
          <a:blip r:embed="rId2"/>
          <a:stretch/>
        </p:blipFill>
        <p:spPr>
          <a:xfrm>
            <a:off x="190440" y="214200"/>
            <a:ext cx="7239240" cy="5429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4214880" y="5929200"/>
            <a:ext cx="4643280" cy="62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</a:rPr>
              <a:t>Frágiles como Tú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143680" y="2976480"/>
            <a:ext cx="3714480" cy="2714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Viviendo a la intemperie, sin nidos ni madriguera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838080" y="838080"/>
            <a:ext cx="7643880" cy="448308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otro le dijo: "Sígueme."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5 Imagen" descr="Imagen19c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14200" y="428760"/>
            <a:ext cx="7837560" cy="5433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228600" y="5965920"/>
            <a:ext cx="877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Sin distinciones de razas o relig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214800" y="214200"/>
            <a:ext cx="585792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ú invitas a TO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304920" y="152280"/>
            <a:ext cx="8839080" cy="585468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 respondió: "Déjame primero ir a enterrar a mi padre." Le contestó: "Deja que los muertos entierren a sus muertos; tú vete a anunciar el reino de Dios."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6 Imagen" descr="parkminstermain.jpeg"/>
          <p:cNvPicPr/>
          <p:nvPr/>
        </p:nvPicPr>
        <p:blipFill>
          <a:blip r:embed="rId2"/>
          <a:stretch/>
        </p:blipFill>
        <p:spPr>
          <a:xfrm>
            <a:off x="1071720" y="1714680"/>
            <a:ext cx="7858080" cy="44035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142920" y="214200"/>
            <a:ext cx="750096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ígueme convirtiendo la Vida en muerte, y la Muerte en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42920" y="5942160"/>
            <a:ext cx="4572000" cy="62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</a:rPr>
              <a:t>¿Vas en pos de Mi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685800" y="228600"/>
            <a:ext cx="7848720" cy="612684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tro le dijo: "Te seguiré, Señor. Pero déjame primero despedirme de mi familia."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85840" y="357120"/>
            <a:ext cx="8572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La 1a PARTE (Lc4-8) es la obra de Jesús en Galilea, 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ahora (Lc9-18) empieza el CAMINO hacia JERUSALÉ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500040" y="1571760"/>
            <a:ext cx="8143920" cy="1464480"/>
          </a:xfrm>
          <a:prstGeom prst="rect">
            <a:avLst/>
          </a:prstGeom>
          <a:solidFill>
            <a:srgbClr val="017904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s-ES" sz="3000" spc="-1" strike="noStrike">
                <a:solidFill>
                  <a:srgbClr val="cccc00"/>
                </a:solidFill>
                <a:latin typeface="Arial"/>
                <a:ea typeface="Arial"/>
              </a:rPr>
              <a:t>CAMINO de CONVERSIÓN  Lc 9,51   a  13,21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00040" y="3500280"/>
            <a:ext cx="8143920" cy="2837160"/>
          </a:xfrm>
          <a:prstGeom prst="rect">
            <a:avLst/>
          </a:prstGeom>
          <a:solidFill>
            <a:srgbClr val="ffffb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oy es el inicio del Cami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   Paso por la Samaría “pagana”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  Tres Vocaciones a la convers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57120" y="3571920"/>
            <a:ext cx="3214800" cy="1922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Cierra la puerta detrás de 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4 Imagen" descr="portab.jpg"/>
          <p:cNvPicPr/>
          <p:nvPr/>
        </p:nvPicPr>
        <p:blipFill>
          <a:blip r:embed="rId2"/>
          <a:stretch/>
        </p:blipFill>
        <p:spPr>
          <a:xfrm>
            <a:off x="4000680" y="142920"/>
            <a:ext cx="5000400" cy="64292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214200" y="5864400"/>
            <a:ext cx="8624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Mira el Reino que tienes dela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685800" y="533520"/>
            <a:ext cx="7848720" cy="55803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le contestó: "El que echa mano al arado y sigue mirando atrás no vale para el reino de Dios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4 Imagen" descr="nunsmain.jpe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2268360"/>
            <a:ext cx="9144000" cy="38037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214200" y="6006960"/>
            <a:ext cx="6720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¿Hacia dónde mir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71680" y="214200"/>
            <a:ext cx="8501040" cy="1922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Es necio el que durante el camino se entretetiene alejándose de la meta </a:t>
            </a: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(San Gregorio Magn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857160" y="928800"/>
            <a:ext cx="7643880" cy="496836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Arial"/>
              </a:rPr>
              <a:t>Ayúdanos, Señor, a seguir tu llamada hacia</a:t>
            </a:r>
            <a:br>
              <a:rPr sz="48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Arial"/>
              </a:rPr>
              <a:t> el CAMINO de conversión, sin </a:t>
            </a:r>
            <a:br>
              <a:rPr sz="48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Arial"/>
              </a:rPr>
              <a:t>cálculos ni previsi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571680" y="28584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7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2 Marcador de fecha"/>
          <p:cNvSpPr/>
          <p:nvPr/>
        </p:nvSpPr>
        <p:spPr>
          <a:xfrm>
            <a:off x="857160" y="5143680"/>
            <a:ext cx="3214800" cy="1214280"/>
          </a:xfrm>
          <a:prstGeom prst="rect">
            <a:avLst/>
          </a:prstGeom>
          <a:solidFill>
            <a:srgbClr val="db640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05CC-129D-4C76-B383-041A962A9A4B}" type="datetime2"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riday, July 31, 20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5 Imagen" descr="PozzoEbalBig.jpg"/>
          <p:cNvPicPr/>
          <p:nvPr/>
        </p:nvPicPr>
        <p:blipFill>
          <a:blip r:embed="rId2"/>
          <a:stretch/>
        </p:blipFill>
        <p:spPr>
          <a:xfrm>
            <a:off x="-3983040" y="-142920"/>
            <a:ext cx="17613360" cy="7000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500040" y="160200"/>
            <a:ext cx="7729560" cy="550800"/>
          </a:xfrm>
          <a:prstGeom prst="rect">
            <a:avLst/>
          </a:prstGeom>
          <a:solidFill>
            <a:srgbClr val="29292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Siquem, de CAMINO hacia Samar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990720" y="5857920"/>
            <a:ext cx="7224480" cy="703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Hacia la plenitud de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743 -0.01064 L 0.72066 0.01042 E">
                                      <p:cBhvr>
                                        <p:cTn id="47" dur="20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04920" y="457200"/>
            <a:ext cx="8305560" cy="512244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9, 51-62 Cuando se iba cumpliendo el tiempo de ser llevado al cielo, Jesús tomó la decisión de ir a Jerusalén.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42920" y="6161040"/>
            <a:ext cx="50007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Camino hacia Jerusalé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7" descr="C:\Documents and Settings\st benet\Mis documentos\Mis imágenes\cristdéu\crist cat\crisrom devall taullt.jpg"/>
          <p:cNvPicPr/>
          <p:nvPr/>
        </p:nvPicPr>
        <p:blipFill>
          <a:blip r:embed="rId2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5500800" y="1428840"/>
            <a:ext cx="3214440" cy="37508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 decisión vas hacia tu FIN, que para ti es un Nuevo in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214880" y="5413320"/>
            <a:ext cx="4786200" cy="122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La muerte a tu lado nos ilumina la vid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228600" y="228600"/>
            <a:ext cx="8915400" cy="585468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envió mensajeros por delante. De camino, entraron en una aldea de Samaria para prepararle alojamiento. Pero no lo recibieron, porque se dirigía a Jerusalén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5 Imagen" descr="voy_070302a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95400" y="1429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5929200" y="857160"/>
            <a:ext cx="3000600" cy="43603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luso Jerusalén, la ciudad de Dios, nos opone entre n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857240" y="5357880"/>
            <a:ext cx="71438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isto quiere que la religión nos haga libres </a:t>
            </a:r>
            <a:r>
              <a:rPr b="1" lang="en-US" sz="4000" spc="-1" strike="noStrike">
                <a:solidFill>
                  <a:srgbClr val="fa620e"/>
                </a:solidFill>
                <a:latin typeface="Arial"/>
              </a:rPr>
              <a:t>(2a lectu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14200" y="214200"/>
            <a:ext cx="264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</a:rPr>
              <a:t>Samaritan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500040" y="357120"/>
            <a:ext cx="8429760" cy="594324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 ver esto, Santiago y Juan, discípulos suyos, le preguntaron: "Señor, ¿quieres que mandemos bajar fuego del cielo que acabe con ellos?" Él se volvió y les regañó. Y se marcharon a otra aldea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4 Imagen" descr="voy_070302k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714760" y="714240"/>
            <a:ext cx="6262560" cy="4697640"/>
          </a:xfrm>
          <a:prstGeom prst="rect">
            <a:avLst/>
          </a:prstGeom>
          <a:ln w="0">
            <a:noFill/>
          </a:ln>
        </p:spPr>
      </p:pic>
      <p:pic>
        <p:nvPicPr>
          <p:cNvPr id="84" name="5 Imagen" descr="SB foc8w.JPG"/>
          <p:cNvPicPr/>
          <p:nvPr/>
        </p:nvPicPr>
        <p:blipFill>
          <a:blip r:embed="rId3"/>
          <a:stretch/>
        </p:blipFill>
        <p:spPr>
          <a:xfrm>
            <a:off x="3429000" y="0"/>
            <a:ext cx="5715000" cy="5924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357120" y="571680"/>
            <a:ext cx="3286080" cy="37508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os nos ha ungido PROFETAS del bien 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(1a lectura)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, no del 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42920" y="4714920"/>
            <a:ext cx="69292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 para hacer bajar fuego, sino para apagar todos los que nos con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Usuario</cp:lastModifiedBy>
  <dcterms:modified xsi:type="dcterms:W3CDTF">2010-06-23T09:55:43Z</dcterms:modified>
  <cp:revision>293</cp:revision>
  <dc:subject>stbenet@benedictinescat.com</dc:subject>
  <dc:title>evangelio</dc:title>
</cp:coreProperties>
</file>