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PLUGIN.WAV" ContentType="audio/x-wav"/>
  <Override PartName="/ppt/media/chimes.wav" ContentType="audio/x-wav"/>
  <Override PartName="/ppt/media/image6.jpeg" ContentType="image/jpeg"/>
  <Override PartName="/ppt/media/image13.jpeg" ContentType="image/jpeg"/>
  <Override PartName="/ppt/media/image1.jpeg" ContentType="image/jpeg"/>
  <Override PartName="/ppt/media/veni%20Dne%20noli%20tardarew.wav" ContentType="audio/x-wav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72D9-C6DC-4257-951E-7CD76A284D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8F24-64F9-4AED-A6F4-824406A3A8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C91-AF0A-46BD-80CF-DAA632E3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41E-8DBB-4BA9-8778-1698B2FC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18E-A0A6-4BF9-BBB2-80F74503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9E3-50B7-4605-882D-24C3D4D7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606-D8FF-4D15-8991-64042370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FDA-7023-4B74-9272-35734F89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0C0-308A-4144-9593-03F418E8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9E0-5D2E-4C70-BA0C-33DC441E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AF8-D38A-49E2-8E65-11B91E67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952-EEE0-4700-AFDA-E438020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EB8-9858-4763-B6AF-8543ED7D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322-676D-4AC0-B982-0373897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AB6B-4B9D-4165-9ABA-CE3AF67EB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veni%20Dne%20noli%20tardare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71680" y="110664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143000" y="1106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782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782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94400" y="27147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0" y="0"/>
            <a:ext cx="542916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scuchemos “Veni Domine” con el deseo de seguir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veni%20Dne%20noli%20tardar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12" dur="1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14" dur="8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6" dur="1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8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28760" y="928800"/>
            <a:ext cx="8143920" cy="423900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OCACIONES en este nuevo INICIO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mo al empezar la misión en Galilea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no tener donde reclinarnos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 A vivir atraídos por el Rei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 mirar siempre hacia del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0880" y="380880"/>
            <a:ext cx="8358480" cy="6188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entras iban de camino, le dijo uno: "Te seguiré adonde vayas."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791320" y="1500120"/>
            <a:ext cx="304776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Llevamos tu nombre en el vestido o en el coraz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ólo Tú nos haces felices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sal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7 Imagen" descr="samarreta.jpg"/>
          <p:cNvPicPr/>
          <p:nvPr/>
        </p:nvPicPr>
        <p:blipFill>
          <a:blip r:embed="rId2"/>
          <a:stretch/>
        </p:blipFill>
        <p:spPr>
          <a:xfrm>
            <a:off x="344520" y="1500120"/>
            <a:ext cx="529920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571680" y="142920"/>
            <a:ext cx="8072280" cy="64947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respondió: "Las zorras tienen madriguera, y los pájaros nido, pero el Hijo del hombre no tiene donde reclinar la cabeza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0" descr="C:\Documents and Settings\st benet\Mis documentos\Mis imágenes\persones\mans i peus\resized_mansocell2.jpg"/>
          <p:cNvPicPr/>
          <p:nvPr/>
        </p:nvPicPr>
        <p:blipFill>
          <a:blip r:embed="rId2"/>
          <a:stretch/>
        </p:blipFill>
        <p:spPr>
          <a:xfrm>
            <a:off x="190440" y="214200"/>
            <a:ext cx="7239240" cy="5429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214880" y="5929200"/>
            <a:ext cx="464328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Frágiles como Tú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143680" y="2976480"/>
            <a:ext cx="3714480" cy="2714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Viviendo a la intemperie, sin nidos ni madriguera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838080" y="838080"/>
            <a:ext cx="7643880" cy="44830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otro le dijo: "Sígueme."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5 Imagen" descr="Imagen19c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14200" y="428760"/>
            <a:ext cx="7837560" cy="5433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28600" y="5965920"/>
            <a:ext cx="877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Sin distinciones de razas o relig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14800" y="214200"/>
            <a:ext cx="585792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 invitas a TO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04920" y="152280"/>
            <a:ext cx="8839080" cy="58546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respondió: "Déjame primero ir a enterrar a mi padre." Le contestó: "Deja que los muertos entierren a sus muertos; tú vete a anunciar el reino de Dios."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6 Imagen" descr="parkminstermain.jpeg"/>
          <p:cNvPicPr/>
          <p:nvPr/>
        </p:nvPicPr>
        <p:blipFill>
          <a:blip r:embed="rId2"/>
          <a:stretch/>
        </p:blipFill>
        <p:spPr>
          <a:xfrm>
            <a:off x="1071720" y="1714680"/>
            <a:ext cx="7858080" cy="4403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42920" y="214200"/>
            <a:ext cx="750096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ígueme convirtiendo la Vida en muerte, y la Muerte en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2920" y="5942160"/>
            <a:ext cx="457200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¿Vas en pos de Mi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85800" y="228600"/>
            <a:ext cx="7848720" cy="61268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tro le dijo: "Te seguiré, Señor. Pero déjame primero despedirme de mi familia.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85840" y="357120"/>
            <a:ext cx="857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La 1a PARTE (Lc4-8) es la obra de Jesús en Galilea, 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ahora (Lc9-18) empieza el CAMINO hacia JERUSALÉ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00040" y="1571760"/>
            <a:ext cx="8143920" cy="1464480"/>
          </a:xfrm>
          <a:prstGeom prst="rect">
            <a:avLst/>
          </a:prstGeom>
          <a:solidFill>
            <a:srgbClr val="017904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s-ES" sz="3000" spc="-1" strike="noStrike">
                <a:solidFill>
                  <a:srgbClr val="cccc00"/>
                </a:solidFill>
                <a:latin typeface="Arial"/>
                <a:ea typeface="Arial"/>
              </a:rPr>
              <a:t>CAMINO de CONVERSIÓN  Lc 9,51   a  13,2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00040" y="3500280"/>
            <a:ext cx="8143920" cy="283716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oy es el inicio del Cami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  Paso por la Samaría “pagana”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  Tres Vocaciones a la convers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57120" y="3571920"/>
            <a:ext cx="321480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Cierra la puerta detrás de 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4 Imagen" descr="portab.jpg"/>
          <p:cNvPicPr/>
          <p:nvPr/>
        </p:nvPicPr>
        <p:blipFill>
          <a:blip r:embed="rId2"/>
          <a:stretch/>
        </p:blipFill>
        <p:spPr>
          <a:xfrm>
            <a:off x="4000680" y="142920"/>
            <a:ext cx="5000400" cy="6429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214200" y="5864400"/>
            <a:ext cx="8624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Mira el Reino que tienes del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685800" y="533520"/>
            <a:ext cx="7848720" cy="55803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contestó: "El que echa mano al arado y sigue mirando atrás no vale para el reino de Dio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 Imagen" descr="nunsmain.jpe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226836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214200" y="6006960"/>
            <a:ext cx="6720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Hacia dónde mi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71680" y="214200"/>
            <a:ext cx="850104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Es necio el que durante el camino se entretetiene alejándose de la meta </a:t>
            </a: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(San Gregorio Magn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57160" y="928800"/>
            <a:ext cx="7643880" cy="4968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Ayúdanos, Señor, a seguir tu llamada hacia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 el CAMINO de conversión, sin </a:t>
            </a:r>
            <a:br>
              <a:rPr sz="4800"/>
            </a:b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cálculos ni previsi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71680" y="28584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2 Marcador de fecha"/>
          <p:cNvSpPr/>
          <p:nvPr/>
        </p:nvSpPr>
        <p:spPr>
          <a:xfrm>
            <a:off x="857160" y="5143680"/>
            <a:ext cx="3214800" cy="1214280"/>
          </a:xfrm>
          <a:prstGeom prst="rect">
            <a:avLst/>
          </a:prstGeom>
          <a:solidFill>
            <a:srgbClr val="db640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D430-E69B-45AB-9300-CF770F7C4448}" type="datetime2"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dnesday, July 29, 20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 Imagen" descr="PozzoEbalBig.jpg"/>
          <p:cNvPicPr/>
          <p:nvPr/>
        </p:nvPicPr>
        <p:blipFill>
          <a:blip r:embed="rId2"/>
          <a:stretch/>
        </p:blipFill>
        <p:spPr>
          <a:xfrm>
            <a:off x="-3983040" y="-142920"/>
            <a:ext cx="17613360" cy="7000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500040" y="160200"/>
            <a:ext cx="7729560" cy="550800"/>
          </a:xfrm>
          <a:prstGeom prst="rect">
            <a:avLst/>
          </a:prstGeom>
          <a:solidFill>
            <a:srgbClr val="29292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Siquem, de CAMINO hacia Samar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990720" y="5857920"/>
            <a:ext cx="7224480" cy="703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Hacia la plenitu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743 -0.01064 L 0.72066 0.01042 E">
                                      <p:cBhvr>
                                        <p:cTn id="47" dur="20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04920" y="457200"/>
            <a:ext cx="8305560" cy="51224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9, 51-62 Cuando se iba cumpliendo el tiempo de ser llevado al cielo, Jesús tomó la decisión de ir a Jerusalén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42920" y="6161040"/>
            <a:ext cx="50007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amino hacia Jerusa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7" descr="C:\Documents and Settings\st benet\Mis documentos\Mis imágenes\cristdéu\crist cat\crisrom devall taullt.jpg"/>
          <p:cNvPicPr/>
          <p:nvPr/>
        </p:nvPicPr>
        <p:blipFill>
          <a:blip r:embed="rId2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500800" y="1428840"/>
            <a:ext cx="3214440" cy="3750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 decisión vas hacia tu FIN, que para ti es un Nuevo in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214880" y="5413320"/>
            <a:ext cx="478620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La muerte a tu lado nos ilumina la vi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228600" y="228600"/>
            <a:ext cx="8915400" cy="58546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nvió mensajeros por delante. De camino, entraron en una aldea de Samaria para prepararle alojamiento. Pero no lo recibieron, porque se dirigía a Jerusalén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5 Imagen" descr="voy_070302a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95400" y="142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5929200" y="857160"/>
            <a:ext cx="300060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luso Jerusalén, la ciudad de Dios, nos opone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857240" y="5357880"/>
            <a:ext cx="7143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sto quiere que la religión nos haga libres </a:t>
            </a:r>
            <a:r>
              <a:rPr b="1" lang="en-US" sz="4000" spc="-1" strike="noStrike">
                <a:solidFill>
                  <a:srgbClr val="fa620e"/>
                </a:solidFill>
                <a:latin typeface="Arial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14200" y="214200"/>
            <a:ext cx="264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Samarita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500040" y="357120"/>
            <a:ext cx="8429760" cy="59432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ver esto, Santiago y Juan, discípulos suyos, le preguntaron: "Señor, ¿quieres que mandemos bajar fuego del cielo que acabe con ellos?" Él se volvió y les regañó. Y se marcharon a otra alde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 Imagen" descr="voy_070302k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714760" y="714240"/>
            <a:ext cx="6262560" cy="4697640"/>
          </a:xfrm>
          <a:prstGeom prst="rect">
            <a:avLst/>
          </a:prstGeom>
          <a:ln w="0">
            <a:noFill/>
          </a:ln>
        </p:spPr>
      </p:pic>
      <p:pic>
        <p:nvPicPr>
          <p:cNvPr id="84" name="5 Imagen" descr="SB foc8w.JPG"/>
          <p:cNvPicPr/>
          <p:nvPr/>
        </p:nvPicPr>
        <p:blipFill>
          <a:blip r:embed="rId3"/>
          <a:stretch/>
        </p:blipFill>
        <p:spPr>
          <a:xfrm>
            <a:off x="3429000" y="0"/>
            <a:ext cx="5715000" cy="592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57120" y="571680"/>
            <a:ext cx="3286080" cy="3750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os nos ha ungido PROFETAS del bien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1a lectura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no del 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42920" y="4714920"/>
            <a:ext cx="6929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para hacer bajar fuego, sino para apagar todos los que nos con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6-23T09:55:43Z</dcterms:modified>
  <cp:revision>293</cp:revision>
  <dc:subject>stbenet@benedictinescat.com</dc:subject>
  <dc:title>evangelio</dc:title>
</cp:coreProperties>
</file>