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95FB-D32C-479D-91AF-F48A75FFE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8CBB-1EE4-4717-AE4F-CB399612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FC07-962F-4BAA-9BA9-1B0D76393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A1ED-29F7-412A-B8B7-0A255906E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4C8D-1677-4F00-9AC9-59DA26A5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3407-2DB5-4847-A131-EB3B8A2C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0F98-FB11-4ED6-9CE4-AF532E72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4E7A-2E78-4B7B-987F-335A026F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36EB-5F77-4EA9-9BE6-B535C656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A3B7-5978-4B4F-ACA5-CF22C1F0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6A00-D8A3-4A9B-8216-163BC907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1A48-0158-4850-A1DF-6EAE6286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4596-2C7E-41F9-BD35-60688C86CFC6}" type="slidenum">
              <a:rPr b="0" lang="es-P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3 Rectángulo"/>
          <p:cNvSpPr/>
          <p:nvPr/>
        </p:nvSpPr>
        <p:spPr>
          <a:xfrm>
            <a:off x="103968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4 Rectángulo"/>
          <p:cNvSpPr/>
          <p:nvPr/>
        </p:nvSpPr>
        <p:spPr>
          <a:xfrm>
            <a:off x="103968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5 Rectángulo" descr=""/>
          <p:cNvPicPr/>
          <p:nvPr/>
        </p:nvPicPr>
        <p:blipFill>
          <a:blip r:embed="rId1"/>
          <a:stretch/>
        </p:blipFill>
        <p:spPr>
          <a:xfrm>
            <a:off x="-590400" y="-665280"/>
            <a:ext cx="10324800" cy="7493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D:\Administrador\Mis documentos\FULL PROMO\full promo xxxvii\003289_107584_PRODUCTO.jpg"/>
          <p:cNvPicPr/>
          <p:nvPr/>
        </p:nvPicPr>
        <p:blipFill>
          <a:blip r:embed="rId2"/>
          <a:stretch/>
        </p:blipFill>
        <p:spPr>
          <a:xfrm>
            <a:off x="2071800" y="2428920"/>
            <a:ext cx="1028520" cy="1217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D:\Administrador\Mis documentos\FULL PROMO\full promo xxxvii\a45543756493_1401058_7058.jpg"/>
          <p:cNvPicPr/>
          <p:nvPr/>
        </p:nvPicPr>
        <p:blipFill>
          <a:blip r:embed="rId3"/>
          <a:stretch/>
        </p:blipFill>
        <p:spPr>
          <a:xfrm>
            <a:off x="5929200" y="2428920"/>
            <a:ext cx="1006560" cy="1185840"/>
          </a:xfrm>
          <a:prstGeom prst="rect">
            <a:avLst/>
          </a:prstGeom>
          <a:ln w="0">
            <a:noFill/>
          </a:ln>
        </p:spPr>
      </p:pic>
      <p:pic>
        <p:nvPicPr>
          <p:cNvPr id="48" name="emilio pericolli - al di la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7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70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D:\Administrador\Mis documentos\FOTOS-NIKON\ALMUERZO MARISTA SAN ISIDRO\COSTA VERDE-MARISTAS SAN  ISIDRO 026.jpg"/>
          <p:cNvPicPr/>
          <p:nvPr/>
        </p:nvPicPr>
        <p:blipFill>
          <a:blip r:embed="rId3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D:\Administrador\Mis documentos\FOTOS-NIKON\ALMUERZO MARISTA SAN ISIDRO\COSTA VERDE-MARISTAS SAN  ISIDRO 019.jpg"/>
          <p:cNvPicPr/>
          <p:nvPr/>
        </p:nvPicPr>
        <p:blipFill>
          <a:blip r:embed="rId3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D:\Administrador\Mis documentos\FOTOS-NIKON\ALMUERZO MARISTA SAN ISIDRO\COSTA VERDE-MARISTAS SAN  ISIDRO 01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D:\Administrador\Mis documentos\FOTOS-NIKON\ALMUERZO MARISTA SAN ISIDRO\COSTA VERDE-MARISTAS SAN  ISIDRO 017.jpg"/>
          <p:cNvPicPr/>
          <p:nvPr/>
        </p:nvPicPr>
        <p:blipFill>
          <a:blip r:embed="rId3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D:\Administrador\Mis documentos\FOTOS-NIKON\ALMUERZO MARISTA SAN ISIDRO\COSTA VERDE-MARISTAS SAN  ISIDRO 022.jpg"/>
          <p:cNvPicPr/>
          <p:nvPr/>
        </p:nvPicPr>
        <p:blipFill>
          <a:blip r:embed="rId3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D:\Administrador\Mis documentos\FOTOS-NIKON\ALMUERZO MARISTA SAN ISIDRO\COSTA VERDE-MARISTAS SAN  ISIDRO 004.jpg"/>
          <p:cNvPicPr/>
          <p:nvPr/>
        </p:nvPicPr>
        <p:blipFill>
          <a:blip r:embed="rId3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7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3 Rectángulo" descr=""/>
          <p:cNvPicPr/>
          <p:nvPr/>
        </p:nvPicPr>
        <p:blipFill>
          <a:blip r:embed="rId1"/>
          <a:stretch/>
        </p:blipFill>
        <p:spPr>
          <a:xfrm>
            <a:off x="-6480" y="103320"/>
            <a:ext cx="9156960" cy="6546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571680" y="-1857240"/>
            <a:ext cx="8229600" cy="66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D:\Administrador\Mis documentos\FOTOS-NIKON\ALMUERZO MARISTA SAN ISIDRO\COSTA VERDE-MARISTAS SAN  ISIDRO 02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D:\Administrador\Mis documentos\FOTOS-NIKON\ALMUERZO MARISTA SAN ISIDRO\COSTA VERDE-MARISTAS SAN  ISIDRO 009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D:\Administrador\Mis documentos\FOTOS-NIKON\ALMUERZO MARISTA SAN ISIDRO\COSTA VERDE-MARISTAS SAN  ISIDRO 005.jpg"/>
          <p:cNvPicPr/>
          <p:nvPr/>
        </p:nvPicPr>
        <p:blipFill>
          <a:blip r:embed="rId3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D:\Administrador\Mis documentos\FOTOS-NIKON\ALMUERZO MARISTA SAN ISIDRO\COSTA VERDE-MARISTAS SAN  ISIDRO 02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D:\Administrador\Mis documentos\FOTOS-NIKON\ALMUERZO MARISTA SAN ISIDRO\COSTA VERDE-MARISTAS SAN  ISIDRO 002.jpg"/>
          <p:cNvPicPr/>
          <p:nvPr/>
        </p:nvPicPr>
        <p:blipFill>
          <a:blip r:embed="rId3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D:\Administrador\Mis documentos\FOTOS-NIKON\ALMUERZO MARISTA SAN ISIDRO\COSTA VERDE-MARISTAS SAN  ISIDRO 010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D:\Administrador\Mis documentos\FOTOS-NIKON\ALMUERZO MARISTA SAN ISIDRO\COSTA VERDE-MARISTAS SAN  ISIDRO 021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D:\Administrador\Mis documentos\FOTOS-NIKON\ALMUERZO MARISTA SAN ISIDRO\COSTA VERDE-MARISTAS SAN  ISIDRO 012.jpg"/>
          <p:cNvPicPr/>
          <p:nvPr/>
        </p:nvPicPr>
        <p:blipFill>
          <a:blip r:embed="rId3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05:22:11Z</dcterms:created>
  <dc:creator>Franklin2</dc:creator>
  <dc:description/>
  <dc:language>en-US</dc:language>
  <cp:lastModifiedBy>Franklin2</cp:lastModifiedBy>
  <dcterms:modified xsi:type="dcterms:W3CDTF">2010-11-16T15:22:02Z</dcterms:modified>
  <cp:revision>18</cp:revision>
  <dc:subject/>
  <dc:title>Diapositiva 1</dc:title>
</cp:coreProperties>
</file>