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C66-B902-4A4F-AA6F-B45130E2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80C-1DA0-433A-96AF-3290570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4FF-E272-4FD3-9BFD-651E75B1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E4B-5EFB-49F7-8493-4820CEA0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6E9-ED79-4149-A70E-2584A6E6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B42-219D-4C58-BB4E-76CF4F6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66F-C91C-4246-A98E-3ECD90A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E15-CB06-4C07-B37D-EBC6E8E9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160-F01E-4227-8CFF-6795047A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545-69A5-43C0-AFB6-FEB417D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C4B-E7A7-4F93-AE02-D74F52B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D57-75F9-48E1-9469-88AEE30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3EF8-BF70-4109-8709-6006FDB7326A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3 Rectángulo"/>
          <p:cNvSpPr/>
          <p:nvPr/>
        </p:nvSpPr>
        <p:spPr>
          <a:xfrm>
            <a:off x="10396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4 Rectángulo"/>
          <p:cNvSpPr/>
          <p:nvPr/>
        </p:nvSpPr>
        <p:spPr>
          <a:xfrm>
            <a:off x="10396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5 Rectángulo" descr=""/>
          <p:cNvPicPr/>
          <p:nvPr/>
        </p:nvPicPr>
        <p:blipFill>
          <a:blip r:embed="rId1"/>
          <a:stretch/>
        </p:blipFill>
        <p:spPr>
          <a:xfrm>
            <a:off x="-590400" y="-665280"/>
            <a:ext cx="10324800" cy="749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Administrador\Mis documentos\FULL PROMO\full promo xxxvii\003289_107584_PRODUCTO.jpg"/>
          <p:cNvPicPr/>
          <p:nvPr/>
        </p:nvPicPr>
        <p:blipFill>
          <a:blip r:embed="rId2"/>
          <a:stretch/>
        </p:blipFill>
        <p:spPr>
          <a:xfrm>
            <a:off x="2071800" y="2428920"/>
            <a:ext cx="1028520" cy="121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Administrador\Mis documentos\FULL PROMO\full promo xxxvii\a45543756493_1401058_7058.jpg"/>
          <p:cNvPicPr/>
          <p:nvPr/>
        </p:nvPicPr>
        <p:blipFill>
          <a:blip r:embed="rId3"/>
          <a:stretch/>
        </p:blipFill>
        <p:spPr>
          <a:xfrm>
            <a:off x="5929200" y="2428920"/>
            <a:ext cx="1006560" cy="1185840"/>
          </a:xfrm>
          <a:prstGeom prst="rect">
            <a:avLst/>
          </a:prstGeom>
          <a:ln w="0">
            <a:noFill/>
          </a:ln>
        </p:spPr>
      </p:pic>
      <p:pic>
        <p:nvPicPr>
          <p:cNvPr id="48" name="emilio pericolli - al di la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Administrador\Mis documentos\FOTOS-NIKON\ALMUERZO MARISTA SAN ISIDRO\COSTA VERDE-MARISTAS SAN  ISIDRO 026.jp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Administrador\Mis documentos\FOTOS-NIKON\ALMUERZO MARISTA SAN ISIDRO\COSTA VERDE-MARISTAS SAN  ISIDRO 019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Administrador\Mis documentos\FOTOS-NIKON\ALMUERZO MARISTA SAN ISIDRO\COSTA VERDE-MARISTAS SAN  ISIDRO 01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Administrador\Mis documentos\FOTOS-NIKON\ALMUERZO MARISTA SAN ISIDRO\COSTA VERDE-MARISTAS SAN  ISIDRO 017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Administrador\Mis documentos\FOTOS-NIKON\ALMUERZO MARISTA SAN ISIDRO\COSTA VERDE-MARISTAS SAN  ISIDRO 022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Administrador\Mis documentos\FOTOS-NIKON\ALMUERZO MARISTA SAN ISIDRO\COSTA VERDE-MARISTAS SAN  ISIDRO 004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3 Rectángulo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654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71680" y="-1857240"/>
            <a:ext cx="8229600" cy="66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Administrador\Mis documentos\FOTOS-NIKON\ALMUERZO MARISTA SAN ISIDRO\COSTA VERDE-MARISTAS SAN  ISIDRO 02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Administrador\Mis documentos\FOTOS-NIKON\ALMUERZO MARISTA SAN ISIDRO\COSTA VERDE-MARISTAS SAN  ISIDRO 00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Administrador\Mis documentos\FOTOS-NIKON\ALMUERZO MARISTA SAN ISIDRO\COSTA VERDE-MARISTAS SAN  ISIDRO 005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Administrador\Mis documentos\FOTOS-NIKON\ALMUERZO MARISTA SAN ISIDRO\COSTA VERDE-MARISTAS SAN  ISIDRO 02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Administrador\Mis documentos\FOTOS-NIKON\ALMUERZO MARISTA SAN ISIDRO\COSTA VERDE-MARISTAS SAN  ISIDRO 002.jp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D:\Administrador\Mis documentos\FOTOS-NIKON\ALMUERZO MARISTA SAN ISIDRO\COSTA VERDE-MARISTAS SAN  ISIDRO 01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Administrador\Mis documentos\FOTOS-NIKON\ALMUERZO MARISTA SAN ISIDRO\COSTA VERDE-MARISTAS SAN  ISIDRO 02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Administrador\Mis documentos\FOTOS-NIKON\ALMUERZO MARISTA SAN ISIDRO\COSTA VERDE-MARISTAS SAN  ISIDRO 012.jp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5:22:11Z</dcterms:created>
  <dc:creator>Franklin2</dc:creator>
  <dc:description/>
  <dc:language>en-US</dc:language>
  <cp:lastModifiedBy>Franklin2</cp:lastModifiedBy>
  <dcterms:modified xsi:type="dcterms:W3CDTF">2010-11-16T15:22:02Z</dcterms:modified>
  <cp:revision>18</cp:revision>
  <dc:subject/>
  <dc:title>Diapositiva 1</dc:title>
</cp:coreProperties>
</file>