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ALBINONI%20Larghetto%20Concerto%20n%C2%BA%206%20%20No09%20120.wav" ContentType="audio/x-wav"/>
  <Override PartName="/ppt/media/image7.jpeg" ContentType="image/jpeg"/>
  <Override PartName="/ppt/media/image1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095-3A36-4678-96D9-87FF9806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8C1-E736-42C2-83C2-71796B25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0D5-59F4-4557-A104-D93ECC4E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805-E66D-4CC0-BA6F-1D5E2E4C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CC6-C44C-45A9-BD13-6F0F7848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989-EA21-44B8-8357-01B461E8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62A-E871-4000-8C31-C61235B2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7C3E-D623-414F-9EC8-BC3B8505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E8C2-DA7A-4F97-9008-2A897CEB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008-2670-461D-955C-D5E6B4B4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F66-66E7-4956-B81F-E89AAF5A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FBC-27AE-4EF3-BDDC-59B1A41F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1179-6AB1-40AA-AC27-1268E665A0A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ALBINONI%20Larghetto%20Concerto%20n&#186;%206%20%20No09%20120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ESIERTO%204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LAGO%20de%20FLORES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152280"/>
            <a:ext cx="8153280" cy="302004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Caminar hacia una mayor igualdad entre los pueblos</a:t>
            </a:r>
            <a:br>
              <a:rPr sz="2400"/>
            </a:b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y las personas es el mensaje de la conver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¡Es la utopía cristiana de la fraternidad univers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¿Somos utópic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¡Sí, lo som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Son las utopías las que nos permiten vi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y pueden transformar el desierto en tierra fértil.</a:t>
            </a:r>
            <a:br>
              <a:rPr sz="2400"/>
            </a:br>
            <a:r>
              <a:rPr b="0" lang="es-ES" sz="2400" spc="-1" strike="noStrike">
                <a:solidFill>
                  <a:srgbClr val="3333cc"/>
                </a:solidFill>
                <a:latin typeface="Monotype Corsiva"/>
              </a:rPr>
              <a:t>Leonardo B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57913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Lucas, 3,1-6 // 2 Adviento –C-// 6-12-209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Autora: Asun Gutiérrez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Música: Larguetto,Concerto nº 6 (Albino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ALBINONI%20Larghetto%20Concerto%20n%C2%BA%206%20%20No09%20120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22860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baseline="30000">
                <a:solidFill>
                  <a:srgbClr val="ffff00"/>
                </a:solidFill>
                <a:latin typeface="Georgia"/>
              </a:rPr>
              <a:t>1</a:t>
            </a:r>
            <a:r>
              <a:rPr b="0" lang="es-ES" sz="2000" spc="-1" strike="noStrike">
                <a:solidFill>
                  <a:srgbClr val="ffff00"/>
                </a:solidFill>
                <a:latin typeface="Georgia"/>
              </a:rPr>
              <a:t> El año quince del reinado del emperador Tiberio, siendo Poncio Pilato gobernador de Judea, Herodes tetrarca de Galilea, su hermano Filipo tetrarca de Iturea y de la región Traconítida, y Lisanias tetrarca de Abilen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419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Lucas comienza recordando que Juan Bautista aparece en un momento preciso de la historia de la humanidad, el marco histórico-geográfico en el que se desenvuel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La salvación de Dios no es algo que sucede al margen de la historia, de la vida de cada día, de los problemas, preocupaciones, esperanzas y alegrías de las perso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Para el Dios que llega con el don de la salvación debemos preparar el camino en el hoy de nuestra histo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La Palabra de Dios no se dirige a los poderosos de la tierra. Los Tiberios, Pilatos, Herodes, no están capacitados para escucharl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lato" descr=""/>
          <p:cNvPicPr/>
          <p:nvPr/>
        </p:nvPicPr>
        <p:blipFill>
          <a:blip r:embed="rId2"/>
          <a:stretch/>
        </p:blipFill>
        <p:spPr>
          <a:xfrm>
            <a:off x="6095880" y="1295280"/>
            <a:ext cx="254952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esierto%20NUBE%2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baseline="30000">
                <a:solidFill>
                  <a:srgbClr val="ffffff"/>
                </a:solidFill>
                <a:latin typeface="Georgia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 en tiempos de los sumos sacerdotes Anás y Caifás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la palabra de Dios vino sobre Juan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el hijo de Zacarías, en el desierto.</a:t>
            </a: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648320"/>
            <a:ext cx="9144000" cy="228852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La Palabra de Dios tampoco está dirigida a los hombres que viven en el Templo, que no viven para Dios, sino que viven de Dios. Son  comerciantes religiosos. Hablan de Dios pero no lo escuchan.</a:t>
            </a:r>
            <a:br>
              <a:rPr sz="20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La Palabra, destinada a tod@s, viene sobre quien no pertenece a ninguna jerarquía, no tiene dinero ni poder, da testimonio de austeridad y humildad y no obstruye su camino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Viene en el desierto, lugar de silencio, de reflexión, de encuentro amistoso con D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HOMBRES%202308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419076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Jordán%20calma%20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5228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3300"/>
                </a:solidFill>
                <a:latin typeface="Georgia"/>
              </a:rPr>
              <a:t>3</a:t>
            </a:r>
            <a:r>
              <a:rPr b="0" lang="en-US" sz="2000" spc="-1" strike="noStrike">
                <a:solidFill>
                  <a:srgbClr val="003300"/>
                </a:solidFill>
                <a:latin typeface="Georgia"/>
              </a:rPr>
              <a:t> Y fue por toda la región del Jordán predicando que se convirtieran y se bautizaran para que se les perdonaran los pecad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724280"/>
            <a:ext cx="9144000" cy="20142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Quien escucha la Palabra se siente impulsad@ a proclamarla, a dar Buenas Noticias. No la puede guardar para sí mism@.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s palabras de Juan nos invitan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 la conversión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 un cambio de rumbo,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a renovar la fe, a ensanchar el corazón, dilatar la esperanza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al compromiso de construir un mundo mejor para tod@s.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nuncia un bautismo de conversión, que no consiste en un simple rito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sino en un cambio real de v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47080" y="2286000"/>
            <a:ext cx="10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Jordá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esierto%205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228600"/>
            <a:ext cx="586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3333cc"/>
                </a:solidFill>
                <a:latin typeface="Georgia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Georgia"/>
              </a:rPr>
              <a:t> como está escrito en el libro de los oráculos del profeta Isaí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Georgia"/>
              </a:rPr>
              <a:t>Voz del que grita en el desierto: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Georgia"/>
              </a:rPr>
              <a:t>preparad el camino al Señor;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Georgia"/>
              </a:rPr>
              <a:t>allanad sus sender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1911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reparar el camino es un programa para nosotr@s. La preparación consiste en igualar las relaciones humanas, que han de pasar de la desigualdad a la igualdad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 la injusticia a la justicia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onde hay montes de soberbia, egoísmo e injusticia, pongamos humildad, solidaridad y caridad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onde hay colinas de vanidad, ambición y envidia, pongamos bondad, sinceridad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y perdón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¿Hacemos posible el paso de Dios por nuestras vidas personales, familiares, laborales, religiosas, sociales...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AMINANTES%20MUYPEQmosteral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15228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336600"/>
                </a:solidFill>
                <a:latin typeface="Georgia"/>
              </a:rPr>
              <a:t>5</a:t>
            </a: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 todo valle será elevado y toda montaña o colina será rebajada;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los caminos tortuosos se enderezarán y los ásperos se nivelarán.</a:t>
            </a:r>
            <a:br>
              <a:rPr sz="2000"/>
            </a:br>
            <a:r>
              <a:rPr b="0" lang="en-US" sz="2000" spc="-1" strike="noStrike" baseline="30000">
                <a:solidFill>
                  <a:srgbClr val="336600"/>
                </a:solidFill>
                <a:latin typeface="Georgia"/>
              </a:rPr>
              <a:t>6</a:t>
            </a: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 Y todos verán la salvación de 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1911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a salvación que Jesús nos trae es para tod@s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poder acogerla hay que preparar el camino y preguntarnos qué cosas quedan por “allanar”, “rellenar”, “rebajar”, “enderezar”, “nivelar”... en nuestro camino personal y comunitario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Jesús te trae el amor, la paz, la libertad. Verás la salvación, te llenará de salvación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te sentirás salvad@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ahora ¿qué tienes que hacer? Pues convertirte en salvación de Dios para l@s demás.</a:t>
            </a:r>
            <a:br>
              <a:rPr sz="1800"/>
            </a:br>
            <a:r>
              <a:rPr b="0" i="1" lang="es-ES" sz="1800" spc="-1" strike="noStrike">
                <a:solidFill>
                  <a:srgbClr val="ffff00"/>
                </a:solidFill>
                <a:latin typeface="Comic Sans MS"/>
              </a:rPr>
              <a:t>Allanar, enderezar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e </a:t>
            </a:r>
            <a:r>
              <a:rPr b="0" i="1" lang="es-ES" sz="1800" spc="-1" strike="noStrike">
                <a:solidFill>
                  <a:srgbClr val="ffff00"/>
                </a:solidFill>
                <a:latin typeface="Comic Sans MS"/>
              </a:rPr>
              <a:t>igualar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las escandalosas desigualdades que existen en el mu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AMINO%20LUZ%20subi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09680" y="228600"/>
            <a:ext cx="6705720" cy="6668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Una vez más me invitas a preparar los caminos,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os nuevos y los de siempre,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or donde Tú vienes trayendo buenas noticias,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gracias, Señor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orque cuentas conmigo para allanar colinas y vall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y para desterrar mentiras y opresiones,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gracias, Señor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orque te pones en la senda por la que voy caminand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ara que te  encuentre,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gracias, Señor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orque entras en mi casa y quieres hacer de ella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una morada nueva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ara todos los que caminan y se acercan,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gracias, Señ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ú me has encontrado,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y ese toque tan tuyo me está transforma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a vida ya germina dentro de mí.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Gracias, Señ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taneo BT"/>
              </a:rPr>
              <a:t>Ulibarri F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838080"/>
            <a:ext cx="276480" cy="433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</a:t>
            </a:r>
            <a:endParaRPr b="0" lang="en-US" sz="4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</a:t>
            </a:r>
            <a:endParaRPr b="0" lang="en-US" sz="4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</a:t>
            </a:r>
            <a:endParaRPr b="0" lang="en-US" sz="4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</a:t>
            </a:r>
            <a:endParaRPr b="0" lang="en-US" sz="40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</a:t>
            </a:r>
            <a:endParaRPr b="0" lang="en-US" sz="40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</a:t>
            </a:r>
            <a:endParaRPr b="0" lang="en-US" sz="40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7:23:48Z</dcterms:created>
  <dc:creator> Asun Gutiérrez</dc:creator>
  <dc:description/>
  <dc:language>en-US</dc:language>
  <cp:lastModifiedBy>Usuario</cp:lastModifiedBy>
  <dcterms:modified xsi:type="dcterms:W3CDTF">2009-12-03T13:33:24Z</dcterms:modified>
  <cp:revision>17</cp:revision>
  <dc:subject>jeasam@gmail.com</dc:subject>
  <dc:title>Adviento 2 domingo C</dc:title>
</cp:coreProperties>
</file>