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LBINONI%20Larghetto%20Concerto%20n%C2%BA%206%20%20No09%20120.wav" ContentType="audio/x-wav"/>
  <Override PartName="/ppt/media/image7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199-67CF-4768-B52E-B6E73309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56E-16C3-4BE8-BDEE-2ED37E11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C0A-6FF9-4890-BEB1-42F0BA60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A07-7540-4F1C-814F-0BC229B5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A97-F0AE-4572-A84F-DAF171BB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1B6-F8BA-46E9-87C4-AE45589F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279-8CD6-4386-B533-EC4900D0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519-AD7F-4A7D-BB94-E15F1DF6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A38-C0BB-4E3B-B516-AED6FA24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1F6-B32A-4955-8C11-B066B16E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6DB-51F7-49E9-9759-A7F4DFC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F35-8D54-4367-9B31-983C6A17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C264-FBD3-40CB-9B21-919C521114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LBINONI%20Larghetto%20Concerto%20n&#186;%206%20%20No09%20120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ESIERTO%20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LAGO%20de%20FLORE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52280"/>
            <a:ext cx="8153280" cy="30200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Caminar hacia una mayor igualdad entre los pueblos</a:t>
            </a:r>
            <a:br>
              <a:rPr sz="2400"/>
            </a:b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y las personas es el mensaje de la co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¡Es la utopía cristiana de la fraternidad univers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¿Somos utópi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¡Sí, lo som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on las utopías las que nos permiten 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y pueden transformar el desierto en tierra fértil.</a:t>
            </a:r>
            <a:br>
              <a:rPr sz="2400"/>
            </a:br>
            <a:r>
              <a:rPr b="0" lang="es-ES" sz="2400" spc="-1" strike="noStrike">
                <a:solidFill>
                  <a:srgbClr val="3333cc"/>
                </a:solidFill>
                <a:latin typeface="Monotype Corsiva"/>
              </a:rPr>
              <a:t>Leonardo B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57913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ucas, 3,1-6 // 2 Adviento –C-// 6-12-209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Autora: Asun Gutiérrez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úsica: Larguetto,Concerto nº 6 (Albino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ALBINONI%20Larghetto%20Concerto%20n%C2%BA%206%20%20No09%20120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22860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00"/>
                </a:solidFill>
                <a:latin typeface="Georgia"/>
              </a:rPr>
              <a:t>1</a:t>
            </a: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 El año quince del reinado del emperador Tiberio, siendo Poncio Pilato gobernador de Judea, Herodes tetrarca de Galilea, su hermano Filipo tetrarca de Iturea y de la región Traconítida, y Lisanias tetrarca de Abile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419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ucas comienza recordando que Juan Bautista aparece en un momento preciso de la historia de la humanidad, el marco histórico-geográfico en el que se desenvuel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a salvación de Dios no es algo que sucede al margen de la historia, de la vida de cada día, de los problemas, preocupaciones, esperanzas y alegrías de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Para el Dios que llega con el don de la salvación debemos preparar el camino en el hoy de nuestra histo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a Palabra de Dios no se dirige a los poderosos de la tierra. Los Tiberios, Pilatos, Herodes, no están capacitados para escuchar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lato" descr=""/>
          <p:cNvPicPr/>
          <p:nvPr/>
        </p:nvPicPr>
        <p:blipFill>
          <a:blip r:embed="rId2"/>
          <a:stretch/>
        </p:blipFill>
        <p:spPr>
          <a:xfrm>
            <a:off x="6095880" y="1295280"/>
            <a:ext cx="2549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esierto%20NUBE%2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en tiempos de los sumos sacerdotes Anás y Caifás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la palabra de Dios vino sobre Juan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el hijo de Zacarías, en el desierto.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648320"/>
            <a:ext cx="9144000" cy="228852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Palabra de Dios tampoco está dirigida a los hombres que viven en el Templo, que no viven para Dios, sino que viven de Dios. Son  comerciantes religiosos. Hablan de Dios pero no lo escuchan.</a:t>
            </a:r>
            <a:br>
              <a:rPr sz="20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Palabra, destinada a tod@s, viene sobre quien no pertenece a ninguna jerarquía, no tiene dinero ni poder, da testimonio de austeridad y humildad y no obstruye su camino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Viene en el desierto, lugar de silencio, de reflexión, de encuentro amistoso con D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OMBRES%202308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419076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ordán%20calma%20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522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3300"/>
                </a:solidFill>
                <a:latin typeface="Georgia"/>
              </a:rPr>
              <a:t>3</a:t>
            </a: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 Y fue por toda la región del Jordán predicando que se convirtieran y se bautizaran para que se les perdonaran los pecad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9144000" cy="20142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Quien escucha la Palabra se siente impulsad@ a proclamarla, a dar Buenas Noticias. No la puede guardar para sí mism@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palabras de Juan nos invitan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 la conversión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 un cambio de rumbo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a renovar la fe, a ensanchar el corazón, dilatar la esperanz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al compromiso de construir un mundo mejor para tod@s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nuncia un bautismo de conversión, que no consiste en un simple rito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ino en un cambio real de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47080" y="22860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Jordá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esierto%20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22860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33cc"/>
                </a:solidFill>
                <a:latin typeface="Georgia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 como está escrito en el libro de los oráculos del profeta Isaí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Voz del que grita en el desierto: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preparad el camino al Señor;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allanad sus sen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191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eparar el camino es un programa para nosotr@s. La preparación consiste en igualar las relaciones humanas, que han de pasar de la desigualdad a la igualdad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la injusticia a la justicia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nde hay montes de soberbia, egoísmo e injusticia, pongamos humildad, solidaridad y caridad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nde hay colinas de vanidad, ambición y envidia, pongamos bondad, sinceridad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y perdón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Hacemos posible el paso de Dios por nuestras vidas personales, familiares, laborales, religiosas, sociales...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MINANTES%20MUYPEQmosteral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15228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5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todo valle será elevado y toda montaña o colina será rebajada;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los caminos tortuosos se enderezarán y los ásperos se nivelarán.</a:t>
            </a:r>
            <a:br>
              <a:rPr sz="2000"/>
            </a:b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6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Y todos verán la salvación de 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1911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 salvación que Jesús nos trae es para tod@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poder acogerla hay que preparar el camino y preguntarnos qué cosas quedan por “allanar”, “rellenar”, “rebajar”, “enderezar”, “nivelar”... en nuestro camino personal y comunitari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te trae el amor, la paz, la libertad. Verás la salvación, te llenará de salvación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e sentirás salvad@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hora ¿qué tienes que hacer? Pues convertirte en salvación de Dios para l@s demás.</a:t>
            </a:r>
            <a:br>
              <a:rPr sz="1800"/>
            </a:b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Allanar, enderezar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e </a:t>
            </a: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igualar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las escandalosas desigualdades que existen en el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AMINO%20LUZ%20subi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09680" y="228600"/>
            <a:ext cx="6705720" cy="6668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Una vez más me invitas a preparar los caminos,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os nuevos y los de siempre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r donde Tú vienes trayendo buenas noticias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rque cuentas conmigo para allanar colinas y valles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para desterrar mentiras y opresiones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rque te pones en la senda por la que voy caminand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que te  encuentre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orque entras en mi casa y quieres hacer de ell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una morada nueva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ra todos los que caminan y se acercan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ú me has encontrado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se toque tan tuyo me está transform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vida ya germina dentro de mí.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Gracias, Señ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taneo BT"/>
              </a:rPr>
              <a:t>Ulibarri F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838080"/>
            <a:ext cx="276480" cy="433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</a:t>
            </a:r>
            <a:endParaRPr b="0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</a:t>
            </a:r>
            <a:endParaRPr b="0" lang="en-US" sz="4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</a:t>
            </a:r>
            <a:endParaRPr b="0" lang="en-US" sz="4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40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</a:t>
            </a:r>
            <a:endParaRPr b="0" lang="en-US" sz="40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23:48Z</dcterms:created>
  <dc:creator> Asun Gutiérrez</dc:creator>
  <dc:description/>
  <dc:language>en-US</dc:language>
  <cp:lastModifiedBy>Usuario</cp:lastModifiedBy>
  <dcterms:modified xsi:type="dcterms:W3CDTF">2009-12-03T13:33:24Z</dcterms:modified>
  <cp:revision>17</cp:revision>
  <dc:subject>jeasam@gmail.com</dc:subject>
  <dc:title>Adviento 2 domingo C</dc:title>
</cp:coreProperties>
</file>