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385-5166-4CD6-9813-CE140353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536-99E7-402C-B324-ECEE920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265-8E53-4854-A008-18AFDEC2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1E8-8490-492B-AF3A-7A1EE6F3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D86-B469-40D8-A2CE-02C43AD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360-C684-434F-B0AC-7063EF2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2C8-86CE-44C4-8A34-BB7C4607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779-D80B-4390-9DF9-F5406EA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0A9-AF0A-4EF6-97FA-B77E9C7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96A-09DD-4BE0-B415-B93FEEF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6C3-41EA-4B4F-A55A-5704EBE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1D0-FA30-45C5-9C85-FFE95DE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4465-6BC4-4EFC-9BB3-5F6E2F2F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989000"/>
            <a:ext cx="472572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bbey Medium Extended"/>
              </a:rPr>
              <a:t>PATRIMONI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bbey Medium Extended"/>
              <a:ea typeface="Abbey Medium Extend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bbey Medium Extended"/>
              </a:rPr>
              <a:t>DE LA HUMANIDAD. 1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bbey Medium Extended"/>
              <a:ea typeface="Abbey Medium Extende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62262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Georgia"/>
              </a:rPr>
              <a:t>MONTAJE: Francisco Pérez Núñ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6:25:47Z</dcterms:created>
  <dc:creator>paco</dc:creator>
  <dc:description/>
  <dc:language>en-US</dc:language>
  <cp:lastModifiedBy>paco</cp:lastModifiedBy>
  <dcterms:modified xsi:type="dcterms:W3CDTF">2013-04-22T06:41:51Z</dcterms:modified>
  <cp:revision>2</cp:revision>
  <dc:subject/>
  <dc:title>Diapositiva 1</dc:title>
</cp:coreProperties>
</file>