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34F-F5B2-4814-B54A-ECAD19DF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DFB-617E-4967-B630-F5BC5FD6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0FA-4C24-48FD-9627-3B99C0A2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32D-FE80-412E-80E7-97C9FCC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DF7-2DF5-406F-9F21-7F0119C2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B9E-2218-4931-B960-F86AB55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9C0-C94B-4151-82D4-12AAB434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E43-B5B4-4528-AB33-01A6CF3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DE4-ABA8-44FD-BE5D-6E35C23C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494-B844-4D7E-B3BE-A6B97CA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424-366D-4064-96EA-7C11728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AC0-AA68-4C1D-9DB1-AD7239B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3A03-A62C-418E-9880-A342B7D0B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989000"/>
            <a:ext cx="4725720" cy="18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bbey Medium Extended"/>
              </a:rPr>
              <a:t>PATRIMONI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bbey Medium Extended"/>
              <a:ea typeface="Abbey Medium Extend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bbey Medium Extended"/>
              </a:rPr>
              <a:t>DE LA HUMANIDAD. 1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bbey Medium Extended"/>
              <a:ea typeface="Abbey Medium Extende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42920" y="62262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Georgia"/>
              </a:rPr>
              <a:t>MONTAJE: Francisco Pérez Núñ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6:25:47Z</dcterms:created>
  <dc:creator>paco</dc:creator>
  <dc:description/>
  <dc:language>en-US</dc:language>
  <cp:lastModifiedBy>paco</cp:lastModifiedBy>
  <dcterms:modified xsi:type="dcterms:W3CDTF">2013-04-22T06:41:51Z</dcterms:modified>
  <cp:revision>2</cp:revision>
  <dc:subject/>
  <dc:title>Diapositiva 1</dc:title>
</cp:coreProperties>
</file>