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725-0C72-4B82-9BE6-1D5337F3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D29-0CE8-4747-A993-80CB4E69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FF0-D50C-4FAA-A94D-0BEB9B7F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0D3-A279-4E8F-A4B8-975FC221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4E75-B3E7-4FDE-A80E-0A7D6664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1450-12E0-4E3B-B026-3F8E3FA5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1B70-5134-40EB-BA6D-9E89A788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1AB3-F322-4C87-A970-E58CF125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663D-9D02-47E0-A6CD-B4E385BF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D959-5EF0-4848-94D1-5BEAA1A7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5DDC-49D7-42C0-A344-729384DC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0EB-82AC-4E3B-B281-4F4D2866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B564-AEFA-492D-9DD1-F9E4F94E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EB8F-5AE4-42F0-8AEA-C5F6B47A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584C-26D5-4AA2-A932-1DFB493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CA66-817C-441E-B06A-4261A1CF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3E56-6D43-4AEA-930B-CAE3E4E8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9A8-D31A-469B-8F7C-0DAE034C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B53-AD7F-4A39-9CA7-A92809A7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554-FAB0-4B8F-BEF6-69F0C082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1ED-FF55-4BE9-8EA1-667BB548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C45-E725-4FC1-91FA-D31CB962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06F-E653-40D7-B5C7-37C5D2FB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9FE-0EC8-4994-A4E9-0EDECCD1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4F07-833E-4DB6-9AE3-F91AEF5376D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C41A-9B84-4510-A0D6-53EBEAD25AD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TELICOP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7280" y="2638080"/>
            <a:ext cx="749952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Helicóptero ou  Hotel dos Sonho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2400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rowallia New"/>
              </a:rPr>
              <a:t>Clique em cada quad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6329520"/>
            <a:ext cx="302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rdia New"/>
              </a:rPr>
              <a:t>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Cordia New"/>
              </a:rPr>
              <a:t>Montagem: JAMIL , Betim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rdia New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Cordia New"/>
              </a:rPr>
              <a:t>Imagens da Internet, recebidas de um ami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630864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urier New"/>
              </a:rPr>
              <a:t>Tem origem na RUSSIA cuja industria aeronáutica é especializada na construção de aeronaves de grande porte, principalmente para cargas, onde se destaca o ANTONO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3735360" cy="27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19280" y="306864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B O A   V I A G E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0000" y="5843520"/>
            <a:ext cx="148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Monotype Corsiva"/>
              </a:rPr>
              <a:t>JAMIL, Betim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t-BR" sz="1400" spc="-1" strike="noStrike">
              <a:solidFill>
                <a:srgbClr val="feec94"/>
              </a:solidFill>
              <a:latin typeface="Courier Ne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pt-BR" sz="1400" spc="-1" strike="noStrike">
              <a:solidFill>
                <a:srgbClr val="ffffff"/>
              </a:solidFill>
              <a:latin typeface="Courier Ne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0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6256440"/>
            <a:ext cx="87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O HOTELICOPTER é um gigantesco MIL V-12 da era soviética, transformado em     confortável 5 estrelas. O Vôo Inaugural será no Verão Europeu de 200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4560" cy="6050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40680" y="6323040"/>
            <a:ext cx="807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A 1ª. Viagem será de New York para as Bahamas, com escalas na Jamaic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Republica Dominicana e Miami. O retorno a New York é previsto em 14 dia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O HELICOPTERO ..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00000" y="6184800"/>
            <a:ext cx="776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O Corredor Central que divide os vários compartimentos da aeronav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dá acesso fácil aos aposentos e salas de serviços ou divertim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74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55160" y="6467400"/>
            <a:ext cx="39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Instalações práticas e confortáve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09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023840" y="6381720"/>
            <a:ext cx="786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Aposentos com Mini-bar,TV Flat Screen, Telefone e outros equipa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geradores de conforto para os ocupa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905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6165720"/>
            <a:ext cx="913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O interior foi preparado para conter aposentos para 18 casais; tem sist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anti-ruido e de climatização. Pode-se optar por hidromassagem e, até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solicitar Instrutor(a) para ensinamentos de YOGA.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62800" cy="5988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71640" y="6323040"/>
            <a:ext cx="76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Desk, com todas as possibilidades de comunicação Via Internet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faz parte de cada apos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7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03280" y="6251400"/>
            <a:ext cx="836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A Aeronave está equipada com uma completa Sala de Jogos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para diversão dos hospedes durante os vô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04:41:40Z</dcterms:created>
  <dc:creator>Djarme Alves Dos Santos</dc:creator>
  <dc:description/>
  <dc:language>en-US</dc:language>
  <cp:lastModifiedBy>Djarme Alves Dos Santos</cp:lastModifiedBy>
  <dcterms:modified xsi:type="dcterms:W3CDTF">2009-06-13T20:47:54Z</dcterms:modified>
  <cp:revision>21</cp:revision>
  <dc:subject/>
  <dc:title>Slide 1</dc:title>
</cp:coreProperties>
</file>