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D5B-B191-415D-92B3-279987B4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701-ADCA-4DF6-85BE-CF53AFB3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37F-8D80-4BDA-A6B0-073A4039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F2B-7425-47F3-A830-CB99C153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7DA3-86EB-467C-B5E2-12D17F01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4D48-E673-4A96-AEB1-8138F72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9B92-1846-4A7F-A5CE-F95F9CDD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704C-9E26-477B-8714-8586E175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9C83-F7C3-4DBD-8F72-32153920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099-16AA-4FAE-9A98-DAEE918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C834-31D9-44F2-BEED-A3EBF46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5B4-ECCA-4F54-B0B8-5AF4186E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8FD5-6E44-41D4-B374-4D036A2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D061-C2FF-4907-A930-9381F5F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0ABF-541C-4294-B7A1-27603B5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C366-D9F5-49F2-87A0-901CB9AB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E86C-4DC2-44D2-BCBC-CFC0A140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A6A-DDC4-40A4-8471-FE66EE53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917-9546-454B-811A-9074AE4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2C1-8DDA-4CB2-AAAA-F172FBB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7A5-2A0C-4D95-B000-074269B2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F4A-698A-47E3-AA24-665F001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0FB-0860-465B-BC03-862E8AC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A73-0549-4AF8-A245-38FFB2E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99DC-CED5-4330-B95C-DC1EC01EF42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113-B449-497B-9FDC-CA580E725B6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OTELICOP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7280" y="2638080"/>
            <a:ext cx="749952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Helicóptero ou  Hotel dos Sonho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2400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rowallia New"/>
              </a:rPr>
              <a:t>Clique em cada quad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6329520"/>
            <a:ext cx="302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rdia New"/>
              </a:rPr>
              <a:t>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Cordia New"/>
              </a:rPr>
              <a:t>Montagem: JAMIL , Betim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rdia New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Cordia New"/>
              </a:rPr>
              <a:t>Imagens da Internet, recebidas de um ami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630864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urier New"/>
              </a:rPr>
              <a:t>Tem origem na RUSSIA cuja industria aeronáutica é especializada na construção de aeronaves de grande porte, principalmente para cargas, onde se destaca o ANTONO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3735360" cy="27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19280" y="306864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B O A   V I A G E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0000" y="5843520"/>
            <a:ext cx="148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Monotype Corsiva"/>
              </a:rPr>
              <a:t>JAMIL, Betim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t-BR" sz="1400" spc="-1" strike="noStrike">
              <a:solidFill>
                <a:srgbClr val="feec94"/>
              </a:solidFill>
              <a:latin typeface="Courier Ne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pt-BR" sz="1400" spc="-1" strike="noStrike">
              <a:solidFill>
                <a:srgbClr val="ffffff"/>
              </a:solidFill>
              <a:latin typeface="Courier Ne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0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6256440"/>
            <a:ext cx="87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O HOTELICOPTER é um gigantesco MIL V-12 da era soviética, transformado em     confortável 5 estrelas. O Vôo Inaugural será no Verão Europeu de 200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4560" cy="6050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40680" y="6323040"/>
            <a:ext cx="807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A 1ª. Viagem será de New York para as Bahamas, com escalas na Jamaic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Republica Dominicana e Miami. O retorno a New York é previsto em 14 dia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O HELICOPTERO ..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00000" y="6184800"/>
            <a:ext cx="776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O Corredor Central que divide os vários compartimentos da aeronav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dá acesso fácil aos aposentos e salas de serviços ou divertim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7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55160" y="6467400"/>
            <a:ext cx="39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Instalações práticas e confortáve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9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23840" y="6381720"/>
            <a:ext cx="786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Aposentos com Mini-bar,TV Flat Screen, Telefone e outros equipa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geradores de conforto para os ocupa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905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6165720"/>
            <a:ext cx="913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O interior foi preparado para conter aposentos para 18 casais; tem sist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anti-ruido e de climatização. Pode-se optar por hidromassagem e, até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solicitar Instrutor(a) para ensinamentos de YOGA.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62800" cy="5988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71640" y="6323040"/>
            <a:ext cx="76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Desk, com todas as possibilidades de comunicação Via Internet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faz parte de cada apos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7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3280" y="6251400"/>
            <a:ext cx="836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A Aeronave está equipada com uma completa Sala de Jogos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1400" spc="-1" strike="noStrike">
                <a:solidFill>
                  <a:srgbClr val="ffffff"/>
                </a:solidFill>
                <a:latin typeface="Courier New"/>
              </a:rPr>
              <a:t>para diversão dos hospedes durante os vô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04:41:40Z</dcterms:created>
  <dc:creator>Djarme Alves Dos Santos</dc:creator>
  <dc:description/>
  <dc:language>en-US</dc:language>
  <cp:lastModifiedBy>Djarme Alves Dos Santos</cp:lastModifiedBy>
  <dcterms:modified xsi:type="dcterms:W3CDTF">2009-06-13T20:47:54Z</dcterms:modified>
  <cp:revision>21</cp:revision>
  <dc:subject/>
  <dc:title>Slide 1</dc:title>
</cp:coreProperties>
</file>