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lifornia%20blu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27D-32B8-419F-B94C-DE795680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1A5-3309-4D64-91CE-EAB63286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C31-2B62-4C5A-89FF-FFE49699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1DF-86E1-4459-A599-69FF69DD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6F3-9911-4CA0-8F80-4DD5778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B52-6584-42AB-BB9E-DD28D49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740-811E-4A65-AAEA-46A46EF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911-46BE-478D-8674-10C64D1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D45-D729-408E-9C3B-4067CF85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F82-77DE-41DD-90E6-5079431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525-16AB-4FB2-A622-9B89A2C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BA1-7C10-445B-B483-2D7BAD4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0B4-3FCC-4EB5-A6E1-3E8EC3034F5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lifornia%20blu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413000"/>
            <a:ext cx="784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0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omos nosotros racistas? 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6386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de la hemerotec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" name="California%20blu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14504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981000"/>
            <a:ext cx="316872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RDAD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LOCAU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8207280" cy="611532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00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Nos dejarían manifestarnos en su país de esta for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295280"/>
            <a:ext cx="72579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¡¡¡ Y que alguien pueda pens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que tenemos algo en cont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de ésta gente tan pacífica 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5720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652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Manda e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a todo el mu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incluso a los musulma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para ver que dicen de és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12536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imágenes que verás a continu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ueron tomadas recientemente en Lon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urante la manifest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 RELIGIÓN DE LA PAZ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elebrada por la comunidad musulmana.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58972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No se publicaron en prensa ni TV para no ofender a nad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25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04640"/>
            <a:ext cx="820764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51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tad a aquellos que insultan al Islam. Europa pagarás.         Tu demolición está en marcha. Tu exterminación en cami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9240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125360"/>
            <a:ext cx="2592360" cy="448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CAPI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 L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 ISLAM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48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es el cáncer y la respuesta es el Islam.     Exterminar a los que van en contra del Isl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05280" cy="54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1268280"/>
            <a:ext cx="2879640" cy="435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MIN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04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867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infierno con la liber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11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, aprende del 11 de septie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11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pagarás. Tu 11 de septiembre esta de cam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8:30Z</dcterms:created>
  <dc:creator>Lukshini</dc:creator>
  <dc:description/>
  <dc:language>en-US</dc:language>
  <cp:lastModifiedBy>nina</cp:lastModifiedBy>
  <dcterms:modified xsi:type="dcterms:W3CDTF">2009-09-30T21:26:00Z</dcterms:modified>
  <cp:revision>27</cp:revision>
  <dc:subject/>
  <dc:title>   </dc:title>
</cp:coreProperties>
</file>