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lifornia%20blu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52C-9CF4-45BE-95E7-CFFE3ED7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174-E747-4DE2-AAD0-6B54F86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C95-512D-4A45-BF54-5922B809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318-DC29-4C74-A818-3C82644D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91F-7C61-4C7B-9114-0F89E56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1F2-4812-4D3C-8C1F-34F9560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281-3256-430F-BB56-A62D964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A08-8FAA-47A6-9231-15022C8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02A-29AA-4C93-8E9B-08E39D7A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934-E57F-402A-A946-08E0080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9FC-084E-47E0-83E6-7C5D5FA2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E18-C7D6-433E-B68C-D7CFD17F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71BF-61BE-4F3E-87B9-87A6AE0D818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lifornia%20blu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413000"/>
            <a:ext cx="784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0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¿Somos nosotros racistas? 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6386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formación de la hemerotec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  <p:sndAc>
      <p:stSnd>
        <p:snd r:embed="rId1" name="California%20blu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14504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981000"/>
            <a:ext cx="316872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RDAD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LOCAU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404640"/>
            <a:ext cx="8207280" cy="611532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00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80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Nos dejarían manifestarnos en su país de esta for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295280"/>
            <a:ext cx="72579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¡¡¡ Y que alguien pueda pens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que tenemos algo en cont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de ésta gente tan pacífica 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45720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652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Manda es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a todo el mu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incluso a los musulma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"/>
              </a:rPr>
              <a:t>para ver que dicen de és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12536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imágenes que verás a continu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ueron tomadas recientemente en Lon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urante la manifest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LA RELIGIÓN DE LA PAZ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elebrada por la comunidad musulmana.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58972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No se publicaron en prensa ni TV para no ofender a nad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25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04640"/>
            <a:ext cx="820764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51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atad a aquellos que insultan al Islam. Europa pagarás.         Tu demolición está en marcha. Tu exterminación en cami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92400" cy="561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08720" y="1125360"/>
            <a:ext cx="2592360" cy="448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CAPI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 LOS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INSUL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L ISLAM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48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516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es el cáncer y la respuesta es el Islam.     Exterminar a los que van en contra del Isl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40464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05280" cy="547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720" y="1268280"/>
            <a:ext cx="2879640" cy="435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OMIN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04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867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infierno con la liber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11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, aprende del 11 de septie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476280"/>
            <a:ext cx="8207280" cy="5977440"/>
          </a:xfrm>
          <a:prstGeom prst="rect">
            <a:avLst/>
          </a:prstGeom>
          <a:solidFill>
            <a:srgbClr val="54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11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opa pagarás. Tu 11 de septiembre esta de cam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8:30Z</dcterms:created>
  <dc:creator>Lukshini</dc:creator>
  <dc:description/>
  <dc:language>en-US</dc:language>
  <cp:lastModifiedBy>nina</cp:lastModifiedBy>
  <dcterms:modified xsi:type="dcterms:W3CDTF">2009-09-30T21:26:00Z</dcterms:modified>
  <cp:revision>27</cp:revision>
  <dc:subject/>
  <dc:title>   </dc:title>
</cp:coreProperties>
</file>