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Serenade%20Schubert%20(2m%2030s).wav" ContentType="audio/x-wav"/>
  <Override PartName="/ppt/media/image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EFFF-4BDB-4970-980A-DD9874AB4A67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137B-CF42-48CA-A9B8-78CA237575DB}" type="slidenum">
              <a:rPr b="0" lang="es-MX" sz="1200" spc="-1" strike="noStrike">
                <a:solidFill>
                  <a:srgbClr val="b7cefd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CA26-5C62-4A83-BC87-0FE20832CEEF}" type="slidenum">
              <a:rPr b="0" lang="es-MX" sz="1200" spc="-1" strike="noStrike">
                <a:solidFill>
                  <a:srgbClr val="b7cefd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9163-AAD0-4F88-B4EC-C56A1D4F43ED}" type="slidenum">
              <a:rPr b="0" lang="es-MX" sz="1200" spc="-1" strike="noStrike">
                <a:solidFill>
                  <a:srgbClr val="b7cefd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70CB-88FB-4C64-BC03-1A096FC79128}" type="slidenum">
              <a:rPr b="0" lang="es-MX" sz="1200" spc="-1" strike="noStrike">
                <a:solidFill>
                  <a:srgbClr val="b7cefd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1D58-B896-4B3F-A9CA-6FFA0836D84E}" type="slidenum">
              <a:rPr b="0" lang="es-MX" sz="1200" spc="-1" strike="noStrike">
                <a:solidFill>
                  <a:srgbClr val="b7cefd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6801-C95A-4AF2-81B5-D6E76CB1FADE}" type="slidenum">
              <a:rPr b="0" lang="es-MX" sz="1200" spc="-1" strike="noStrike">
                <a:solidFill>
                  <a:srgbClr val="b7cefd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122D-3BF5-41D4-AC64-057AA11A484B}" type="slidenum">
              <a:rPr b="0" lang="es-MX" sz="1200" spc="-1" strike="noStrike">
                <a:solidFill>
                  <a:srgbClr val="b7cefd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B1AF-1354-4A19-B92C-7D509CBFF56D}" type="slidenum">
              <a:rPr b="0" lang="es-MX" sz="1200" spc="-1" strike="noStrike">
                <a:solidFill>
                  <a:srgbClr val="b7cefd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FA6F-77F5-4F56-A01C-C4DE3852474E}" type="slidenum">
              <a:rPr b="0" lang="es-MX" sz="1200" spc="-1" strike="noStrike">
                <a:solidFill>
                  <a:srgbClr val="b7cefd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493B-D9D6-4660-AF4F-F319678A0275}" type="slidenum">
              <a:rPr b="0" lang="es-MX" sz="1200" spc="-1" strike="noStrike">
                <a:solidFill>
                  <a:srgbClr val="b7cefd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06BE-9737-4974-AC4E-0FDA81782FE1}" type="slidenum">
              <a:rPr b="0" lang="es-MX" sz="1200" spc="-1" strike="noStrike">
                <a:solidFill>
                  <a:srgbClr val="b7cefd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60C4-F625-4B48-A435-40A09BF1DDF8}" type="slidenum">
              <a:rPr b="0" lang="es-MX" sz="1200" spc="-1" strike="noStrike">
                <a:solidFill>
                  <a:srgbClr val="b7cefd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92F8-38F0-4549-9E21-02B867083B66}" type="slidenum">
              <a:rPr b="0" lang="es-MX" sz="1200" spc="-1" strike="noStrike">
                <a:solidFill>
                  <a:srgbClr val="b7cefd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BCD0-A233-415D-9362-23FAB4BF29B8}" type="slidenum">
              <a:rPr b="0" lang="es-MX" sz="1200" spc="-1" strike="noStrike">
                <a:solidFill>
                  <a:srgbClr val="b7cefd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CEBD-97C0-426D-A35D-108C3BFD0097}" type="slidenum">
              <a:rPr b="0" lang="es-MX" sz="1200" spc="-1" strike="noStrike">
                <a:solidFill>
                  <a:srgbClr val="b7cefd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C9CB-C8E1-4960-9C5C-FBA8024B5928}" type="slidenum">
              <a:rPr b="0" lang="es-MX" sz="1200" spc="-1" strike="noStrike">
                <a:solidFill>
                  <a:srgbClr val="b7cefd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5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aroles cov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5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5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5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5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5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5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5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5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5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5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5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Serenade%20Schubert%20(2m%2030s).wav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3" descr="Ocean Wave"/>
          <p:cNvPicPr/>
          <p:nvPr/>
        </p:nvPicPr>
        <p:blipFill>
          <a:blip r:embed="rId1"/>
          <a:stretch/>
        </p:blipFill>
        <p:spPr>
          <a:xfrm>
            <a:off x="357120" y="357120"/>
            <a:ext cx="8286840" cy="6215040"/>
          </a:xfrm>
          <a:prstGeom prst="rect">
            <a:avLst/>
          </a:prstGeom>
          <a:ln w="0">
            <a:noFill/>
          </a:ln>
        </p:spPr>
      </p:pic>
      <p:sp>
        <p:nvSpPr>
          <p:cNvPr id="443" name="Text Box 4"/>
          <p:cNvSpPr/>
          <p:nvPr/>
        </p:nvSpPr>
        <p:spPr>
          <a:xfrm>
            <a:off x="0" y="7858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Sabiduría</a:t>
            </a:r>
            <a:endParaRPr b="0" lang="en-US" sz="32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 Silencio Interno</a:t>
            </a:r>
            <a:endParaRPr b="0" lang="en-US" sz="32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0" y="19875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575d1"/>
                </a:solidFill>
                <a:latin typeface="Mistral"/>
              </a:rPr>
              <a:t>Texto Taoista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45" name="Text Box 5"/>
          <p:cNvSpPr/>
          <p:nvPr/>
        </p:nvSpPr>
        <p:spPr>
          <a:xfrm>
            <a:off x="0" y="56196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eac4f0"/>
                </a:solidFill>
                <a:latin typeface="Lucida Sans"/>
              </a:rPr>
              <a:t>Hacer click para continuar</a:t>
            </a:r>
            <a:endParaRPr b="0" lang="en-US" sz="12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  <p:transition spd="slow">
    <p:fade/>
    <p:sndAc>
      <p:stSnd>
        <p:snd r:embed="rId2" name="Serenade%20Schubert%20(2m%2030s)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1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4" descr="mammatus56"/>
          <p:cNvPicPr/>
          <p:nvPr/>
        </p:nvPicPr>
        <p:blipFill>
          <a:blip r:embed="rId1"/>
          <a:srcRect l="0" t="0" r="6250" b="13540"/>
          <a:stretch/>
        </p:blipFill>
        <p:spPr>
          <a:xfrm>
            <a:off x="357120" y="357120"/>
            <a:ext cx="8286840" cy="6213600"/>
          </a:xfrm>
          <a:prstGeom prst="rect">
            <a:avLst/>
          </a:prstGeom>
          <a:ln w="0">
            <a:noFill/>
          </a:ln>
        </p:spPr>
      </p:pic>
      <p:sp>
        <p:nvSpPr>
          <p:cNvPr id="473" name="3 Rectángulo"/>
          <p:cNvSpPr/>
          <p:nvPr/>
        </p:nvSpPr>
        <p:spPr>
          <a:xfrm>
            <a:off x="357120" y="357120"/>
            <a:ext cx="8286840" cy="6215040"/>
          </a:xfrm>
          <a:prstGeom prst="rect">
            <a:avLst/>
          </a:prstGeom>
          <a:solidFill>
            <a:srgbClr val="20192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74" name="Text Box 4"/>
          <p:cNvSpPr/>
          <p:nvPr/>
        </p:nvSpPr>
        <p:spPr>
          <a:xfrm>
            <a:off x="0" y="157176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Evita el hecho de juzgar y de criticar,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el Tao es imparcial y sin juicios,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no critica a la gente,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tiene una compasión infinita y no conoce la dualidad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Cada vez que juzgas a alguien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lo único que haces es expresar tu opinión muy personal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y es una pérdida de energía,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es puro ruido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Juzgar es una manera de esconder sus propias debilidades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El sabio tolera todo y no dirá ni una palabra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  <p:transition spd="slow"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3"/>
          <p:cNvSpPr/>
          <p:nvPr/>
        </p:nvSpPr>
        <p:spPr>
          <a:xfrm>
            <a:off x="378000" y="357120"/>
            <a:ext cx="8265960" cy="62136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76" name="3 Rectángulo"/>
          <p:cNvSpPr/>
          <p:nvPr/>
        </p:nvSpPr>
        <p:spPr>
          <a:xfrm>
            <a:off x="357120" y="357120"/>
            <a:ext cx="8286840" cy="6215040"/>
          </a:xfrm>
          <a:prstGeom prst="rect">
            <a:avLst/>
          </a:prstGeom>
          <a:solidFill>
            <a:srgbClr val="20192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77" name="Text Box 4"/>
          <p:cNvSpPr/>
          <p:nvPr/>
        </p:nvSpPr>
        <p:spPr>
          <a:xfrm>
            <a:off x="0" y="268272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Recuerda que todo lo que te molesta de los otros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es una proyección de todo lo que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todavía no has resulto de ti mismo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Deja que cada quien resuelva sus propios problemas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y concentra tu energía en tu propia vida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Ocúpate de ti mismo, no te defiendas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  <p:transition spd="slow"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3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30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4000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7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3000"/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4000"/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3"/>
          <p:cNvSpPr/>
          <p:nvPr/>
        </p:nvSpPr>
        <p:spPr>
          <a:xfrm>
            <a:off x="378000" y="357120"/>
            <a:ext cx="8265960" cy="62136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79" name="3 Rectángulo"/>
          <p:cNvSpPr/>
          <p:nvPr/>
        </p:nvSpPr>
        <p:spPr>
          <a:xfrm>
            <a:off x="357120" y="357120"/>
            <a:ext cx="8286840" cy="6215040"/>
          </a:xfrm>
          <a:prstGeom prst="rect">
            <a:avLst/>
          </a:prstGeom>
          <a:solidFill>
            <a:srgbClr val="20192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0" y="22716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Cuando tratas de defenderte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en realidad estás dándole demasiada importancia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a las palabras de los otros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y le das más fuerza a su agresión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Si aceptas el no defenderte estás mostrando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que las opiniones de los demás no te afectan,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que son simplemente opiniones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y que no necesitas convencer a los otros para ser feliz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  <p:transition spd="slow">
    <p:fad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4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3"/>
          <p:cNvSpPr/>
          <p:nvPr/>
        </p:nvSpPr>
        <p:spPr>
          <a:xfrm>
            <a:off x="378000" y="357120"/>
            <a:ext cx="8265960" cy="62136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82" name="4 Rectángulo"/>
          <p:cNvSpPr/>
          <p:nvPr/>
        </p:nvSpPr>
        <p:spPr>
          <a:xfrm>
            <a:off x="357120" y="357120"/>
            <a:ext cx="8286840" cy="6215040"/>
          </a:xfrm>
          <a:prstGeom prst="rect">
            <a:avLst/>
          </a:prstGeom>
          <a:solidFill>
            <a:srgbClr val="20192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0" y="200016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Tu silencio interno te vuelve impasible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Haz regularmente un ayuno de la palabra para volver a educar al ego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que tiene la mala costumbre de hablar todo el tiempo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Practica el arte de no hablar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Toma un día a la semana para abstenerte de hablar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O por lo menos algunas horas en el día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según lo permita tu organización personal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Este es un ejercicio excelente para conocer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y aprender el universo del Tao ilimitado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en lugar de tratar de explicar con las palabras qué es el Tao. 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  <p:transition spd="slow">
    <p:fad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300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4000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500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15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500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30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500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45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500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60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500"/>
                                        <p:tgtEl>
                                          <p:spTgt spid="4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75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500"/>
                                        <p:tgtEl>
                                          <p:spTgt spid="4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90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500"/>
                                        <p:tgtEl>
                                          <p:spTgt spid="4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3"/>
          <p:cNvSpPr/>
          <p:nvPr/>
        </p:nvSpPr>
        <p:spPr>
          <a:xfrm>
            <a:off x="378000" y="357120"/>
            <a:ext cx="8265960" cy="62136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85" name="3 Rectángulo"/>
          <p:cNvSpPr/>
          <p:nvPr/>
        </p:nvSpPr>
        <p:spPr>
          <a:xfrm>
            <a:off x="357120" y="357120"/>
            <a:ext cx="8286840" cy="6215040"/>
          </a:xfrm>
          <a:prstGeom prst="rect">
            <a:avLst/>
          </a:prstGeom>
          <a:solidFill>
            <a:srgbClr val="20192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0" y="121428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Progresivamente desarrollarás el arte de hablar sin hablar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y tu verdadera naturaleza interna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reemplazará tu personalidad artificial,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dejando aparecer la luz de tu corazón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y el poder de la sabiduría del silencio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Gracias a esta fuerza atraerás hacia ti todo lo que necesitas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para realizarte y liberarte completamente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Pero hay que tener cuidado de que el ego no se inmiscuya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El poder permanece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cuando el ego se queda tranquilo y en silencio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Si tu ego se impone y abusa de este poder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el mismo poder se convertirá en un veneno,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y todo tu ser se envenenará rápidamente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  <p:transition spd="slow">
    <p:fad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50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3000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3500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4000"/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4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4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4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4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4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4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4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4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3"/>
          <p:cNvSpPr/>
          <p:nvPr/>
        </p:nvSpPr>
        <p:spPr>
          <a:xfrm>
            <a:off x="378000" y="357120"/>
            <a:ext cx="8265960" cy="62136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88" name="4 Rectángulo"/>
          <p:cNvSpPr/>
          <p:nvPr/>
        </p:nvSpPr>
        <p:spPr>
          <a:xfrm>
            <a:off x="357120" y="357120"/>
            <a:ext cx="8286840" cy="6215040"/>
          </a:xfrm>
          <a:prstGeom prst="rect">
            <a:avLst/>
          </a:prstGeom>
          <a:solidFill>
            <a:srgbClr val="20192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89" name="Text Box 4"/>
          <p:cNvSpPr/>
          <p:nvPr/>
        </p:nvSpPr>
        <p:spPr>
          <a:xfrm>
            <a:off x="0" y="185724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Quédate en silencio, cultiva tu propio poder interno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Respeta la vida de los demás y de todo lo que existe en el mundo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No trates de forzar, manipular y controlar a los otros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Conviértete en tu propio maestro y deja a los demás ser lo que son,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o lo que tienen la capacidad de ser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Dicho en otras palabras, vive siguiendo la vida sagrada del Tao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90" name="2 Rectángulo"/>
          <p:cNvSpPr/>
          <p:nvPr/>
        </p:nvSpPr>
        <p:spPr>
          <a:xfrm>
            <a:off x="3643200" y="55292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3a3e0"/>
                </a:solidFill>
                <a:latin typeface="Mistral"/>
                <a:ea typeface="Times New Roman"/>
              </a:rPr>
              <a:t>Texto taoísta traducido por Oscar Salazar</a:t>
            </a:r>
            <a:endParaRPr b="0" lang="en-US" sz="20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  <p:transition spd="slow">
    <p:fade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3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3000"/>
                            </p:stCondLst>
                            <p:childTnLst>
                              <p:par>
                                <p:cTn id="40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300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6500"/>
                            </p:stCondLst>
                            <p:childTnLst>
                              <p:par>
                                <p:cTn id="41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3000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3000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0"/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55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3000"/>
                                        <p:tgtEl>
                                          <p:spTgt spid="4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4"/>
          <p:cNvSpPr/>
          <p:nvPr/>
        </p:nvSpPr>
        <p:spPr>
          <a:xfrm>
            <a:off x="0" y="3071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d1d1f0"/>
                </a:solidFill>
                <a:latin typeface="Times New Roman"/>
                <a:ea typeface="Times New Roman"/>
              </a:rPr>
              <a:t>F  I  N</a:t>
            </a:r>
            <a:endParaRPr b="0" lang="en-US" sz="24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92" name="Text Box 4"/>
          <p:cNvSpPr/>
          <p:nvPr/>
        </p:nvSpPr>
        <p:spPr>
          <a:xfrm>
            <a:off x="0" y="566100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483d59"/>
                </a:solidFill>
                <a:latin typeface="Times New Roman"/>
                <a:ea typeface="Times New Roman"/>
              </a:rPr>
              <a:t>Autor de esta presentación: anonimo</a:t>
            </a:r>
            <a:endParaRPr b="0" lang="en-US" sz="10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483d59"/>
                </a:solidFill>
                <a:latin typeface="Times New Roman"/>
                <a:ea typeface="Times New Roman"/>
              </a:rPr>
              <a:t>Reedición de formato cortesía de Carlos Rangel</a:t>
            </a:r>
            <a:endParaRPr b="0" lang="en-US" sz="10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483d59"/>
                </a:solidFill>
                <a:latin typeface="Times New Roman"/>
                <a:ea typeface="Times New Roman"/>
              </a:rPr>
              <a:t>Santiago de Querétaro, Mex. Abr.2008</a:t>
            </a:r>
            <a:endParaRPr b="0" lang="en-US" sz="10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483d59"/>
                </a:solidFill>
                <a:latin typeface="Times New Roman"/>
                <a:ea typeface="Times New Roman"/>
              </a:rPr>
              <a:t>carlitosrangel@hotmail.com</a:t>
            </a:r>
            <a:endParaRPr b="0" lang="en-US" sz="10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0" y="5286240"/>
            <a:ext cx="914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d1d1f0"/>
                </a:solidFill>
                <a:latin typeface="Times New Roman"/>
                <a:ea typeface="Times New Roman"/>
              </a:rPr>
              <a:t>Música: Franz Schubert - Sérénade - Richard Abel, piano</a:t>
            </a:r>
            <a:endParaRPr b="0" lang="en-US" sz="12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94" name="Rectangle 3"/>
          <p:cNvSpPr/>
          <p:nvPr/>
        </p:nvSpPr>
        <p:spPr>
          <a:xfrm>
            <a:off x="378000" y="357120"/>
            <a:ext cx="8265960" cy="62136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95" name="4 Rectángulo"/>
          <p:cNvSpPr/>
          <p:nvPr/>
        </p:nvSpPr>
        <p:spPr>
          <a:xfrm>
            <a:off x="357120" y="357120"/>
            <a:ext cx="8286840" cy="6215040"/>
          </a:xfrm>
          <a:prstGeom prst="rect">
            <a:avLst/>
          </a:prstGeom>
          <a:solidFill>
            <a:srgbClr val="20192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  <p:transition spd="slow" advTm="12000">
    <p:fade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3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3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3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650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3" descr="Ocean Wave"/>
          <p:cNvPicPr/>
          <p:nvPr/>
        </p:nvPicPr>
        <p:blipFill>
          <a:blip r:embed="rId1"/>
          <a:stretch/>
        </p:blipFill>
        <p:spPr>
          <a:xfrm>
            <a:off x="357120" y="357120"/>
            <a:ext cx="8286840" cy="6215040"/>
          </a:xfrm>
          <a:prstGeom prst="rect">
            <a:avLst/>
          </a:prstGeom>
          <a:ln w="0">
            <a:noFill/>
          </a:ln>
        </p:spPr>
      </p:pic>
      <p:sp>
        <p:nvSpPr>
          <p:cNvPr id="447" name="5 Rectángulo"/>
          <p:cNvSpPr/>
          <p:nvPr/>
        </p:nvSpPr>
        <p:spPr>
          <a:xfrm>
            <a:off x="357120" y="357120"/>
            <a:ext cx="8286840" cy="6215040"/>
          </a:xfrm>
          <a:prstGeom prst="rect">
            <a:avLst/>
          </a:prstGeom>
          <a:solidFill>
            <a:srgbClr val="20192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48" name="Text Box 4"/>
          <p:cNvSpPr/>
          <p:nvPr/>
        </p:nvSpPr>
        <p:spPr>
          <a:xfrm>
            <a:off x="0" y="7858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Sabiduría</a:t>
            </a:r>
            <a:endParaRPr b="0" lang="en-US" sz="32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 Silencio Interno</a:t>
            </a:r>
            <a:endParaRPr b="0" lang="en-US" sz="32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0" y="27892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Habla simplemente cuando sea necesario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Piensa lo que vas a decir antes de abrir la boca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Sé breve y preciso ya que cada vez que dejas salir una palabra,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dejas salir al mismo tiempo una parte de tu chi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De esta manera aprenderás a desarrollar el arte de hablar sin perder energía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Nunca hagas promesas que no puedas cumplir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No te quejes y no utilices en tu vocabulario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palabras que proyecten imágenes negativas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porque se producirá alrededor de ti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todo lo que has fabricado con tus palabras cargadas de chi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0" y="19875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575d1"/>
                </a:solidFill>
                <a:latin typeface="Mistral"/>
              </a:rPr>
              <a:t>Texto Taoista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  <p:transition spd="slow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3" descr="Ocean Wave"/>
          <p:cNvPicPr/>
          <p:nvPr/>
        </p:nvPicPr>
        <p:blipFill>
          <a:blip r:embed="rId1"/>
          <a:stretch/>
        </p:blipFill>
        <p:spPr>
          <a:xfrm>
            <a:off x="357120" y="357120"/>
            <a:ext cx="8286840" cy="6215040"/>
          </a:xfrm>
          <a:prstGeom prst="rect">
            <a:avLst/>
          </a:prstGeom>
          <a:ln w="0">
            <a:noFill/>
          </a:ln>
        </p:spPr>
      </p:pic>
      <p:sp>
        <p:nvSpPr>
          <p:cNvPr id="452" name="3 Rectángulo"/>
          <p:cNvSpPr/>
          <p:nvPr/>
        </p:nvSpPr>
        <p:spPr>
          <a:xfrm>
            <a:off x="357120" y="357120"/>
            <a:ext cx="8286840" cy="6215040"/>
          </a:xfrm>
          <a:prstGeom prst="rect">
            <a:avLst/>
          </a:prstGeom>
          <a:solidFill>
            <a:srgbClr val="20192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53" name="Text Box 4"/>
          <p:cNvSpPr/>
          <p:nvPr/>
        </p:nvSpPr>
        <p:spPr>
          <a:xfrm>
            <a:off x="0" y="18702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Si no tienes nada bueno, verdadero y útil qué decir,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es mejor quedarse callado y no decir nada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Aprende a ser como un espejo: Escucha y refleja la energía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El universo mismo es el mejor ejemplo de un espejo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que la naturaleza nos ha dado,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porque el universo acepta sin condiciones nuestros pensamientos,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nuestras emociones, nuestras palabras, nuestras acciones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y nos envía el reflejo de nuestra propia energía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bajo la forma de las diferentes circunstancias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que se presentan en nuestra vida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  <p:transition spd="slow"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5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3000"/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3000"/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3000"/>
                                        <p:tgtEl>
                                          <p:spTgt spid="4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4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4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3" descr="Ocean Wave"/>
          <p:cNvPicPr/>
          <p:nvPr/>
        </p:nvPicPr>
        <p:blipFill>
          <a:blip r:embed="rId1"/>
          <a:stretch/>
        </p:blipFill>
        <p:spPr>
          <a:xfrm>
            <a:off x="357120" y="357120"/>
            <a:ext cx="8286840" cy="6215040"/>
          </a:xfrm>
          <a:prstGeom prst="rect">
            <a:avLst/>
          </a:prstGeom>
          <a:ln w="0">
            <a:noFill/>
          </a:ln>
        </p:spPr>
      </p:pic>
      <p:sp>
        <p:nvSpPr>
          <p:cNvPr id="455" name="3 Rectángulo"/>
          <p:cNvSpPr/>
          <p:nvPr/>
        </p:nvSpPr>
        <p:spPr>
          <a:xfrm>
            <a:off x="357120" y="357120"/>
            <a:ext cx="8286840" cy="6215040"/>
          </a:xfrm>
          <a:prstGeom prst="rect">
            <a:avLst/>
          </a:prstGeom>
          <a:solidFill>
            <a:srgbClr val="20192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0" y="246852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Si te identificas con el éxito, tendrás éxito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Si te identificas con el fracaso, tendrás fracasos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Así podemos observar que las circunstancias que vivimos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son simplemente manifestaciones externas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del contenido de nuestra habladuría interna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  <p:transition spd="slow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300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300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3000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3" descr="Ocean Wave"/>
          <p:cNvPicPr/>
          <p:nvPr/>
        </p:nvPicPr>
        <p:blipFill>
          <a:blip r:embed="rId1"/>
          <a:stretch/>
        </p:blipFill>
        <p:spPr>
          <a:xfrm>
            <a:off x="357120" y="357120"/>
            <a:ext cx="8286840" cy="6215040"/>
          </a:xfrm>
          <a:prstGeom prst="rect">
            <a:avLst/>
          </a:prstGeom>
          <a:ln w="0">
            <a:noFill/>
          </a:ln>
        </p:spPr>
      </p:pic>
      <p:sp>
        <p:nvSpPr>
          <p:cNvPr id="458" name="3 Rectángulo"/>
          <p:cNvSpPr/>
          <p:nvPr/>
        </p:nvSpPr>
        <p:spPr>
          <a:xfrm>
            <a:off x="357120" y="357120"/>
            <a:ext cx="8286840" cy="6215040"/>
          </a:xfrm>
          <a:prstGeom prst="rect">
            <a:avLst/>
          </a:prstGeom>
          <a:solidFill>
            <a:srgbClr val="20192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0" y="179856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Aprende a ser como el universo,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escuchando y reflejando la energía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sin emociones densas y sin prejuicios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Porque siendo como un espejo sin emociones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aprendemos a hablar de otra manera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Con el poder mental tranquilo y en silencio,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sin darle oportunidad de imponerse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con sus opiniones personales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y evitando que tenga reacciones emocionales excesivas,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simplemente permite una comunicación sincera y fluida. 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  <p:transition spd="slow"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4" descr="mammatus56"/>
          <p:cNvPicPr/>
          <p:nvPr/>
        </p:nvPicPr>
        <p:blipFill>
          <a:blip r:embed="rId1"/>
          <a:srcRect l="0" t="0" r="6250" b="13540"/>
          <a:stretch/>
        </p:blipFill>
        <p:spPr>
          <a:xfrm>
            <a:off x="357120" y="357120"/>
            <a:ext cx="8286840" cy="6213600"/>
          </a:xfrm>
          <a:prstGeom prst="rect">
            <a:avLst/>
          </a:prstGeom>
          <a:ln w="0">
            <a:noFill/>
          </a:ln>
        </p:spPr>
      </p:pic>
      <p:sp>
        <p:nvSpPr>
          <p:cNvPr id="461" name="3 Rectángulo"/>
          <p:cNvSpPr/>
          <p:nvPr/>
        </p:nvSpPr>
        <p:spPr>
          <a:xfrm>
            <a:off x="357120" y="357120"/>
            <a:ext cx="8286840" cy="6215040"/>
          </a:xfrm>
          <a:prstGeom prst="rect">
            <a:avLst/>
          </a:prstGeom>
          <a:solidFill>
            <a:srgbClr val="20192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62" name="Text Box 4"/>
          <p:cNvSpPr/>
          <p:nvPr/>
        </p:nvSpPr>
        <p:spPr>
          <a:xfrm>
            <a:off x="0" y="200016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No te dés mucha importancia, y sé humilde,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pues cuanto más te muestras superior,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inteligente y prepotente,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más te vuelves prisionero de tu propia imagen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y vives en un mundo de tensión e ilusiones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Sé discreto, preserva tu vida íntima,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de esta manera te liberas de la opinión de los otros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y llevarás una vida tranquila volviéndote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invisible, misterioso, indefinible,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insondable como el Tao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  <p:transition spd="slow"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4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4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4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4" descr="mammatus56"/>
          <p:cNvPicPr/>
          <p:nvPr/>
        </p:nvPicPr>
        <p:blipFill>
          <a:blip r:embed="rId1"/>
          <a:srcRect l="0" t="0" r="6250" b="13540"/>
          <a:stretch/>
        </p:blipFill>
        <p:spPr>
          <a:xfrm>
            <a:off x="357120" y="357120"/>
            <a:ext cx="8286840" cy="6213600"/>
          </a:xfrm>
          <a:prstGeom prst="rect">
            <a:avLst/>
          </a:prstGeom>
          <a:ln w="0">
            <a:noFill/>
          </a:ln>
        </p:spPr>
      </p:pic>
      <p:sp>
        <p:nvSpPr>
          <p:cNvPr id="464" name="3 Rectángulo"/>
          <p:cNvSpPr/>
          <p:nvPr/>
        </p:nvSpPr>
        <p:spPr>
          <a:xfrm>
            <a:off x="357120" y="357120"/>
            <a:ext cx="8286840" cy="6215040"/>
          </a:xfrm>
          <a:prstGeom prst="rect">
            <a:avLst/>
          </a:prstGeom>
          <a:solidFill>
            <a:srgbClr val="20192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65" name="Text Box 4"/>
          <p:cNvSpPr/>
          <p:nvPr/>
        </p:nvSpPr>
        <p:spPr>
          <a:xfrm>
            <a:off x="0" y="171468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No compitas con los demás, vuélvete como la tierra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que nos nutre, que nos da lo que necesitamos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Ayuda a los otros a percibir sus cualidades,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a percibir sus virtudes, a brillar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El espíritu competitivo hace que crezca el ego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y crea conflictos inevitablemente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Ten confianza en ti mismo,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preserva tu paz interna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evitando entrar en la provocación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y en las trampas de los otros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  <p:transition spd="slow"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4" descr="mammatus56"/>
          <p:cNvPicPr/>
          <p:nvPr/>
        </p:nvPicPr>
        <p:blipFill>
          <a:blip r:embed="rId1"/>
          <a:srcRect l="0" t="0" r="6250" b="13540"/>
          <a:stretch/>
        </p:blipFill>
        <p:spPr>
          <a:xfrm>
            <a:off x="357120" y="357120"/>
            <a:ext cx="8286840" cy="6213600"/>
          </a:xfrm>
          <a:prstGeom prst="rect">
            <a:avLst/>
          </a:prstGeom>
          <a:ln w="0">
            <a:noFill/>
          </a:ln>
        </p:spPr>
      </p:pic>
      <p:sp>
        <p:nvSpPr>
          <p:cNvPr id="467" name="3 Rectángulo"/>
          <p:cNvSpPr/>
          <p:nvPr/>
        </p:nvSpPr>
        <p:spPr>
          <a:xfrm>
            <a:off x="357120" y="357120"/>
            <a:ext cx="8286840" cy="6215040"/>
          </a:xfrm>
          <a:prstGeom prst="rect">
            <a:avLst/>
          </a:prstGeom>
          <a:solidFill>
            <a:srgbClr val="20192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68" name="Text Box 4"/>
          <p:cNvSpPr/>
          <p:nvPr/>
        </p:nvSpPr>
        <p:spPr>
          <a:xfrm>
            <a:off x="0" y="159372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No te comprometas fácilmente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Si actúas de manera precipitada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sin tomar conciencia profunda de la situación,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te vas a crear complicaciones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La gente no tiene confianza en aquellos que muy fácilmente dicen “sí”,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porque saben que ese famoso “sí” no es sólido y le falta valor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Toma un momento de silencio interno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para considerar todo lo que se presenta 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y toma tu decisión después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Así desarrollarás la confianza en ti mismo y la sabiduría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  <p:transition spd="slow"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4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3000"/>
                                        <p:tgtEl>
                                          <p:spTgt spid="4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4000"/>
                                        <p:tgtEl>
                                          <p:spTgt spid="4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4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4" descr="mammatus56"/>
          <p:cNvPicPr/>
          <p:nvPr/>
        </p:nvPicPr>
        <p:blipFill>
          <a:blip r:embed="rId1"/>
          <a:srcRect l="0" t="0" r="6250" b="13540"/>
          <a:stretch/>
        </p:blipFill>
        <p:spPr>
          <a:xfrm>
            <a:off x="357120" y="357120"/>
            <a:ext cx="8286840" cy="6213600"/>
          </a:xfrm>
          <a:prstGeom prst="rect">
            <a:avLst/>
          </a:prstGeom>
          <a:ln w="0">
            <a:noFill/>
          </a:ln>
        </p:spPr>
      </p:pic>
      <p:sp>
        <p:nvSpPr>
          <p:cNvPr id="470" name="3 Rectángulo"/>
          <p:cNvSpPr/>
          <p:nvPr/>
        </p:nvSpPr>
        <p:spPr>
          <a:xfrm>
            <a:off x="357120" y="357120"/>
            <a:ext cx="8286840" cy="6215040"/>
          </a:xfrm>
          <a:prstGeom prst="rect">
            <a:avLst/>
          </a:prstGeom>
          <a:solidFill>
            <a:srgbClr val="20192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0" y="22716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Si realmente hay algo que no sabes,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o no tienes la respuesta a la pregunta que te han hecho, acéptalo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El hecho de no saber es muy incómodo para el ego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porque le gusta saber todo, siempre tener razón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y siempre dar su opinión muy personal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En realidad el ego no sabe nada,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simplemente hace crer que sabe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  <p:transition spd="slow"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4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4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30T06:05:57Z</dcterms:created>
  <dc:creator>Florian Bernard</dc:creator>
  <dc:description/>
  <dc:language>en-US</dc:language>
  <cp:lastModifiedBy>Carlos Rangel</cp:lastModifiedBy>
  <dcterms:modified xsi:type="dcterms:W3CDTF">2008-05-06T00:04:58Z</dcterms:modified>
  <cp:revision>28</cp:revision>
  <dc:subject/>
  <dc:title>Diapositive 1</dc:title>
</cp:coreProperties>
</file>