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Serenade%20Schubert%20(2m%2030s).wav" ContentType="audio/x-wav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AB6B-8984-4DC5-BEA2-8B4286E5393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04FA-7C80-45D0-9A54-11319AB95707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FDCE-7D92-4B06-A317-B7971B8CCBC1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4FA5-0FD0-436E-85AD-13D1F61AAFCF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5A6C-40A2-47F2-AC23-4D4B84F02C1D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5E7F-54DD-4168-B9EF-B0C2D92A7003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B40C-F360-4164-8385-6144693B47D7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0B3F-80AD-4947-A73A-A6A95E204BA1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94E6-0AB3-4C4B-BDD2-AD06218854C5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2C75-BAAA-4540-A233-BF3FD3D01655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E58D-5A7D-4FD5-A4AA-FFA3A7C76B28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EE3F-5B43-4702-810F-04C4A9218DD1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9231-6E44-4DA7-A21F-894A6E411840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37B3-9F08-48FB-B0B0-2260B3485898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2DBC-F3E3-45F3-B247-D0D72C349CCD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7311-4865-4E52-B731-14B6085DC44A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2BB9-F8C6-40D2-9F63-0BCE76DFC7D5}" type="slidenum">
              <a:rPr b="0" lang="es-MX" sz="1200" spc="-1" strike="noStrike">
                <a:solidFill>
                  <a:srgbClr val="b7cefd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aroles 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5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erenade%20Schubert%20(2m%2030s)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Ocean Wave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4"/>
          <p:cNvSpPr/>
          <p:nvPr/>
        </p:nvSpPr>
        <p:spPr>
          <a:xfrm>
            <a:off x="0" y="785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abiduría</a:t>
            </a:r>
            <a:endParaRPr b="0" lang="en-US" sz="32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Silencio Interno</a:t>
            </a:r>
            <a:endParaRPr b="0" lang="en-US" sz="32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0" y="1987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575d1"/>
                </a:solidFill>
                <a:latin typeface="Mistral"/>
              </a:rPr>
              <a:t>Texto Taoist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0" y="56196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eac4f0"/>
                </a:solidFill>
                <a:latin typeface="Lucida Sans"/>
              </a:rPr>
              <a:t>Hacer click para continuar</a:t>
            </a:r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  <p:sndAc>
      <p:stSnd>
        <p:snd r:embed="rId2" name="Serenade%20Schubert%20(2m%2030s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1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" descr="mammatus56"/>
          <p:cNvPicPr/>
          <p:nvPr/>
        </p:nvPicPr>
        <p:blipFill>
          <a:blip r:embed="rId1"/>
          <a:srcRect l="0" t="0" r="6250" b="13540"/>
          <a:stretch/>
        </p:blipFill>
        <p:spPr>
          <a:xfrm>
            <a:off x="357120" y="357120"/>
            <a:ext cx="8286840" cy="6213600"/>
          </a:xfrm>
          <a:prstGeom prst="rect">
            <a:avLst/>
          </a:prstGeom>
          <a:ln w="0">
            <a:noFill/>
          </a:ln>
        </p:spPr>
      </p:pic>
      <p:sp>
        <p:nvSpPr>
          <p:cNvPr id="473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0" y="157176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vita el hecho de juzgar y de criticar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Tao es imparcial y sin juicios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o critica a la gente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iene una compasión infinita y no conoce la dualidad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Cada vez que juzgas a alguien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lo único que haces es expresar tu opinión muy personal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es una pérdida de energía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s puro ruid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Juzgar es una manera de esconder sus propias debilidade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sabio tolera todo y no dirá ni una palabr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378000" y="357120"/>
            <a:ext cx="8265960" cy="621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76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0" y="26827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Recuerda que todo lo que te molesta de los otro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s una proyección de todo lo que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odavía no has resulto de ti mism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eja que cada quien resuelva sus propios problema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concentra tu energía en tu propia vid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Ocúpate de ti mismo, no te defienda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40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40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378000" y="357120"/>
            <a:ext cx="8265960" cy="621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79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22716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Cuando tratas de defenderte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n realidad estás dándole demasiada importanci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 las palabras de los otro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le das más fuerza a su agresión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aceptas el no defenderte estás mostrand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e las opiniones de los demás no te afectan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e son simplemente opinione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que no necesitas convencer a los otros para ser feliz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3"/>
          <p:cNvSpPr/>
          <p:nvPr/>
        </p:nvSpPr>
        <p:spPr>
          <a:xfrm>
            <a:off x="378000" y="357120"/>
            <a:ext cx="8265960" cy="621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2" name="4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0" y="200016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u silencio interno te vuelve impasible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Haz regularmente un ayuno de la palabra para volver a educar al eg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e tiene la mala costumbre de hablar todo el tiemp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ractica el arte de no hablar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oma un día a la semana para abstenerte de hablar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O por lo menos algunas horas en el dí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egún lo permita tu organización personal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ste es un ejercicio excelente para conocer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aprender el universo del Tao ilimitad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n lugar de tratar de explicar con las palabras qué es el Tao. 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40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3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45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6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500"/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75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500"/>
                                        <p:tgtEl>
                                          <p:spTgt spid="4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9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500"/>
                                        <p:tgtEl>
                                          <p:spTgt spid="4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78000" y="357120"/>
            <a:ext cx="8265960" cy="621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5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0" y="1214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rogresivamente desarrollarás el arte de hablar sin hablar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tu verdadera naturaleza intern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reemplazará tu personalidad artificial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ejando aparecer la luz de tu corazón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el poder de la sabiduría del silenci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Gracias a esta fuerza atraerás hacia ti todo lo que necesita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ara realizarte y liberarte completamente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ero hay que tener cuidado de que el ego no se inmiscuy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poder permanece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cuando el ego se queda tranquilo y en silenci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tu ego se impone y abusa de este poder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mismo poder se convertirá en un veneno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todo tu ser se envenenará rápidamente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30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3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40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4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3"/>
          <p:cNvSpPr/>
          <p:nvPr/>
        </p:nvSpPr>
        <p:spPr>
          <a:xfrm>
            <a:off x="378000" y="357120"/>
            <a:ext cx="8265960" cy="621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8" name="4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0" y="18572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édate en silencio, cultiva tu propio poder intern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Respeta la vida de los demás y de todo lo que existe en el mund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o trates de forzar, manipular y controlar a los otro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Conviértete en tu propio maestro y deja a los demás ser lo que son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o lo que tienen la capacidad de ser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icho en otras palabras, vive siguiendo la vida sagrada del Ta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90" name="2 Rectángulo"/>
          <p:cNvSpPr/>
          <p:nvPr/>
        </p:nvSpPr>
        <p:spPr>
          <a:xfrm>
            <a:off x="3643200" y="55292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3a3e0"/>
                </a:solidFill>
                <a:latin typeface="Mistral"/>
                <a:ea typeface="Times New Roman"/>
              </a:rPr>
              <a:t>Texto taoísta traducido por Oscar Salazar</a:t>
            </a:r>
            <a:endParaRPr b="0" lang="en-US" sz="20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3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3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5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3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4"/>
          <p:cNvSpPr/>
          <p:nvPr/>
        </p:nvSpPr>
        <p:spPr>
          <a:xfrm>
            <a:off x="0" y="3071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d1d1f0"/>
                </a:solidFill>
                <a:latin typeface="Times New Roman"/>
                <a:ea typeface="Times New Roman"/>
              </a:rPr>
              <a:t>F  I  N</a:t>
            </a: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0" y="566100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483d59"/>
                </a:solidFill>
                <a:latin typeface="Times New Roman"/>
                <a:ea typeface="Times New Roman"/>
              </a:rPr>
              <a:t>Autor de esta presentación: anonimo</a:t>
            </a:r>
            <a:endParaRPr b="0" lang="en-US" sz="10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483d59"/>
                </a:solidFill>
                <a:latin typeface="Times New Roman"/>
                <a:ea typeface="Times New Roman"/>
              </a:rPr>
              <a:t>Reedición de formato cortesía de Carlos Rangel</a:t>
            </a:r>
            <a:endParaRPr b="0" lang="en-US" sz="10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483d59"/>
                </a:solidFill>
                <a:latin typeface="Times New Roman"/>
                <a:ea typeface="Times New Roman"/>
              </a:rPr>
              <a:t>Santiago de Querétaro, Mex. Abr.2008</a:t>
            </a:r>
            <a:endParaRPr b="0" lang="en-US" sz="10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483d59"/>
                </a:solidFill>
                <a:latin typeface="Times New Roman"/>
                <a:ea typeface="Times New Roman"/>
              </a:rPr>
              <a:t>carlitosrangel@hotmail.com</a:t>
            </a:r>
            <a:endParaRPr b="0" lang="en-US" sz="10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0" y="528624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d1d1f0"/>
                </a:solidFill>
                <a:latin typeface="Times New Roman"/>
                <a:ea typeface="Times New Roman"/>
              </a:rPr>
              <a:t>Música: Franz Schubert - Sérénade - Richard Abel, piano</a:t>
            </a:r>
            <a:endParaRPr b="0" lang="en-US" sz="12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378000" y="357120"/>
            <a:ext cx="8265960" cy="621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95" name="4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 advTm="12000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3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5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Ocean Wave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447" name="5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0" y="785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abiduría</a:t>
            </a:r>
            <a:endParaRPr b="0" lang="en-US" sz="32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Silencio Interno</a:t>
            </a:r>
            <a:endParaRPr b="0" lang="en-US" sz="32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0" y="2789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Habla simplemente cuando sea necesari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iensa lo que vas a decir antes de abrir la boc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é breve y preciso ya que cada vez que dejas salir una palabra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ejas salir al mismo tiempo una parte de tu chi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e esta manera aprenderás a desarrollar el arte de hablar sin perder energí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unca hagas promesas que no puedas cumplir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o te quejes y no utilices en tu vocabulari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alabras que proyecten imágenes negativa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orque se producirá alrededor de ti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odo lo que has fabricado con tus palabras cargadas de chi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0" y="1987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575d1"/>
                </a:solidFill>
                <a:latin typeface="Mistral"/>
              </a:rPr>
              <a:t>Texto Taoist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3" descr="Ocean Wave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452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0" y="1870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no tienes nada bueno, verdadero y útil qué decir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s mejor quedarse callado y no decir nad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prende a ser como un espejo: Escucha y refleja la energí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universo mismo es el mejor ejemplo de un espej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e la naturaleza nos ha dado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orque el universo acepta sin condiciones nuestros pensamientos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uestras emociones, nuestras palabras, nuestras accione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nos envía el reflejo de nuestra propia energí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bajo la forma de las diferentes circunstancia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e se presentan en nuestra vid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4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3" descr="Ocean Wave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455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0" y="24685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te identificas con el éxito, tendrás éxit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te identificas con el fracaso, tendrás fracaso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sí podemos observar que las circunstancias que vivimo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on simplemente manifestaciones externa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el contenido de nuestra habladuría intern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Ocean Wave"/>
          <p:cNvPicPr/>
          <p:nvPr/>
        </p:nvPicPr>
        <p:blipFill>
          <a:blip r:embed="rId1"/>
          <a:stretch/>
        </p:blipFill>
        <p:spPr>
          <a:xfrm>
            <a:off x="357120" y="35712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458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0" y="17985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prende a ser como el universo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scuchando y reflejando la energí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n emociones densas y sin prejuicio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orque siendo como un espejo sin emocione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prendemos a hablar de otra maner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Con el poder mental tranquilo y en silencio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n darle oportunidad de imponerse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con sus opiniones personale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evitando que tenga reacciones emocionales excesivas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mplemente permite una comunicación sincera y fluida. 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mammatus56"/>
          <p:cNvPicPr/>
          <p:nvPr/>
        </p:nvPicPr>
        <p:blipFill>
          <a:blip r:embed="rId1"/>
          <a:srcRect l="0" t="0" r="6250" b="13540"/>
          <a:stretch/>
        </p:blipFill>
        <p:spPr>
          <a:xfrm>
            <a:off x="357120" y="357120"/>
            <a:ext cx="8286840" cy="6213600"/>
          </a:xfrm>
          <a:prstGeom prst="rect">
            <a:avLst/>
          </a:prstGeom>
          <a:ln w="0">
            <a:noFill/>
          </a:ln>
        </p:spPr>
      </p:pic>
      <p:sp>
        <p:nvSpPr>
          <p:cNvPr id="461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0" y="200016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o te dés mucha importancia, y sé humilde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ues cuanto más te muestras superior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inteligente y prepotente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más te vuelves prisionero de tu propia imagen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vives en un mundo de tensión e ilusione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é discreto, preserva tu vida íntima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de esta manera te liberas de la opinión de los otro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llevarás una vida tranquila volviéndote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invisible, misterioso, indefinible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insondable como el Ta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4" descr="mammatus56"/>
          <p:cNvPicPr/>
          <p:nvPr/>
        </p:nvPicPr>
        <p:blipFill>
          <a:blip r:embed="rId1"/>
          <a:srcRect l="0" t="0" r="6250" b="13540"/>
          <a:stretch/>
        </p:blipFill>
        <p:spPr>
          <a:xfrm>
            <a:off x="357120" y="357120"/>
            <a:ext cx="8286840" cy="6213600"/>
          </a:xfrm>
          <a:prstGeom prst="rect">
            <a:avLst/>
          </a:prstGeom>
          <a:ln w="0">
            <a:noFill/>
          </a:ln>
        </p:spPr>
      </p:pic>
      <p:sp>
        <p:nvSpPr>
          <p:cNvPr id="464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0" y="17146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o compitas con los demás, vuélvete como la tierr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que nos nutre, que nos da lo que necesitamo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yuda a los otros a percibir sus cualidades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 percibir sus virtudes, a brillar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espíritu competitivo hace que crezca el eg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crea conflictos inevitablemente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en confianza en ti mismo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reserva tu paz intern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vitando entrar en la provocación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en las trampas de los otro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mammatus56"/>
          <p:cNvPicPr/>
          <p:nvPr/>
        </p:nvPicPr>
        <p:blipFill>
          <a:blip r:embed="rId1"/>
          <a:srcRect l="0" t="0" r="6250" b="13540"/>
          <a:stretch/>
        </p:blipFill>
        <p:spPr>
          <a:xfrm>
            <a:off x="357120" y="357120"/>
            <a:ext cx="8286840" cy="6213600"/>
          </a:xfrm>
          <a:prstGeom prst="rect">
            <a:avLst/>
          </a:prstGeom>
          <a:ln w="0">
            <a:noFill/>
          </a:ln>
        </p:spPr>
      </p:pic>
      <p:sp>
        <p:nvSpPr>
          <p:cNvPr id="467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0" y="159372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No te comprometas fácilmente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actúas de manera precipitada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n tomar conciencia profunda de la situación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e vas a crear complicaciones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La gente no tiene confianza en aquellos que muy fácilmente dicen “sí”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orque saben que ese famoso “sí” no es sólido y le falta valor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Toma un momento de silencio intern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ara considerar todo lo que se presenta 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toma tu decisión después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Así desarrollarás la confianza en ti mismo y la sabiduría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4000"/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4" descr="mammatus56"/>
          <p:cNvPicPr/>
          <p:nvPr/>
        </p:nvPicPr>
        <p:blipFill>
          <a:blip r:embed="rId1"/>
          <a:srcRect l="0" t="0" r="6250" b="13540"/>
          <a:stretch/>
        </p:blipFill>
        <p:spPr>
          <a:xfrm>
            <a:off x="357120" y="357120"/>
            <a:ext cx="8286840" cy="6213600"/>
          </a:xfrm>
          <a:prstGeom prst="rect">
            <a:avLst/>
          </a:prstGeom>
          <a:ln w="0">
            <a:noFill/>
          </a:ln>
        </p:spPr>
      </p:pic>
      <p:sp>
        <p:nvSpPr>
          <p:cNvPr id="470" name="3 Rectángulo"/>
          <p:cNvSpPr/>
          <p:nvPr/>
        </p:nvSpPr>
        <p:spPr>
          <a:xfrm>
            <a:off x="357120" y="357120"/>
            <a:ext cx="8286840" cy="6215040"/>
          </a:xfrm>
          <a:prstGeom prst="rect">
            <a:avLst/>
          </a:prstGeom>
          <a:solidFill>
            <a:srgbClr val="20192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7cefd"/>
              </a:solidFill>
              <a:latin typeface="Lucida Sans Unicode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0" y="22716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 realmente hay algo que no sabes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o no tienes la respuesta a la pregunta que te han hecho, acéptalo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l hecho de no saber es muy incómodo para el ego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porque le gusta saber todo, siempre tener razón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y siempre dar su opinión muy personal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En realidad el ego no sabe nada,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fd4f4"/>
                </a:solidFill>
                <a:latin typeface="Times New Roman"/>
                <a:ea typeface="Times New Roman"/>
              </a:rPr>
              <a:t>simplemente hace crer que sabe.</a:t>
            </a:r>
            <a:endParaRPr b="0" lang="en-US" sz="1800" spc="-1" strike="noStrike">
              <a:solidFill>
                <a:srgbClr val="b7cefd"/>
              </a:solidFill>
              <a:latin typeface="Lucida Sans Unicode"/>
            </a:endParaRPr>
          </a:p>
        </p:txBody>
      </p:sp>
    </p:spTree>
  </p:cSld>
  <p:transition spd="slow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06:05:57Z</dcterms:created>
  <dc:creator>Florian Bernard</dc:creator>
  <dc:description/>
  <dc:language>en-US</dc:language>
  <cp:lastModifiedBy>Carlos Rangel</cp:lastModifiedBy>
  <dcterms:modified xsi:type="dcterms:W3CDTF">2008-05-06T00:04:58Z</dcterms:modified>
  <cp:revision>28</cp:revision>
  <dc:subject/>
  <dc:title>Diapositive 1</dc:title>
</cp:coreProperties>
</file>