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5.png" ContentType="image/png"/>
  <Override PartName="/ppt/media/image23.gif" ContentType="image/gif"/>
  <Override PartName="/ppt/media/image22.png" ContentType="image/png"/>
  <Override PartName="/ppt/media/image21.wmf" ContentType="image/x-wmf"/>
  <Override PartName="/ppt/media/image15.png" ContentType="image/png"/>
  <Override PartName="/ppt/media/image24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82E-0599-4C9B-9881-04927DB5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5DF-F590-47BF-831F-E69E228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575-BBB7-4B40-9CE8-186C6130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04D-6DB1-4FBC-AE19-711AF765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48E-D615-4592-AD23-74B0BDC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D30-7CB7-48D8-A305-6D64153C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230-59CA-49CC-8BCB-9E709CA3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6B3-2980-4AA1-A4A5-C10CF4C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FBB-A3C9-4C22-AAEB-0E2BB3C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CD5-BD4D-41AD-99C9-E1A3010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0EF-91EF-4238-8D5A-066C9EE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ABC-CFE5-493C-B0E3-5937302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E67-A650-4400-ACB7-9CC99575A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11.pn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4520" y="4365720"/>
            <a:ext cx="42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DR. ROBERT GR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DEPARTAMENTO SALUD OCUP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7040" y="1556280"/>
            <a:ext cx="721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66"/>
                </a:solidFill>
                <a:latin typeface="Arial"/>
              </a:rPr>
              <a:t>PORQUE QUEREMOS CUIDARTE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.....TE PEDIMOS QUE 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OMES 5 MINU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Y LEAS EL ARCHIVO AD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098880"/>
            <a:ext cx="324144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56440" y="357840"/>
            <a:ext cx="4124880" cy="37515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UBICACIÓN DEL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n relación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s de ilumin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(ventanas, lámpa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ub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e trata  de evitar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flejos en la pantal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 lo que se aum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visibilidad y disminuy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fatiga ocular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38720" y="4292640"/>
            <a:ext cx="4943160" cy="2228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un correc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uso de las pantal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l monitor, debe verificarse qu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luminación ambiental sea 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ficientement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enu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un bu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raste de la pantalla si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ficulte la visión de tex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piceras, etc. que haya sobre la mesa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36760" y="4797360"/>
            <a:ext cx="1440000" cy="16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226200" y="692280"/>
            <a:ext cx="2593800" cy="2394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0840" y="2036880"/>
            <a:ext cx="1878480" cy="1313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02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0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7920" y="5310360"/>
            <a:ext cx="5682240" cy="7038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s fuentes de luz eléctrica provocan refle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 las pantallas de ambos mon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0360" y="750960"/>
            <a:ext cx="6193080" cy="5773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080" y="2179800"/>
            <a:ext cx="1878480" cy="1313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21000"/>
            <a:ext cx="28908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4221000"/>
            <a:ext cx="321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bicación 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correcta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6000" y="907920"/>
            <a:ext cx="5922720" cy="3773520"/>
            <a:chOff x="2556000" y="907920"/>
            <a:chExt cx="5922720" cy="3773520"/>
          </a:xfrm>
        </p:grpSpPr>
        <p:grpSp>
          <p:nvGrpSpPr>
            <p:cNvPr id="222" name=""/>
            <p:cNvGrpSpPr/>
            <p:nvPr/>
          </p:nvGrpSpPr>
          <p:grpSpPr>
            <a:xfrm>
              <a:off x="2556000" y="981000"/>
              <a:ext cx="5922720" cy="3700440"/>
              <a:chOff x="2556000" y="981000"/>
              <a:chExt cx="5922720" cy="3700440"/>
            </a:xfrm>
          </p:grpSpPr>
          <p:graphicFrame>
            <p:nvGraphicFramePr>
              <p:cNvPr id="223" name=""/>
              <p:cNvGraphicFramePr/>
              <p:nvPr/>
            </p:nvGraphicFramePr>
            <p:xfrm>
              <a:off x="2573280" y="981000"/>
              <a:ext cx="5905440" cy="370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73280" y="981000"/>
                        <a:ext cx="5905440" cy="370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" name=""/>
              <p:cNvSpPr/>
              <p:nvPr/>
            </p:nvSpPr>
            <p:spPr>
              <a:xfrm>
                <a:off x="2556000" y="1052640"/>
                <a:ext cx="1439640" cy="10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372360" y="907920"/>
              <a:ext cx="2087280" cy="11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249680" y="430200"/>
            <a:ext cx="142596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luz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ve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 refle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3440" y="396720"/>
            <a:ext cx="172152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luz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ve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 ro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l o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3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3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50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24360" y="189000"/>
          <a:ext cx="4608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9000"/>
                    <a:ext cx="4608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9040" y="4076640"/>
            <a:ext cx="5469120" cy="201420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a luz natural de la ventana llega a los co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de los monitores y no molesta a los oper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a luz eléctrica cae detrás de los moni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Es preferible utilizar artefactos de luz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pues se pueden ubicar de modo que no refle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uz en las pantallas ni den en los oj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del ope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189000"/>
            <a:ext cx="6192720" cy="62625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5320" y="3522600"/>
            <a:ext cx="2212200" cy="155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1700280"/>
            <a:ext cx="28872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7600" y="1844640"/>
            <a:ext cx="321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bicación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cta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53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5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145400" y="2851920"/>
            <a:ext cx="42984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TOMAS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OCUL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FRECU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fal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lor y contractura cerv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lores dorsolumb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únel carp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mbios de carácter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ritación e insom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estos síntomas est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adas fundamentalm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actores posturales tanto de los oj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o del  esqueleto y los mús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2960" y="2192400"/>
            <a:ext cx="338868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TOMAS 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VISUALES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sadez o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sadez de los párp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bor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rojecimiento o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quedad o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y dol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usados por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enilla en los 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080" y="8100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843280" y="1116000"/>
            <a:ext cx="1873080" cy="1665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32bn1,m.gif (4736 bytes)"/>
          <p:cNvPicPr/>
          <p:nvPr/>
        </p:nvPicPr>
        <p:blipFill>
          <a:blip r:embed="rId2"/>
          <a:stretch/>
        </p:blipFill>
        <p:spPr>
          <a:xfrm flipH="1">
            <a:off x="7270560" y="2205000"/>
            <a:ext cx="1873080" cy="1577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73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1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03480" cy="4032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087880" y="765000"/>
            <a:ext cx="3905280" cy="4032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18840" y="4748040"/>
            <a:ext cx="32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 estar sentado largas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in mover las piern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t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sangre que debería retor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 corazón,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 acumu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n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as de las pier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zos y cuello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ficulta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 forma crecient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a nor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rculación sanguí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97600" y="5038560"/>
            <a:ext cx="2815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form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riódica y a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ve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ave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ularmente las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iern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a que l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irculació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ng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a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 todo m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4120" y="260280"/>
            <a:ext cx="66319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AS CIRCULATORIOS QUE SE DEBEN PRE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950"/>
                            </p:stCondLst>
                            <p:childTnLst>
                              <p:par>
                                <p:cTn id="47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45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45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45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45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528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ratá de armar así tu lugar de trabajo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95120"/>
            <a:ext cx="8569080" cy="56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24000" y="692280"/>
            <a:ext cx="8820000" cy="6037200"/>
            <a:chOff x="324000" y="692280"/>
            <a:chExt cx="8820000" cy="6037200"/>
          </a:xfrm>
        </p:grpSpPr>
        <p:grpSp>
          <p:nvGrpSpPr>
            <p:cNvPr id="294" name=""/>
            <p:cNvGrpSpPr/>
            <p:nvPr/>
          </p:nvGrpSpPr>
          <p:grpSpPr>
            <a:xfrm>
              <a:off x="324000" y="692280"/>
              <a:ext cx="8820000" cy="6037200"/>
              <a:chOff x="324000" y="692280"/>
              <a:chExt cx="8820000" cy="6037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24000" y="692280"/>
                <a:ext cx="8820000" cy="6037200"/>
                <a:chOff x="324000" y="692280"/>
                <a:chExt cx="8820000" cy="60372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24000" y="692280"/>
                  <a:ext cx="8820000" cy="6037200"/>
                  <a:chOff x="324000" y="692280"/>
                  <a:chExt cx="8820000" cy="60372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24000" y="1838880"/>
                    <a:ext cx="8820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98" name=""/>
                  <p:cNvGraphicFramePr/>
                  <p:nvPr/>
                </p:nvGraphicFramePr>
                <p:xfrm>
                  <a:off x="565920" y="692280"/>
                  <a:ext cx="8057160" cy="60372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9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565920" y="692280"/>
                            <a:ext cx="8057160" cy="603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00" name=""/>
                  <p:cNvSpPr/>
                  <p:nvPr/>
                </p:nvSpPr>
                <p:spPr>
                  <a:xfrm>
                    <a:off x="5591160" y="2343240"/>
                    <a:ext cx="1950120" cy="946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ONITOR UBICADO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DEBAJO DE L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ÍNEA DE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HORIZONTE VISU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484440" y="1667520"/>
                    <a:ext cx="5207400" cy="0"/>
                  </a:xfrm>
                  <a:prstGeom prst="line">
                    <a:avLst/>
                  </a:prstGeom>
                  <a:ln w="11448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841000" y="893520"/>
                    <a:ext cx="243000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cc3300"/>
                        </a:solidFill>
                        <a:latin typeface="Arial"/>
                      </a:rPr>
                      <a:t>LINEA ROJA DE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cc3300"/>
                        </a:solidFill>
                        <a:latin typeface="Arial"/>
                      </a:rPr>
                      <a:t>HORIZONTE VISU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2068560" y="3500280"/>
                  <a:ext cx="1728720" cy="0"/>
                </a:xfrm>
                <a:prstGeom prst="line">
                  <a:avLst/>
                </a:prstGeom>
                <a:ln w="114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7956720" y="1773360"/>
                <a:ext cx="576000" cy="475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885080" y="3789360"/>
              <a:ext cx="1008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88360" y="1700280"/>
              <a:ext cx="0" cy="20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85880" y="2585880"/>
              <a:ext cx="900000" cy="64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2360" y="4811760"/>
            <a:ext cx="799740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 que realmente se ha comprobado es que l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ponsables de la mencionada sintomatologí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on los fact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lacionados con la posición del cuerp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frente a una PC y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almente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a disposición de los ojos frente a la pantalla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o así también la manera  en que planificamos el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las actividades con estos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81120" y="260280"/>
            <a:ext cx="73119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PANTALLA DEL MONITOR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EMITE  RADIACIONE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3080" y="1747800"/>
            <a:ext cx="768636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dos los estudios biomédicos efectuados hasta la fec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no han demostrad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existan riesgos para la salud a ca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radiaciones ionizantes o no ionizantes emitidas por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ntallas de las comput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51280" y="2809800"/>
            <a:ext cx="2449080" cy="2058840"/>
            <a:chOff x="3851280" y="2809800"/>
            <a:chExt cx="2449080" cy="2058840"/>
          </a:xfrm>
        </p:grpSpPr>
        <p:sp>
          <p:nvSpPr>
            <p:cNvPr id="312" name=""/>
            <p:cNvSpPr/>
            <p:nvPr/>
          </p:nvSpPr>
          <p:spPr>
            <a:xfrm>
              <a:off x="3851280" y="2809800"/>
              <a:ext cx="2008800" cy="20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3851280" y="2936880"/>
              <a:ext cx="2449080" cy="17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6020640" y="3633840"/>
            <a:ext cx="299556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ctor, ¿es verdad que la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 es radioactiv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1239400">
            <a:off x="5451480" y="3327480"/>
            <a:ext cx="1224000" cy="36036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84920" y="1604880"/>
            <a:ext cx="7333920" cy="484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tilic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lirios humectan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forma perió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ientras trabaja con pant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a Lentes de Contacto utilice los coli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umectante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 mayor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bíquese frente a la pantalla de modo que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irad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a ligeramente hacia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trabaje más de 50 minutos corr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me 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scans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5 a 10 minutos, levánt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mire a l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jos y cer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uce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476280"/>
            <a:ext cx="43959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OMENDACION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32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325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15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50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150"/>
                            </p:stCondLst>
                            <p:childTnLst>
                              <p:par>
                                <p:cTn id="6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66920" y="1981080"/>
            <a:ext cx="854568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rija su mirada a la lejanía par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ovilizar los mús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e la temperatura ambiental para evitar 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 la sequedad 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ulte al oftalmólogo por posible neces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rrección ópti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ara distancias intermedias y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roles y estudios qu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vite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inicio de la seque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72760" y="476280"/>
            <a:ext cx="4460040" cy="825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OMEND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 L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doctor.gif (14543 bytes)"/>
          <p:cNvPicPr/>
          <p:nvPr/>
        </p:nvPicPr>
        <p:blipFill>
          <a:blip r:embed="rId1"/>
          <a:stretch/>
        </p:blipFill>
        <p:spPr>
          <a:xfrm>
            <a:off x="4284720" y="3573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650"/>
                            </p:stCondLst>
                            <p:childTnLst>
                              <p:par>
                                <p:cTn id="6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100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65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65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2256" t="0" r="0" b="0"/>
          <a:stretch/>
        </p:blipFill>
        <p:spPr>
          <a:xfrm>
            <a:off x="3564000" y="115920"/>
            <a:ext cx="4680000" cy="673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30720" y="270972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510000" y="2752560"/>
            <a:ext cx="1384200" cy="1407960"/>
            <a:chOff x="3510000" y="2752560"/>
            <a:chExt cx="1384200" cy="1407960"/>
          </a:xfrm>
        </p:grpSpPr>
        <p:grpSp>
          <p:nvGrpSpPr>
            <p:cNvPr id="340" name=""/>
            <p:cNvGrpSpPr/>
            <p:nvPr/>
          </p:nvGrpSpPr>
          <p:grpSpPr>
            <a:xfrm>
              <a:off x="3510000" y="2752560"/>
              <a:ext cx="1384200" cy="1407960"/>
              <a:chOff x="3510000" y="2752560"/>
              <a:chExt cx="1384200" cy="140796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3510000" y="2792160"/>
                <a:ext cx="1371600" cy="1368360"/>
                <a:chOff x="3510000" y="2792160"/>
                <a:chExt cx="1371600" cy="136836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3510000" y="2820600"/>
                  <a:ext cx="1298520" cy="1338480"/>
                  <a:chOff x="3510000" y="2820600"/>
                  <a:chExt cx="1298520" cy="133848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510000" y="2820600"/>
                    <a:ext cx="1298520" cy="1338480"/>
                    <a:chOff x="3510000" y="2820600"/>
                    <a:chExt cx="1298520" cy="133848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3510000" y="2820600"/>
                      <a:ext cx="1298520" cy="1338480"/>
                      <a:chOff x="3510000" y="2820600"/>
                      <a:chExt cx="1298520" cy="1338480"/>
                    </a:xfrm>
                  </p:grpSpPr>
                  <p:pic>
                    <p:nvPicPr>
                      <p:cNvPr id="3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13240" y="286380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3510000" y="282060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632400" y="282240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"/>
                  <p:cNvSpPr/>
                  <p:nvPr/>
                </p:nvSpPr>
                <p:spPr>
                  <a:xfrm>
                    <a:off x="3670200" y="308916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3513240" y="279216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4084560" y="275256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0120" y="278280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727440" y="311292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366720" y="2205000"/>
            <a:ext cx="122616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jo s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48200" y="2205000"/>
            <a:ext cx="146844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jo “se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rcRect l="28055" t="28055" r="27875" b="27875"/>
          <a:stretch/>
        </p:blipFill>
        <p:spPr>
          <a:xfrm>
            <a:off x="3403440" y="2744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65480" y="4437000"/>
            <a:ext cx="43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Salvá tus ojo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Parpade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ccff"/>
                </a:solidFill>
                <a:latin typeface="Arial"/>
              </a:rPr>
              <a:t>Parpadear para lubricar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arpade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No hay repuestos para tus oj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4160" y="2102400"/>
            <a:ext cx="8620560" cy="4208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n una conversación, los interlocutores 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arpadean una media de 22 vec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ando alguien lee, la frecuencia de este parpa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e produce 12 a 15 vec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ero cuando se está sentad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elante de una computadora, los oj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¡¡¡PARPADEAN MENOS 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5 veces por MINUTO!!!</a:t>
            </a:r>
            <a:r>
              <a:rPr b="1" lang="es-AR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48360" y="696960"/>
            <a:ext cx="5758560" cy="947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¿CUÁNTAS VECES PARPAD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L OJO HUMANO POR MIN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/003.gif"/>
          <p:cNvPicPr/>
          <p:nvPr/>
        </p:nvPicPr>
        <p:blipFill>
          <a:blip r:embed="rId1"/>
          <a:stretch/>
        </p:blipFill>
        <p:spPr>
          <a:xfrm>
            <a:off x="7310520" y="4724280"/>
            <a:ext cx="183348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49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52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5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5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5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5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41040" y="1125360"/>
            <a:ext cx="6892200" cy="52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menos parpa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centració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nuestra ate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pantalla hac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isminuir la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l parpade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 incrementa la sintomat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ojo se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o aumenta la fatiga ocular y m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 oj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in la lubricación del parpade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un motor sin aceite: los pi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pegan a las camisas de los cilind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el motor se debe tirar a la bas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64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68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0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45720" y="795240"/>
            <a:ext cx="6819120" cy="521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j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posición del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pantalla debe estar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ebaj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horizonte visual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Esto permite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os párpados cubran mayor superfic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l globo ocular y disminu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posición de la cór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sí será menor la desecación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elícula lagrima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que cubre la cór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protege de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os síntomas del ojo seco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79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83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4880" y="5229360"/>
            <a:ext cx="4887000" cy="15541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esta posición la córnea est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otalmente expuesta a ser da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sto se puede ver en los hogares, en los cen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e estudio estatales y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lugares de trabajo, en las escuel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los cibercafé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79640" y="260280"/>
            <a:ext cx="6624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ción de Total Exposició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236000" y="1197000"/>
          <a:ext cx="1622160" cy="392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9700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2655720" y="1700280"/>
            <a:ext cx="1916280" cy="2263680"/>
            <a:chOff x="2655720" y="1700280"/>
            <a:chExt cx="1916280" cy="2263680"/>
          </a:xfrm>
        </p:grpSpPr>
        <p:pic>
          <p:nvPicPr>
            <p:cNvPr id="97" name="" descr="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2655720" y="173052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55720" y="1700280"/>
              <a:ext cx="1440000" cy="2984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140360" y="1413000"/>
            <a:ext cx="3311280" cy="316836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rcRect l="7913" t="5070" r="19962" b="7542"/>
          <a:stretch/>
        </p:blipFill>
        <p:spPr>
          <a:xfrm>
            <a:off x="108000" y="3443400"/>
            <a:ext cx="3024000" cy="2938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4005360"/>
            <a:ext cx="1942920" cy="179856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04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97800" y="34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6480" y="4264200"/>
            <a:ext cx="3771360" cy="2043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horizonte 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be pasar s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borde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977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posición adecuad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236000" y="2122560"/>
          <a:ext cx="1622160" cy="39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122560"/>
                    <a:ext cx="162216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1763640" y="1193760"/>
            <a:ext cx="1916280" cy="2263680"/>
            <a:chOff x="1763640" y="1193760"/>
            <a:chExt cx="1916280" cy="226368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1763640" y="122400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763640" y="1193760"/>
              <a:ext cx="1440000" cy="2984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 flipV="1">
            <a:off x="3276360" y="2172960"/>
            <a:ext cx="5398920" cy="28440"/>
          </a:xfrm>
          <a:prstGeom prst="line">
            <a:avLst/>
          </a:prstGeom>
          <a:ln w="7632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28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3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22880" y="4545000"/>
            <a:ext cx="2724120" cy="204084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cabeza está lev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inada hacia el moni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de esa posició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árpado cubre casi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 globo ocular,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ge del brill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talla y disminuy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tiga visual y 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27640" y="27000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tura de trabaj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ct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714680"/>
            <a:ext cx="51847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784880" y="335880"/>
            <a:ext cx="2218680" cy="2460240"/>
            <a:chOff x="1784880" y="335880"/>
            <a:chExt cx="2218680" cy="246024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rcRect l="0" t="0" r="32313" b="0"/>
            <a:stretch/>
          </p:blipFill>
          <p:spPr>
            <a:xfrm rot="621600">
              <a:off x="1963800" y="485280"/>
              <a:ext cx="18604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24000" y="417600"/>
              <a:ext cx="1522440" cy="658800"/>
            </a:xfrm>
            <a:custGeom>
              <a:avLst/>
              <a:gdLst/>
              <a:ahLst/>
              <a:rect l="l" t="t" r="r" b="b"/>
              <a:pathLst>
                <a:path w="959" h="415">
                  <a:moveTo>
                    <a:pt x="0" y="98"/>
                  </a:moveTo>
                  <a:cubicBezTo>
                    <a:pt x="53" y="79"/>
                    <a:pt x="106" y="60"/>
                    <a:pt x="136" y="52"/>
                  </a:cubicBezTo>
                  <a:cubicBezTo>
                    <a:pt x="166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4" y="7"/>
                    <a:pt x="317" y="7"/>
                  </a:cubicBezTo>
                  <a:cubicBezTo>
                    <a:pt x="340" y="7"/>
                    <a:pt x="378" y="0"/>
                    <a:pt x="408" y="7"/>
                  </a:cubicBezTo>
                  <a:cubicBezTo>
                    <a:pt x="438" y="14"/>
                    <a:pt x="469" y="37"/>
                    <a:pt x="499" y="52"/>
                  </a:cubicBezTo>
                  <a:cubicBezTo>
                    <a:pt x="529" y="67"/>
                    <a:pt x="566" y="90"/>
                    <a:pt x="589" y="98"/>
                  </a:cubicBezTo>
                  <a:cubicBezTo>
                    <a:pt x="612" y="106"/>
                    <a:pt x="620" y="98"/>
                    <a:pt x="635" y="98"/>
                  </a:cubicBezTo>
                  <a:cubicBezTo>
                    <a:pt x="650" y="98"/>
                    <a:pt x="665" y="91"/>
                    <a:pt x="680" y="98"/>
                  </a:cubicBezTo>
                  <a:cubicBezTo>
                    <a:pt x="695" y="105"/>
                    <a:pt x="703" y="136"/>
                    <a:pt x="726" y="143"/>
                  </a:cubicBezTo>
                  <a:cubicBezTo>
                    <a:pt x="749" y="150"/>
                    <a:pt x="793" y="128"/>
                    <a:pt x="816" y="143"/>
                  </a:cubicBezTo>
                  <a:cubicBezTo>
                    <a:pt x="839" y="158"/>
                    <a:pt x="847" y="211"/>
                    <a:pt x="862" y="234"/>
                  </a:cubicBezTo>
                  <a:cubicBezTo>
                    <a:pt x="877" y="257"/>
                    <a:pt x="892" y="264"/>
                    <a:pt x="907" y="279"/>
                  </a:cubicBezTo>
                  <a:cubicBezTo>
                    <a:pt x="922" y="294"/>
                    <a:pt x="945" y="309"/>
                    <a:pt x="952" y="324"/>
                  </a:cubicBezTo>
                  <a:cubicBezTo>
                    <a:pt x="959" y="339"/>
                    <a:pt x="952" y="355"/>
                    <a:pt x="952" y="370"/>
                  </a:cubicBezTo>
                  <a:cubicBezTo>
                    <a:pt x="952" y="385"/>
                    <a:pt x="952" y="400"/>
                    <a:pt x="952" y="415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7236000" y="1650960"/>
          <a:ext cx="1622160" cy="392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165096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 rot="417000">
            <a:off x="34560" y="3068640"/>
            <a:ext cx="3959280" cy="3075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64000" y="1773360"/>
            <a:ext cx="3960720" cy="1655640"/>
          </a:xfrm>
          <a:custGeom>
            <a:avLst/>
            <a:gdLst/>
            <a:ahLst/>
            <a:rect l="l" t="t" r="r" b="b"/>
            <a:pathLst>
              <a:path w="2495" h="1043">
                <a:moveTo>
                  <a:pt x="0" y="0"/>
                </a:moveTo>
                <a:lnTo>
                  <a:pt x="2495" y="45"/>
                </a:lnTo>
                <a:lnTo>
                  <a:pt x="2359" y="104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773360"/>
            <a:ext cx="3959280" cy="3240000"/>
          </a:xfrm>
          <a:custGeom>
            <a:avLst/>
            <a:gdLst/>
            <a:ahLst/>
            <a:rect l="l" t="t" r="r" b="b"/>
            <a:pathLst>
              <a:path w="2494" h="2041">
                <a:moveTo>
                  <a:pt x="45" y="45"/>
                </a:moveTo>
                <a:lnTo>
                  <a:pt x="2404" y="1043"/>
                </a:lnTo>
                <a:lnTo>
                  <a:pt x="2494" y="2041"/>
                </a:lnTo>
                <a:lnTo>
                  <a:pt x="0" y="0"/>
                </a:lnTo>
              </a:path>
            </a:pathLst>
          </a:cu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920400">
            <a:off x="5456880" y="2119680"/>
            <a:ext cx="1782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A PROTEJ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EL PÁRP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773360"/>
            <a:ext cx="3816360" cy="16556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346600">
            <a:off x="5301720" y="3399480"/>
            <a:ext cx="1692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4452840"/>
            <a:ext cx="1943280" cy="1297080"/>
          </a:xfrm>
          <a:custGeom>
            <a:avLst/>
            <a:gdLst/>
            <a:ahLst/>
            <a:rect l="l" t="t" r="r" b="b"/>
            <a:pathLst>
              <a:path w="1224" h="817">
                <a:moveTo>
                  <a:pt x="0" y="0"/>
                </a:moveTo>
                <a:lnTo>
                  <a:pt x="0" y="91"/>
                </a:lnTo>
                <a:lnTo>
                  <a:pt x="0" y="181"/>
                </a:lnTo>
                <a:lnTo>
                  <a:pt x="1224" y="817"/>
                </a:lnTo>
                <a:lnTo>
                  <a:pt x="1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4710240"/>
            <a:ext cx="1943280" cy="2160360"/>
          </a:xfrm>
          <a:custGeom>
            <a:avLst/>
            <a:gdLst/>
            <a:ahLst/>
            <a:rect l="l" t="t" r="r" b="b"/>
            <a:pathLst>
              <a:path w="1224" h="1361">
                <a:moveTo>
                  <a:pt x="0" y="0"/>
                </a:moveTo>
                <a:lnTo>
                  <a:pt x="1224" y="636"/>
                </a:lnTo>
                <a:lnTo>
                  <a:pt x="1224" y="1361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4724280"/>
            <a:ext cx="1654200" cy="8654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6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32313" b="0"/>
          <a:stretch/>
        </p:blipFill>
        <p:spPr>
          <a:xfrm rot="621600">
            <a:off x="2268000" y="3254400"/>
            <a:ext cx="1341720" cy="15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82840" y="3205080"/>
            <a:ext cx="1098720" cy="471600"/>
          </a:xfrm>
          <a:custGeom>
            <a:avLst/>
            <a:gdLst/>
            <a:ahLst/>
            <a:rect l="l" t="t" r="r" b="b"/>
            <a:pathLst>
              <a:path w="959" h="415">
                <a:moveTo>
                  <a:pt x="0" y="98"/>
                </a:moveTo>
                <a:cubicBezTo>
                  <a:pt x="53" y="79"/>
                  <a:pt x="106" y="60"/>
                  <a:pt x="136" y="52"/>
                </a:cubicBezTo>
                <a:cubicBezTo>
                  <a:pt x="166" y="44"/>
                  <a:pt x="158" y="59"/>
                  <a:pt x="181" y="52"/>
                </a:cubicBezTo>
                <a:cubicBezTo>
                  <a:pt x="204" y="45"/>
                  <a:pt x="249" y="14"/>
                  <a:pt x="272" y="7"/>
                </a:cubicBezTo>
                <a:cubicBezTo>
                  <a:pt x="295" y="0"/>
                  <a:pt x="294" y="7"/>
                  <a:pt x="317" y="7"/>
                </a:cubicBezTo>
                <a:cubicBezTo>
                  <a:pt x="340" y="7"/>
                  <a:pt x="378" y="0"/>
                  <a:pt x="408" y="7"/>
                </a:cubicBezTo>
                <a:cubicBezTo>
                  <a:pt x="438" y="14"/>
                  <a:pt x="469" y="37"/>
                  <a:pt x="499" y="52"/>
                </a:cubicBezTo>
                <a:cubicBezTo>
                  <a:pt x="529" y="67"/>
                  <a:pt x="566" y="90"/>
                  <a:pt x="589" y="98"/>
                </a:cubicBezTo>
                <a:cubicBezTo>
                  <a:pt x="612" y="106"/>
                  <a:pt x="620" y="98"/>
                  <a:pt x="635" y="98"/>
                </a:cubicBezTo>
                <a:cubicBezTo>
                  <a:pt x="650" y="98"/>
                  <a:pt x="665" y="91"/>
                  <a:pt x="680" y="98"/>
                </a:cubicBezTo>
                <a:cubicBezTo>
                  <a:pt x="695" y="105"/>
                  <a:pt x="703" y="136"/>
                  <a:pt x="726" y="143"/>
                </a:cubicBezTo>
                <a:cubicBezTo>
                  <a:pt x="749" y="150"/>
                  <a:pt x="793" y="128"/>
                  <a:pt x="816" y="143"/>
                </a:cubicBezTo>
                <a:cubicBezTo>
                  <a:pt x="839" y="158"/>
                  <a:pt x="847" y="211"/>
                  <a:pt x="862" y="234"/>
                </a:cubicBezTo>
                <a:cubicBezTo>
                  <a:pt x="877" y="257"/>
                  <a:pt x="892" y="264"/>
                  <a:pt x="907" y="279"/>
                </a:cubicBezTo>
                <a:cubicBezTo>
                  <a:pt x="922" y="294"/>
                  <a:pt x="945" y="309"/>
                  <a:pt x="952" y="324"/>
                </a:cubicBezTo>
                <a:cubicBezTo>
                  <a:pt x="959" y="339"/>
                  <a:pt x="952" y="355"/>
                  <a:pt x="952" y="370"/>
                </a:cubicBezTo>
                <a:cubicBezTo>
                  <a:pt x="952" y="385"/>
                  <a:pt x="952" y="400"/>
                  <a:pt x="952" y="41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73280" y="4130640"/>
            <a:ext cx="37339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67440" y="4084560"/>
          <a:ext cx="116856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7440" y="4084560"/>
                    <a:ext cx="1168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3421080" y="4172040"/>
            <a:ext cx="2854440" cy="1181160"/>
          </a:xfrm>
          <a:custGeom>
            <a:avLst/>
            <a:gdLst/>
            <a:ahLst/>
            <a:rect l="l" t="t" r="r" b="b"/>
            <a:pathLst>
              <a:path w="2495" h="1043">
                <a:moveTo>
                  <a:pt x="0" y="0"/>
                </a:moveTo>
                <a:lnTo>
                  <a:pt x="2495" y="45"/>
                </a:lnTo>
                <a:lnTo>
                  <a:pt x="2359" y="104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920400">
            <a:off x="4613040" y="4302000"/>
            <a:ext cx="120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ONA PROTEJ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 EL PÁRP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68520" y="4160880"/>
            <a:ext cx="2853000" cy="2309760"/>
          </a:xfrm>
          <a:custGeom>
            <a:avLst/>
            <a:gdLst/>
            <a:ahLst/>
            <a:rect l="l" t="t" r="r" b="b"/>
            <a:pathLst>
              <a:path w="2494" h="2041">
                <a:moveTo>
                  <a:pt x="45" y="45"/>
                </a:moveTo>
                <a:lnTo>
                  <a:pt x="2404" y="1043"/>
                </a:lnTo>
                <a:lnTo>
                  <a:pt x="2494" y="2041"/>
                </a:lnTo>
                <a:lnTo>
                  <a:pt x="0" y="0"/>
                </a:lnTo>
              </a:path>
            </a:pathLst>
          </a:cu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0600">
            <a:off x="4729680" y="5226120"/>
            <a:ext cx="115164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68520" y="4181400"/>
            <a:ext cx="2749680" cy="1179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58000" y="836640"/>
          <a:ext cx="127620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8000" y="836640"/>
                    <a:ext cx="12762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2352600" y="1160640"/>
            <a:ext cx="1508040" cy="1460160"/>
            <a:chOff x="2352600" y="1160640"/>
            <a:chExt cx="1508040" cy="146016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rcRect l="0" t="0" r="34448" b="0"/>
            <a:stretch/>
          </p:blipFill>
          <p:spPr>
            <a:xfrm>
              <a:off x="2352600" y="1180080"/>
              <a:ext cx="150804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352600" y="1160640"/>
              <a:ext cx="1133280" cy="1922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521160" y="974880"/>
            <a:ext cx="2604960" cy="204444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2000" y="1708200"/>
            <a:ext cx="14778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81080" y="115920"/>
            <a:ext cx="316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mplement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em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68360" y="907920"/>
            <a:ext cx="48960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o 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cansancio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a fuente de incomo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cansancio visual res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las personas que de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oj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no siempr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ene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decuados a la dist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specto de la pantall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deben resolver con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oftalmólogo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 ello se suma que muchos lugares de trabajo no cuentan con un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adecuada 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58:39Z</dcterms:created>
  <dc:creator/>
  <dc:description/>
  <dc:language>en-US</dc:language>
  <cp:lastModifiedBy>vbasso</cp:lastModifiedBy>
  <dcterms:modified xsi:type="dcterms:W3CDTF">2007-09-03T16:51:38Z</dcterms:modified>
  <cp:revision>219</cp:revision>
  <dc:subject/>
  <dc:title>Diapositiva 1</dc:title>
</cp:coreProperties>
</file>