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25.png" ContentType="image/png"/>
  <Override PartName="/ppt/media/image23.gif" ContentType="image/gif"/>
  <Override PartName="/ppt/media/image22.png" ContentType="image/png"/>
  <Override PartName="/ppt/media/image21.wmf" ContentType="image/x-wmf"/>
  <Override PartName="/ppt/media/image15.png" ContentType="image/png"/>
  <Override PartName="/ppt/media/image24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19.gif" ContentType="image/gi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EEB-EC4E-4D4B-85D3-5E58D2D7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D91-4104-4A13-88A0-CC2B7FD7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922-5E1F-4031-8965-5DACD2D0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EE3-9CE4-49F7-B7A5-7DF1B498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21C-2BBB-4BAD-BCE2-8F397FE1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DE0-B760-4DEB-B1D9-97EEB4F0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1BD-3883-49BF-BE9B-92FC7D28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066-7E36-4020-8E04-911C9A15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54B-CCB8-407C-A758-83FC556E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928-CC2D-4823-872C-66AB0A6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CED-5DF4-41B1-A171-5EF0162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7B1-60F0-4962-BA64-EFD97BA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1CEF-1866-4002-B98E-CD16EF56E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image" Target="../media/image11.png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4520" y="4365720"/>
            <a:ext cx="421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DR. ROBERT GRA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DEPARTAMENTO SALUD OCUP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7040" y="1556280"/>
            <a:ext cx="721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66"/>
                </a:solidFill>
                <a:latin typeface="Arial"/>
              </a:rPr>
              <a:t>PORQUE QUEREMOS CUIDARTE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.....TE PEDIMOS QUE 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OMES 5 MINU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Y LEAS EL ARCHIVO ADJ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3098880"/>
            <a:ext cx="3241440" cy="1108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56440" y="357840"/>
            <a:ext cx="4124880" cy="37515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UBICACIÓN DEL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n relación a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entes de ilumin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(ventanas, lámpar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ub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e trata  de evitar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flejos en la pantal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 lo que se aume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a visibilidad y disminuy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a fatiga ocular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38720" y="4292640"/>
            <a:ext cx="4943160" cy="2228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un correct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uso de las pantal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l monitor, debe verificarse qu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luminación ambiental sea 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ficientement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tenu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ara un bu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raste de la pantalla sin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ficulte la visión de tex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piceras, etc. que haya sobre la mesa.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336760" y="4797360"/>
            <a:ext cx="1440000" cy="169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226200" y="692280"/>
            <a:ext cx="2593800" cy="2394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0840" y="2036880"/>
            <a:ext cx="1878480" cy="1313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U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02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0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07920" y="5310360"/>
            <a:ext cx="5682240" cy="7038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s fuentes de luz eléctrica provocan refle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n las pantallas de ambos moni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30360" y="750960"/>
            <a:ext cx="6193080" cy="57736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4080" y="2179800"/>
            <a:ext cx="1878480" cy="1313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U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221000"/>
            <a:ext cx="28908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8000" y="4221000"/>
            <a:ext cx="3217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bicación 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correcta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56000" y="907920"/>
            <a:ext cx="5922720" cy="3773520"/>
            <a:chOff x="2556000" y="907920"/>
            <a:chExt cx="5922720" cy="3773520"/>
          </a:xfrm>
        </p:grpSpPr>
        <p:grpSp>
          <p:nvGrpSpPr>
            <p:cNvPr id="222" name=""/>
            <p:cNvGrpSpPr/>
            <p:nvPr/>
          </p:nvGrpSpPr>
          <p:grpSpPr>
            <a:xfrm>
              <a:off x="2556000" y="981000"/>
              <a:ext cx="5922720" cy="3700440"/>
              <a:chOff x="2556000" y="981000"/>
              <a:chExt cx="5922720" cy="3700440"/>
            </a:xfrm>
          </p:grpSpPr>
          <p:graphicFrame>
            <p:nvGraphicFramePr>
              <p:cNvPr id="223" name=""/>
              <p:cNvGraphicFramePr/>
              <p:nvPr/>
            </p:nvGraphicFramePr>
            <p:xfrm>
              <a:off x="2573280" y="981000"/>
              <a:ext cx="5905440" cy="3700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73280" y="981000"/>
                        <a:ext cx="5905440" cy="370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5" name=""/>
              <p:cNvSpPr/>
              <p:nvPr/>
            </p:nvSpPr>
            <p:spPr>
              <a:xfrm>
                <a:off x="2556000" y="1052640"/>
                <a:ext cx="1439640" cy="100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372360" y="907920"/>
              <a:ext cx="2087280" cy="115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249680" y="430200"/>
            <a:ext cx="1425960" cy="1618560"/>
          </a:xfrm>
          <a:prstGeom prst="rect">
            <a:avLst/>
          </a:prstGeom>
          <a:solidFill>
            <a:srgbClr val="000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 luz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 ven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 refle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n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43440" y="396720"/>
            <a:ext cx="1721520" cy="1618560"/>
          </a:xfrm>
          <a:prstGeom prst="rect">
            <a:avLst/>
          </a:prstGeom>
          <a:solidFill>
            <a:srgbClr val="000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 luz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 ven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a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l ro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l op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30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3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8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50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500"/>
                            </p:stCondLst>
                            <p:childTnLst>
                              <p:par>
                                <p:cTn id="3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924360" y="189000"/>
          <a:ext cx="46083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89000"/>
                    <a:ext cx="46083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09040" y="4076640"/>
            <a:ext cx="5469120" cy="2014200"/>
          </a:xfrm>
          <a:prstGeom prst="rect">
            <a:avLst/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La luz natural de la ventana llega a los cos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de los monitores y no molesta a los oper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La luz eléctrica cae detrás de los moni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Es preferible utilizar artefactos de luz de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pues se pueden ubicar de modo que no reflej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luz en las pantallas ni den en los oj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Arial"/>
              </a:rPr>
              <a:t>del oper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189000"/>
            <a:ext cx="6192720" cy="62625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5320" y="3522600"/>
            <a:ext cx="2212200" cy="1557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E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U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1700280"/>
            <a:ext cx="28872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17600" y="1844640"/>
            <a:ext cx="321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bicación 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recta</a:t>
            </a:r>
            <a:endParaRPr b="0" lang="en-US" sz="2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53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5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5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145400" y="2851920"/>
            <a:ext cx="429840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ÍNTOMAS </a:t>
            </a:r>
            <a:r>
              <a:rPr b="1" i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OCULA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ÁS FRECU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efal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olor y contractura cerv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olores dorsolumb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únel carpi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mbios de carácter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ritación e insom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aus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de estos síntomas está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onadas fundamentalment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factores posturales tanto de los oj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mo del  esqueleto y los mús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2960" y="2192400"/>
            <a:ext cx="338868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ÍNTOMAS  </a:t>
            </a:r>
            <a:r>
              <a:rPr b="1" i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VISUALES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ÁS 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sadez o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sadez de los párp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borr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rojecimiento o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quedad o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olestias y dol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usados por l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enilla en los o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olestias perma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080" y="8100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843280" y="1116000"/>
            <a:ext cx="1873080" cy="1665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32bn1,m.gif (4736 bytes)"/>
          <p:cNvPicPr/>
          <p:nvPr/>
        </p:nvPicPr>
        <p:blipFill>
          <a:blip r:embed="rId2"/>
          <a:stretch/>
        </p:blipFill>
        <p:spPr>
          <a:xfrm flipH="1">
            <a:off x="7270560" y="2205000"/>
            <a:ext cx="1873080" cy="1577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73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77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1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903480" cy="4032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087880" y="765000"/>
            <a:ext cx="3905280" cy="4032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18840" y="4748040"/>
            <a:ext cx="3210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 estar sentado largas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in mover las piern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art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sangre que debería retor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 corazón,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 acumul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n l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as de las piern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azos y cuello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ificultan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n forma crecient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a norm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rculación sanguí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97600" y="5038560"/>
            <a:ext cx="2815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forma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riódica y a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bemos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ove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ave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ularmente las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iern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a que la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irculació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ang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ea adecu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 todo m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4120" y="260280"/>
            <a:ext cx="66319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LEMAS CIRCULATORIOS QUE SE DEBEN PREVE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950"/>
                            </p:stCondLst>
                            <p:childTnLst>
                              <p:par>
                                <p:cTn id="473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25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450"/>
                            </p:stCondLst>
                            <p:childTnLst>
                              <p:par>
                                <p:cTn id="4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450"/>
                            </p:stCondLst>
                            <p:childTnLst>
                              <p:par>
                                <p:cTn id="4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45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450"/>
                            </p:stCondLst>
                            <p:childTnLst>
                              <p:par>
                                <p:cTn id="4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5280" y="260280"/>
            <a:ext cx="82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ratá de armar así tu lugar de trabajo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195120"/>
            <a:ext cx="8569080" cy="56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24000" y="692280"/>
            <a:ext cx="8820000" cy="6037200"/>
            <a:chOff x="324000" y="692280"/>
            <a:chExt cx="8820000" cy="6037200"/>
          </a:xfrm>
        </p:grpSpPr>
        <p:grpSp>
          <p:nvGrpSpPr>
            <p:cNvPr id="294" name=""/>
            <p:cNvGrpSpPr/>
            <p:nvPr/>
          </p:nvGrpSpPr>
          <p:grpSpPr>
            <a:xfrm>
              <a:off x="324000" y="692280"/>
              <a:ext cx="8820000" cy="6037200"/>
              <a:chOff x="324000" y="692280"/>
              <a:chExt cx="8820000" cy="60372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24000" y="692280"/>
                <a:ext cx="8820000" cy="6037200"/>
                <a:chOff x="324000" y="692280"/>
                <a:chExt cx="8820000" cy="603720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24000" y="692280"/>
                  <a:ext cx="8820000" cy="6037200"/>
                  <a:chOff x="324000" y="692280"/>
                  <a:chExt cx="8820000" cy="60372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24000" y="1838880"/>
                    <a:ext cx="8820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298" name=""/>
                  <p:cNvGraphicFramePr/>
                  <p:nvPr/>
                </p:nvGraphicFramePr>
                <p:xfrm>
                  <a:off x="565920" y="692280"/>
                  <a:ext cx="8057160" cy="60372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9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565920" y="692280"/>
                            <a:ext cx="8057160" cy="6037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00" name=""/>
                  <p:cNvSpPr/>
                  <p:nvPr/>
                </p:nvSpPr>
                <p:spPr>
                  <a:xfrm>
                    <a:off x="5591160" y="2343240"/>
                    <a:ext cx="1950120" cy="946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ONITOR UBICADO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DEBAJO DE L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LÍNEA DE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HORIZONTE VISU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484440" y="1667520"/>
                    <a:ext cx="5207400" cy="0"/>
                  </a:xfrm>
                  <a:prstGeom prst="line">
                    <a:avLst/>
                  </a:prstGeom>
                  <a:ln w="11448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841000" y="893520"/>
                    <a:ext cx="2430000" cy="64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cc3300"/>
                        </a:solidFill>
                        <a:latin typeface="Arial"/>
                      </a:rPr>
                      <a:t>LINEA ROJA DE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cc3300"/>
                        </a:solidFill>
                        <a:latin typeface="Arial"/>
                      </a:rPr>
                      <a:t>HORIZONTE VISUA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2068560" y="3500280"/>
                  <a:ext cx="1728720" cy="0"/>
                </a:xfrm>
                <a:prstGeom prst="line">
                  <a:avLst/>
                </a:prstGeom>
                <a:ln w="114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7956720" y="1773360"/>
                <a:ext cx="576000" cy="475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7885080" y="3789360"/>
              <a:ext cx="1008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88360" y="1700280"/>
              <a:ext cx="0" cy="20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85880" y="2585880"/>
              <a:ext cx="900000" cy="64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42360" y="4811760"/>
            <a:ext cx="7997400" cy="192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 que realmente se ha comprobado es que los princip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sponsables de la mencionada sintomatologí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son los fact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relacionados con la posición del cuerp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frente a una PC y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almente,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a disposición de los ojos frente a la pantalla,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o así también la manera  en que planificamos el desarrol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 las actividades con estos equ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81120" y="260280"/>
            <a:ext cx="73119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 PANTALLA DEL MONITOR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¿EMITE  RADIACIONES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3080" y="1747800"/>
            <a:ext cx="768636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odos los estudios biomédicos efectuados hasta la fech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no han demostrad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que existan riesgos para la salud a ca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 radiaciones ionizantes o no ionizantes emitidas por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ntallas de las comput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851280" y="2809800"/>
            <a:ext cx="2449080" cy="2058840"/>
            <a:chOff x="3851280" y="2809800"/>
            <a:chExt cx="2449080" cy="2058840"/>
          </a:xfrm>
        </p:grpSpPr>
        <p:sp>
          <p:nvSpPr>
            <p:cNvPr id="312" name=""/>
            <p:cNvSpPr/>
            <p:nvPr/>
          </p:nvSpPr>
          <p:spPr>
            <a:xfrm>
              <a:off x="3851280" y="2809800"/>
              <a:ext cx="2008800" cy="20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3851280" y="2936880"/>
              <a:ext cx="2449080" cy="170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/>
          <p:cNvSpPr/>
          <p:nvPr/>
        </p:nvSpPr>
        <p:spPr>
          <a:xfrm>
            <a:off x="6020640" y="3633840"/>
            <a:ext cx="2995560" cy="5806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octor, ¿es verdad que la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o es radioactiv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1239400">
            <a:off x="5451480" y="3327480"/>
            <a:ext cx="1224000" cy="36036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384920" y="1604880"/>
            <a:ext cx="7333920" cy="484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tilic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lirios humectant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n forma periód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ientras trabaja con pant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usa Lentes de Contacto utilice los coli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umectantes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 mayor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bíquese frente a la pantalla de modo que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irad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ea ligeramente hacia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trabaje más de 50 minutos corr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me u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scans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de 5 a 10 minutos, levánt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mire a lo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ejos y cerc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uces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476280"/>
            <a:ext cx="439596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COMENDACIONE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S USUARIOS DE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320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325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 txBox="1"/>
          <p:nvPr/>
        </p:nvSpPr>
        <p:spPr>
          <a:xfrm rot="17451000">
            <a:off x="339120" y="417240"/>
            <a:ext cx="1306800" cy="12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apograf@gmail.com     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150"/>
                            </p:stCondLst>
                            <p:childTnLst>
                              <p:par>
                                <p:cTn id="60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50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7150"/>
                            </p:stCondLst>
                            <p:childTnLst>
                              <p:par>
                                <p:cTn id="6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66920" y="1981080"/>
            <a:ext cx="8545680" cy="448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rija su mirada a la lejanía par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ovilizar los múscul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o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gule la temperatura ambiental para evitar 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ument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 la sequedad o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sulte al oftalmólogo por posible necesidad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rrección óptic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para distancias intermedias y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roles y estudios qu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viten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inicio de la seque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72760" y="476280"/>
            <a:ext cx="4460040" cy="8254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COMEND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 LOS USUARIOS DE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doctor.gif (14543 bytes)"/>
          <p:cNvPicPr/>
          <p:nvPr/>
        </p:nvPicPr>
        <p:blipFill>
          <a:blip r:embed="rId1"/>
          <a:stretch/>
        </p:blipFill>
        <p:spPr>
          <a:xfrm>
            <a:off x="4284720" y="3573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650"/>
                            </p:stCondLst>
                            <p:childTnLst>
                              <p:par>
                                <p:cTn id="61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100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650"/>
                            </p:stCondLst>
                            <p:childTnLst>
                              <p:par>
                                <p:cTn id="6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650"/>
                            </p:stCondLst>
                            <p:childTnLst>
                              <p:par>
                                <p:cTn id="6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rcRect l="2256" t="0" r="0" b="0"/>
          <a:stretch/>
        </p:blipFill>
        <p:spPr>
          <a:xfrm>
            <a:off x="3564000" y="115920"/>
            <a:ext cx="4680000" cy="6730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330720" y="270972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510000" y="2752560"/>
            <a:ext cx="1384200" cy="1407960"/>
            <a:chOff x="3510000" y="2752560"/>
            <a:chExt cx="1384200" cy="1407960"/>
          </a:xfrm>
        </p:grpSpPr>
        <p:grpSp>
          <p:nvGrpSpPr>
            <p:cNvPr id="340" name=""/>
            <p:cNvGrpSpPr/>
            <p:nvPr/>
          </p:nvGrpSpPr>
          <p:grpSpPr>
            <a:xfrm>
              <a:off x="3510000" y="2752560"/>
              <a:ext cx="1384200" cy="1407960"/>
              <a:chOff x="3510000" y="2752560"/>
              <a:chExt cx="1384200" cy="140796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3510000" y="2792160"/>
                <a:ext cx="1371600" cy="1368360"/>
                <a:chOff x="3510000" y="2792160"/>
                <a:chExt cx="1371600" cy="136836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3510000" y="2820600"/>
                  <a:ext cx="1298520" cy="1338480"/>
                  <a:chOff x="3510000" y="2820600"/>
                  <a:chExt cx="1298520" cy="1338480"/>
                </a:xfrm>
              </p:grpSpPr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3510000" y="2820600"/>
                    <a:ext cx="1298520" cy="1338480"/>
                    <a:chOff x="3510000" y="2820600"/>
                    <a:chExt cx="1298520" cy="1338480"/>
                  </a:xfrm>
                </p:grpSpPr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3510000" y="2820600"/>
                      <a:ext cx="1298520" cy="1338480"/>
                      <a:chOff x="3510000" y="2820600"/>
                      <a:chExt cx="1298520" cy="1338480"/>
                    </a:xfrm>
                  </p:grpSpPr>
                  <p:pic>
                    <p:nvPicPr>
                      <p:cNvPr id="34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513240" y="286380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3510000" y="282060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3632400" y="282240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"/>
                  <p:cNvSpPr/>
                  <p:nvPr/>
                </p:nvSpPr>
                <p:spPr>
                  <a:xfrm>
                    <a:off x="3670200" y="308916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>
                  <a:off x="3513240" y="279216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4084560" y="275256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110120" y="278280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3727440" y="311292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366720" y="2205000"/>
            <a:ext cx="122616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jo s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48200" y="2205000"/>
            <a:ext cx="146844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jo “sec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rcRect l="28055" t="28055" r="27875" b="27875"/>
          <a:stretch/>
        </p:blipFill>
        <p:spPr>
          <a:xfrm>
            <a:off x="3403440" y="2744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65480" y="4437000"/>
            <a:ext cx="433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Salvá tus ojo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Parpadear para lubr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ccff"/>
                </a:solidFill>
                <a:latin typeface="Arial"/>
              </a:rPr>
              <a:t>Parpadear para lubricar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arpadear para lubr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No hay repuestos para tus oj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4160" y="2102400"/>
            <a:ext cx="8620560" cy="4208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En una conversación, los interlocutores 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parpadean una media de 22 veces por minu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ando alguien lee, la frecuencia de este parpade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se produce 12 a 15 veces por minu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Pero cuando se está sentad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elante de una computadora, los ojo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¡¡¡PARPADEAN MENOS 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5 veces por MINUTO!!!</a:t>
            </a:r>
            <a:r>
              <a:rPr b="1" lang="es-AR" sz="2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48360" y="696960"/>
            <a:ext cx="5758560" cy="9471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¿CUÁNTAS VECES PARPAD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L OJO HUMANO POR MINU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./003.gif"/>
          <p:cNvPicPr/>
          <p:nvPr/>
        </p:nvPicPr>
        <p:blipFill>
          <a:blip r:embed="rId1"/>
          <a:stretch/>
        </p:blipFill>
        <p:spPr>
          <a:xfrm>
            <a:off x="7310520" y="4724280"/>
            <a:ext cx="1833480" cy="183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49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52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5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55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5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5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5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50"/>
                            </p:stCondLst>
                            <p:childTnLst>
                              <p:par>
                                <p:cTn id="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41040" y="1125360"/>
            <a:ext cx="6892200" cy="521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jo s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menos parpa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ncentración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de nuestra ate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la pantalla hac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isminuir la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l parpade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 incrementa la sintomatolo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ojo se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o aumenta la fatiga ocular y m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 ojo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in la lubricación del parpade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un motor sin aceite: los pi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pegan a las camisas de los cilind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el motor se debe tirar a la bas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64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67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68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69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0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45720" y="795240"/>
            <a:ext cx="6819120" cy="521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jo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posición del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pantalla debe estar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debajo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horizonte visual.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Esto permite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os párpados cubran mayor superfic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l globo ocular y disminu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exposición de la córn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sí será menor la desecación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elícula lagrimal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que cubre la cór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 protege de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los síntomas del ojo seco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79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81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83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4880" y="5229360"/>
            <a:ext cx="4887000" cy="15541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En esta posición la córnea est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totalmente expuesta a ser dañ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Esto se puede ver en los hogares, en los cen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de estudio estatales y pri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en lugares de trabajo, en las escuel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en los cibercafé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79640" y="260280"/>
            <a:ext cx="66247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ción de Total Exposición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236000" y="1197000"/>
          <a:ext cx="1622160" cy="392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97000"/>
                    <a:ext cx="162216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2655720" y="1700280"/>
            <a:ext cx="1916280" cy="2263680"/>
            <a:chOff x="2655720" y="1700280"/>
            <a:chExt cx="1916280" cy="2263680"/>
          </a:xfrm>
        </p:grpSpPr>
        <p:pic>
          <p:nvPicPr>
            <p:cNvPr id="97" name="" descr=""/>
            <p:cNvPicPr/>
            <p:nvPr/>
          </p:nvPicPr>
          <p:blipFill>
            <a:blip r:embed="rId5"/>
            <a:srcRect l="0" t="0" r="34448" b="0"/>
            <a:stretch/>
          </p:blipFill>
          <p:spPr>
            <a:xfrm>
              <a:off x="2655720" y="1730520"/>
              <a:ext cx="19162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655720" y="1700280"/>
              <a:ext cx="1440000" cy="298440"/>
            </a:xfrm>
            <a:custGeom>
              <a:avLst/>
              <a:gdLst/>
              <a:ahLst/>
              <a:rect l="l" t="t" r="r" b="b"/>
              <a:pathLst>
                <a:path w="907" h="188">
                  <a:moveTo>
                    <a:pt x="0" y="143"/>
                  </a:moveTo>
                  <a:cubicBezTo>
                    <a:pt x="15" y="124"/>
                    <a:pt x="30" y="105"/>
                    <a:pt x="45" y="98"/>
                  </a:cubicBezTo>
                  <a:cubicBezTo>
                    <a:pt x="60" y="91"/>
                    <a:pt x="76" y="106"/>
                    <a:pt x="91" y="98"/>
                  </a:cubicBezTo>
                  <a:cubicBezTo>
                    <a:pt x="106" y="90"/>
                    <a:pt x="121" y="60"/>
                    <a:pt x="136" y="52"/>
                  </a:cubicBezTo>
                  <a:cubicBezTo>
                    <a:pt x="151" y="44"/>
                    <a:pt x="158" y="59"/>
                    <a:pt x="181" y="52"/>
                  </a:cubicBezTo>
                  <a:cubicBezTo>
                    <a:pt x="204" y="45"/>
                    <a:pt x="249" y="14"/>
                    <a:pt x="272" y="7"/>
                  </a:cubicBezTo>
                  <a:cubicBezTo>
                    <a:pt x="295" y="0"/>
                    <a:pt x="295" y="7"/>
                    <a:pt x="318" y="7"/>
                  </a:cubicBezTo>
                  <a:cubicBezTo>
                    <a:pt x="341" y="7"/>
                    <a:pt x="385" y="0"/>
                    <a:pt x="408" y="7"/>
                  </a:cubicBezTo>
                  <a:cubicBezTo>
                    <a:pt x="431" y="14"/>
                    <a:pt x="439" y="45"/>
                    <a:pt x="454" y="52"/>
                  </a:cubicBezTo>
                  <a:cubicBezTo>
                    <a:pt x="469" y="59"/>
                    <a:pt x="476" y="52"/>
                    <a:pt x="499" y="52"/>
                  </a:cubicBezTo>
                  <a:cubicBezTo>
                    <a:pt x="522" y="52"/>
                    <a:pt x="567" y="52"/>
                    <a:pt x="590" y="52"/>
                  </a:cubicBezTo>
                  <a:cubicBezTo>
                    <a:pt x="613" y="52"/>
                    <a:pt x="612" y="52"/>
                    <a:pt x="635" y="52"/>
                  </a:cubicBezTo>
                  <a:cubicBezTo>
                    <a:pt x="658" y="52"/>
                    <a:pt x="696" y="52"/>
                    <a:pt x="726" y="52"/>
                  </a:cubicBezTo>
                  <a:cubicBezTo>
                    <a:pt x="756" y="52"/>
                    <a:pt x="793" y="44"/>
                    <a:pt x="816" y="52"/>
                  </a:cubicBezTo>
                  <a:cubicBezTo>
                    <a:pt x="839" y="60"/>
                    <a:pt x="854" y="83"/>
                    <a:pt x="862" y="98"/>
                  </a:cubicBezTo>
                  <a:cubicBezTo>
                    <a:pt x="870" y="113"/>
                    <a:pt x="855" y="128"/>
                    <a:pt x="862" y="143"/>
                  </a:cubicBezTo>
                  <a:cubicBezTo>
                    <a:pt x="869" y="158"/>
                    <a:pt x="888" y="173"/>
                    <a:pt x="907" y="18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140360" y="1413000"/>
            <a:ext cx="3311280" cy="3168360"/>
          </a:xfrm>
          <a:custGeom>
            <a:avLst/>
            <a:gdLst/>
            <a:ahLst/>
            <a:rect l="l" t="t" r="r" b="b"/>
            <a:pathLst>
              <a:path w="2812" h="1996">
                <a:moveTo>
                  <a:pt x="0" y="816"/>
                </a:moveTo>
                <a:lnTo>
                  <a:pt x="2812" y="0"/>
                </a:lnTo>
                <a:lnTo>
                  <a:pt x="2812" y="1996"/>
                </a:lnTo>
                <a:lnTo>
                  <a:pt x="0" y="816"/>
                </a:lnTo>
                <a:close/>
              </a:path>
            </a:pathLst>
          </a:cu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rcRect l="7913" t="5070" r="19962" b="7542"/>
          <a:stretch/>
        </p:blipFill>
        <p:spPr>
          <a:xfrm>
            <a:off x="108000" y="3443400"/>
            <a:ext cx="3024000" cy="2938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4005360"/>
            <a:ext cx="1942920" cy="1798560"/>
          </a:xfrm>
          <a:custGeom>
            <a:avLst/>
            <a:gdLst/>
            <a:ahLst/>
            <a:rect l="l" t="t" r="r" b="b"/>
            <a:pathLst>
              <a:path w="2812" h="1996">
                <a:moveTo>
                  <a:pt x="0" y="816"/>
                </a:moveTo>
                <a:lnTo>
                  <a:pt x="2812" y="0"/>
                </a:lnTo>
                <a:lnTo>
                  <a:pt x="2812" y="1996"/>
                </a:lnTo>
                <a:lnTo>
                  <a:pt x="0" y="816"/>
                </a:lnTo>
                <a:close/>
              </a:path>
            </a:pathLst>
          </a:cu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04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08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97800" y="340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6480" y="4264200"/>
            <a:ext cx="3771360" cy="204372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 horizonte 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be pasar so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 borde sup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l mon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71640" y="189000"/>
            <a:ext cx="597708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 posición adecuada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236000" y="2122560"/>
          <a:ext cx="1622160" cy="39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2122560"/>
                    <a:ext cx="1622160" cy="39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1763640" y="1193760"/>
            <a:ext cx="1916280" cy="2263680"/>
            <a:chOff x="1763640" y="1193760"/>
            <a:chExt cx="1916280" cy="2263680"/>
          </a:xfrm>
        </p:grpSpPr>
        <p:pic>
          <p:nvPicPr>
            <p:cNvPr id="123" name="" descr=""/>
            <p:cNvPicPr/>
            <p:nvPr/>
          </p:nvPicPr>
          <p:blipFill>
            <a:blip r:embed="rId5"/>
            <a:srcRect l="0" t="0" r="34448" b="0"/>
            <a:stretch/>
          </p:blipFill>
          <p:spPr>
            <a:xfrm>
              <a:off x="1763640" y="1224000"/>
              <a:ext cx="19162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763640" y="1193760"/>
              <a:ext cx="1440000" cy="298440"/>
            </a:xfrm>
            <a:custGeom>
              <a:avLst/>
              <a:gdLst/>
              <a:ahLst/>
              <a:rect l="l" t="t" r="r" b="b"/>
              <a:pathLst>
                <a:path w="907" h="188">
                  <a:moveTo>
                    <a:pt x="0" y="143"/>
                  </a:moveTo>
                  <a:cubicBezTo>
                    <a:pt x="15" y="124"/>
                    <a:pt x="30" y="105"/>
                    <a:pt x="45" y="98"/>
                  </a:cubicBezTo>
                  <a:cubicBezTo>
                    <a:pt x="60" y="91"/>
                    <a:pt x="76" y="106"/>
                    <a:pt x="91" y="98"/>
                  </a:cubicBezTo>
                  <a:cubicBezTo>
                    <a:pt x="106" y="90"/>
                    <a:pt x="121" y="60"/>
                    <a:pt x="136" y="52"/>
                  </a:cubicBezTo>
                  <a:cubicBezTo>
                    <a:pt x="151" y="44"/>
                    <a:pt x="158" y="59"/>
                    <a:pt x="181" y="52"/>
                  </a:cubicBezTo>
                  <a:cubicBezTo>
                    <a:pt x="204" y="45"/>
                    <a:pt x="249" y="14"/>
                    <a:pt x="272" y="7"/>
                  </a:cubicBezTo>
                  <a:cubicBezTo>
                    <a:pt x="295" y="0"/>
                    <a:pt x="295" y="7"/>
                    <a:pt x="318" y="7"/>
                  </a:cubicBezTo>
                  <a:cubicBezTo>
                    <a:pt x="341" y="7"/>
                    <a:pt x="385" y="0"/>
                    <a:pt x="408" y="7"/>
                  </a:cubicBezTo>
                  <a:cubicBezTo>
                    <a:pt x="431" y="14"/>
                    <a:pt x="439" y="45"/>
                    <a:pt x="454" y="52"/>
                  </a:cubicBezTo>
                  <a:cubicBezTo>
                    <a:pt x="469" y="59"/>
                    <a:pt x="476" y="52"/>
                    <a:pt x="499" y="52"/>
                  </a:cubicBezTo>
                  <a:cubicBezTo>
                    <a:pt x="522" y="52"/>
                    <a:pt x="567" y="52"/>
                    <a:pt x="590" y="52"/>
                  </a:cubicBezTo>
                  <a:cubicBezTo>
                    <a:pt x="613" y="52"/>
                    <a:pt x="612" y="52"/>
                    <a:pt x="635" y="52"/>
                  </a:cubicBezTo>
                  <a:cubicBezTo>
                    <a:pt x="658" y="52"/>
                    <a:pt x="696" y="52"/>
                    <a:pt x="726" y="52"/>
                  </a:cubicBezTo>
                  <a:cubicBezTo>
                    <a:pt x="756" y="52"/>
                    <a:pt x="793" y="44"/>
                    <a:pt x="816" y="52"/>
                  </a:cubicBezTo>
                  <a:cubicBezTo>
                    <a:pt x="839" y="60"/>
                    <a:pt x="854" y="83"/>
                    <a:pt x="862" y="98"/>
                  </a:cubicBezTo>
                  <a:cubicBezTo>
                    <a:pt x="870" y="113"/>
                    <a:pt x="855" y="128"/>
                    <a:pt x="862" y="143"/>
                  </a:cubicBezTo>
                  <a:cubicBezTo>
                    <a:pt x="869" y="158"/>
                    <a:pt x="888" y="173"/>
                    <a:pt x="907" y="18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 flipV="1">
            <a:off x="3276360" y="2172960"/>
            <a:ext cx="5398920" cy="28440"/>
          </a:xfrm>
          <a:prstGeom prst="line">
            <a:avLst/>
          </a:prstGeom>
          <a:ln w="76320">
            <a:solidFill>
              <a:srgbClr val="00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28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32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3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22880" y="4545000"/>
            <a:ext cx="2724120" cy="204084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 cabeza está lev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clinada hacia el moni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de esa posició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árpado cubre casi 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 globo ocular, 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ge del brill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ntalla y disminuy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tiga visual y m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427640" y="270000"/>
            <a:ext cx="381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tura de trabajo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rect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1714680"/>
            <a:ext cx="51847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784880" y="335880"/>
            <a:ext cx="2218680" cy="2460240"/>
            <a:chOff x="1784880" y="335880"/>
            <a:chExt cx="2218680" cy="2460240"/>
          </a:xfrm>
        </p:grpSpPr>
        <p:pic>
          <p:nvPicPr>
            <p:cNvPr id="145" name="" descr=""/>
            <p:cNvPicPr/>
            <p:nvPr/>
          </p:nvPicPr>
          <p:blipFill>
            <a:blip r:embed="rId5"/>
            <a:srcRect l="0" t="0" r="32313" b="0"/>
            <a:stretch/>
          </p:blipFill>
          <p:spPr>
            <a:xfrm rot="621600">
              <a:off x="1963800" y="485280"/>
              <a:ext cx="18604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124000" y="417600"/>
              <a:ext cx="1522440" cy="658800"/>
            </a:xfrm>
            <a:custGeom>
              <a:avLst/>
              <a:gdLst/>
              <a:ahLst/>
              <a:rect l="l" t="t" r="r" b="b"/>
              <a:pathLst>
                <a:path w="959" h="415">
                  <a:moveTo>
                    <a:pt x="0" y="98"/>
                  </a:moveTo>
                  <a:cubicBezTo>
                    <a:pt x="53" y="79"/>
                    <a:pt x="106" y="60"/>
                    <a:pt x="136" y="52"/>
                  </a:cubicBezTo>
                  <a:cubicBezTo>
                    <a:pt x="166" y="44"/>
                    <a:pt x="158" y="59"/>
                    <a:pt x="181" y="52"/>
                  </a:cubicBezTo>
                  <a:cubicBezTo>
                    <a:pt x="204" y="45"/>
                    <a:pt x="249" y="14"/>
                    <a:pt x="272" y="7"/>
                  </a:cubicBezTo>
                  <a:cubicBezTo>
                    <a:pt x="295" y="0"/>
                    <a:pt x="294" y="7"/>
                    <a:pt x="317" y="7"/>
                  </a:cubicBezTo>
                  <a:cubicBezTo>
                    <a:pt x="340" y="7"/>
                    <a:pt x="378" y="0"/>
                    <a:pt x="408" y="7"/>
                  </a:cubicBezTo>
                  <a:cubicBezTo>
                    <a:pt x="438" y="14"/>
                    <a:pt x="469" y="37"/>
                    <a:pt x="499" y="52"/>
                  </a:cubicBezTo>
                  <a:cubicBezTo>
                    <a:pt x="529" y="67"/>
                    <a:pt x="566" y="90"/>
                    <a:pt x="589" y="98"/>
                  </a:cubicBezTo>
                  <a:cubicBezTo>
                    <a:pt x="612" y="106"/>
                    <a:pt x="620" y="98"/>
                    <a:pt x="635" y="98"/>
                  </a:cubicBezTo>
                  <a:cubicBezTo>
                    <a:pt x="650" y="98"/>
                    <a:pt x="665" y="91"/>
                    <a:pt x="680" y="98"/>
                  </a:cubicBezTo>
                  <a:cubicBezTo>
                    <a:pt x="695" y="105"/>
                    <a:pt x="703" y="136"/>
                    <a:pt x="726" y="143"/>
                  </a:cubicBezTo>
                  <a:cubicBezTo>
                    <a:pt x="749" y="150"/>
                    <a:pt x="793" y="128"/>
                    <a:pt x="816" y="143"/>
                  </a:cubicBezTo>
                  <a:cubicBezTo>
                    <a:pt x="839" y="158"/>
                    <a:pt x="847" y="211"/>
                    <a:pt x="862" y="234"/>
                  </a:cubicBezTo>
                  <a:cubicBezTo>
                    <a:pt x="877" y="257"/>
                    <a:pt x="892" y="264"/>
                    <a:pt x="907" y="279"/>
                  </a:cubicBezTo>
                  <a:cubicBezTo>
                    <a:pt x="922" y="294"/>
                    <a:pt x="945" y="309"/>
                    <a:pt x="952" y="324"/>
                  </a:cubicBezTo>
                  <a:cubicBezTo>
                    <a:pt x="959" y="339"/>
                    <a:pt x="952" y="355"/>
                    <a:pt x="952" y="370"/>
                  </a:cubicBezTo>
                  <a:cubicBezTo>
                    <a:pt x="952" y="385"/>
                    <a:pt x="952" y="400"/>
                    <a:pt x="952" y="415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7236000" y="1650960"/>
          <a:ext cx="1622160" cy="392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6000" y="1650960"/>
                    <a:ext cx="162216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 rot="417000">
            <a:off x="34560" y="3068640"/>
            <a:ext cx="3959280" cy="3075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64000" y="1773360"/>
            <a:ext cx="3960720" cy="1655640"/>
          </a:xfrm>
          <a:custGeom>
            <a:avLst/>
            <a:gdLst/>
            <a:ahLst/>
            <a:rect l="l" t="t" r="r" b="b"/>
            <a:pathLst>
              <a:path w="2495" h="1043">
                <a:moveTo>
                  <a:pt x="0" y="0"/>
                </a:moveTo>
                <a:lnTo>
                  <a:pt x="2495" y="45"/>
                </a:lnTo>
                <a:lnTo>
                  <a:pt x="2359" y="1043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773360"/>
            <a:ext cx="3959280" cy="3240000"/>
          </a:xfrm>
          <a:custGeom>
            <a:avLst/>
            <a:gdLst/>
            <a:ahLst/>
            <a:rect l="l" t="t" r="r" b="b"/>
            <a:pathLst>
              <a:path w="2494" h="2041">
                <a:moveTo>
                  <a:pt x="45" y="45"/>
                </a:moveTo>
                <a:lnTo>
                  <a:pt x="2404" y="1043"/>
                </a:lnTo>
                <a:lnTo>
                  <a:pt x="2494" y="2041"/>
                </a:lnTo>
                <a:lnTo>
                  <a:pt x="0" y="0"/>
                </a:lnTo>
              </a:path>
            </a:pathLst>
          </a:custGeom>
          <a:solidFill>
            <a:srgbClr val="ffff00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920400">
            <a:off x="5456880" y="2119680"/>
            <a:ext cx="17823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ONA PROTEJ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EL PÁRP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1773360"/>
            <a:ext cx="3816360" cy="165564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346600">
            <a:off x="5301720" y="3399480"/>
            <a:ext cx="1692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ONA EX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4452840"/>
            <a:ext cx="1943280" cy="1297080"/>
          </a:xfrm>
          <a:custGeom>
            <a:avLst/>
            <a:gdLst/>
            <a:ahLst/>
            <a:rect l="l" t="t" r="r" b="b"/>
            <a:pathLst>
              <a:path w="1224" h="817">
                <a:moveTo>
                  <a:pt x="0" y="0"/>
                </a:moveTo>
                <a:lnTo>
                  <a:pt x="0" y="91"/>
                </a:lnTo>
                <a:lnTo>
                  <a:pt x="0" y="181"/>
                </a:lnTo>
                <a:lnTo>
                  <a:pt x="1224" y="817"/>
                </a:lnTo>
                <a:lnTo>
                  <a:pt x="1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4710240"/>
            <a:ext cx="1943280" cy="2160360"/>
          </a:xfrm>
          <a:custGeom>
            <a:avLst/>
            <a:gdLst/>
            <a:ahLst/>
            <a:rect l="l" t="t" r="r" b="b"/>
            <a:pathLst>
              <a:path w="1224" h="1361">
                <a:moveTo>
                  <a:pt x="0" y="0"/>
                </a:moveTo>
                <a:lnTo>
                  <a:pt x="1224" y="636"/>
                </a:lnTo>
                <a:lnTo>
                  <a:pt x="1224" y="1361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4724280"/>
            <a:ext cx="1654200" cy="86544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60" name="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64" name="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5" h="826">
                            <a:moveTo>
                              <a:pt x="400" y="15"/>
                            </a:moveTo>
                            <a:cubicBezTo>
                              <a:pt x="358" y="17"/>
                              <a:pt x="298" y="15"/>
                              <a:pt x="252" y="25"/>
                            </a:cubicBezTo>
                            <a:cubicBezTo>
                              <a:pt x="221" y="31"/>
                              <a:pt x="194" y="50"/>
                              <a:pt x="165" y="58"/>
                            </a:cubicBezTo>
                            <a:cubicBezTo>
                              <a:pt x="136" y="79"/>
                              <a:pt x="123" y="117"/>
                              <a:pt x="93" y="135"/>
                            </a:cubicBezTo>
                            <a:cubicBezTo>
                              <a:pt x="88" y="151"/>
                              <a:pt x="77" y="181"/>
                              <a:pt x="69" y="193"/>
                            </a:cubicBezTo>
                            <a:cubicBezTo>
                              <a:pt x="63" y="203"/>
                              <a:pt x="54" y="211"/>
                              <a:pt x="50" y="222"/>
                            </a:cubicBezTo>
                            <a:cubicBezTo>
                              <a:pt x="47" y="231"/>
                              <a:pt x="40" y="250"/>
                              <a:pt x="40" y="250"/>
                            </a:cubicBezTo>
                            <a:cubicBezTo>
                              <a:pt x="37" y="269"/>
                              <a:pt x="36" y="289"/>
                              <a:pt x="31" y="308"/>
                            </a:cubicBezTo>
                            <a:cubicBezTo>
                              <a:pt x="29" y="318"/>
                              <a:pt x="24" y="327"/>
                              <a:pt x="21" y="337"/>
                            </a:cubicBezTo>
                            <a:cubicBezTo>
                              <a:pt x="19" y="342"/>
                              <a:pt x="16" y="351"/>
                              <a:pt x="16" y="351"/>
                            </a:cubicBezTo>
                            <a:cubicBezTo>
                              <a:pt x="21" y="499"/>
                              <a:pt x="0" y="527"/>
                              <a:pt x="88" y="615"/>
                            </a:cubicBezTo>
                            <a:cubicBezTo>
                              <a:pt x="100" y="652"/>
                              <a:pt x="82" y="606"/>
                              <a:pt x="108" y="644"/>
                            </a:cubicBezTo>
                            <a:cubicBezTo>
                              <a:pt x="132" y="679"/>
                              <a:pt x="140" y="731"/>
                              <a:pt x="175" y="759"/>
                            </a:cubicBezTo>
                            <a:cubicBezTo>
                              <a:pt x="187" y="768"/>
                              <a:pt x="209" y="774"/>
                              <a:pt x="223" y="778"/>
                            </a:cubicBezTo>
                            <a:cubicBezTo>
                              <a:pt x="249" y="797"/>
                              <a:pt x="277" y="798"/>
                              <a:pt x="309" y="802"/>
                            </a:cubicBezTo>
                            <a:cubicBezTo>
                              <a:pt x="351" y="808"/>
                              <a:pt x="392" y="821"/>
                              <a:pt x="434" y="826"/>
                            </a:cubicBezTo>
                            <a:cubicBezTo>
                              <a:pt x="481" y="823"/>
                              <a:pt x="522" y="817"/>
                              <a:pt x="568" y="812"/>
                            </a:cubicBezTo>
                            <a:cubicBezTo>
                              <a:pt x="584" y="807"/>
                              <a:pt x="616" y="798"/>
                              <a:pt x="616" y="798"/>
                            </a:cubicBezTo>
                            <a:cubicBezTo>
                              <a:pt x="630" y="788"/>
                              <a:pt x="645" y="783"/>
                              <a:pt x="660" y="774"/>
                            </a:cubicBezTo>
                            <a:cubicBezTo>
                              <a:pt x="684" y="734"/>
                              <a:pt x="652" y="782"/>
                              <a:pt x="684" y="750"/>
                            </a:cubicBezTo>
                            <a:cubicBezTo>
                              <a:pt x="702" y="732"/>
                              <a:pt x="726" y="677"/>
                              <a:pt x="732" y="654"/>
                            </a:cubicBezTo>
                            <a:cubicBezTo>
                              <a:pt x="738" y="630"/>
                              <a:pt x="735" y="642"/>
                              <a:pt x="746" y="610"/>
                            </a:cubicBezTo>
                            <a:cubicBezTo>
                              <a:pt x="749" y="601"/>
                              <a:pt x="756" y="582"/>
                              <a:pt x="756" y="582"/>
                            </a:cubicBezTo>
                            <a:cubicBezTo>
                              <a:pt x="765" y="526"/>
                              <a:pt x="761" y="469"/>
                              <a:pt x="775" y="414"/>
                            </a:cubicBezTo>
                            <a:cubicBezTo>
                              <a:pt x="773" y="364"/>
                              <a:pt x="773" y="315"/>
                              <a:pt x="770" y="265"/>
                            </a:cubicBezTo>
                            <a:cubicBezTo>
                              <a:pt x="766" y="195"/>
                              <a:pt x="696" y="174"/>
                              <a:pt x="655" y="130"/>
                            </a:cubicBezTo>
                            <a:cubicBezTo>
                              <a:pt x="650" y="117"/>
                              <a:pt x="608" y="62"/>
                              <a:pt x="592" y="54"/>
                            </a:cubicBezTo>
                            <a:cubicBezTo>
                              <a:pt x="573" y="45"/>
                              <a:pt x="548" y="46"/>
                              <a:pt x="530" y="34"/>
                            </a:cubicBezTo>
                            <a:cubicBezTo>
                              <a:pt x="504" y="17"/>
                              <a:pt x="475" y="7"/>
                              <a:pt x="444" y="1"/>
                            </a:cubicBezTo>
                            <a:cubicBezTo>
                              <a:pt x="434" y="3"/>
                              <a:pt x="422" y="0"/>
                              <a:pt x="415" y="6"/>
                            </a:cubicBezTo>
                            <a:cubicBezTo>
                              <a:pt x="407" y="12"/>
                              <a:pt x="405" y="34"/>
                              <a:pt x="405" y="34"/>
                            </a:cubicBezTo>
                            <a:cubicBezTo>
                              <a:pt x="403" y="61"/>
                              <a:pt x="403" y="89"/>
                              <a:pt x="400" y="116"/>
                            </a:cubicBezTo>
                            <a:cubicBezTo>
                              <a:pt x="400" y="121"/>
                              <a:pt x="400" y="127"/>
                              <a:pt x="396" y="130"/>
                            </a:cubicBezTo>
                            <a:cubicBezTo>
                              <a:pt x="376" y="144"/>
                              <a:pt x="337" y="147"/>
                              <a:pt x="314" y="154"/>
                            </a:cubicBezTo>
                            <a:cubicBezTo>
                              <a:pt x="297" y="166"/>
                              <a:pt x="276" y="176"/>
                              <a:pt x="256" y="183"/>
                            </a:cubicBezTo>
                            <a:cubicBezTo>
                              <a:pt x="241" y="193"/>
                              <a:pt x="230" y="197"/>
                              <a:pt x="213" y="202"/>
                            </a:cubicBezTo>
                            <a:cubicBezTo>
                              <a:pt x="179" y="226"/>
                              <a:pt x="166" y="270"/>
                              <a:pt x="132" y="294"/>
                            </a:cubicBezTo>
                            <a:cubicBezTo>
                              <a:pt x="117" y="337"/>
                              <a:pt x="92" y="379"/>
                              <a:pt x="151" y="399"/>
                            </a:cubicBezTo>
                            <a:cubicBezTo>
                              <a:pt x="146" y="464"/>
                              <a:pt x="144" y="448"/>
                              <a:pt x="132" y="490"/>
                            </a:cubicBezTo>
                            <a:cubicBezTo>
                              <a:pt x="133" y="506"/>
                              <a:pt x="131" y="523"/>
                              <a:pt x="136" y="538"/>
                            </a:cubicBezTo>
                            <a:cubicBezTo>
                              <a:pt x="144" y="563"/>
                              <a:pt x="206" y="617"/>
                              <a:pt x="223" y="634"/>
                            </a:cubicBezTo>
                            <a:cubicBezTo>
                              <a:pt x="258" y="795"/>
                              <a:pt x="455" y="662"/>
                              <a:pt x="546" y="617"/>
                            </a:cubicBezTo>
                            <a:cubicBezTo>
                              <a:pt x="576" y="587"/>
                              <a:pt x="607" y="556"/>
                              <a:pt x="637" y="526"/>
                            </a:cubicBezTo>
                            <a:cubicBezTo>
                              <a:pt x="652" y="511"/>
                              <a:pt x="682" y="481"/>
                              <a:pt x="682" y="481"/>
                            </a:cubicBezTo>
                            <a:cubicBezTo>
                              <a:pt x="624" y="304"/>
                              <a:pt x="671" y="379"/>
                              <a:pt x="546" y="254"/>
                            </a:cubicBezTo>
                            <a:cubicBezTo>
                              <a:pt x="531" y="239"/>
                              <a:pt x="516" y="224"/>
                              <a:pt x="501" y="209"/>
                            </a:cubicBezTo>
                            <a:cubicBezTo>
                              <a:pt x="486" y="194"/>
                              <a:pt x="455" y="164"/>
                              <a:pt x="455" y="164"/>
                            </a:cubicBezTo>
                            <a:cubicBezTo>
                              <a:pt x="395" y="179"/>
                              <a:pt x="333" y="189"/>
                              <a:pt x="274" y="209"/>
                            </a:cubicBezTo>
                            <a:cubicBezTo>
                              <a:pt x="242" y="220"/>
                              <a:pt x="211" y="235"/>
                              <a:pt x="183" y="254"/>
                            </a:cubicBezTo>
                            <a:cubicBezTo>
                              <a:pt x="165" y="266"/>
                              <a:pt x="138" y="300"/>
                              <a:pt x="138" y="300"/>
                            </a:cubicBezTo>
                            <a:lnTo>
                              <a:pt x="138" y="25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775">
                          <a:moveTo>
                            <a:pt x="69" y="67"/>
                          </a:moveTo>
                          <a:cubicBezTo>
                            <a:pt x="84" y="62"/>
                            <a:pt x="97" y="52"/>
                            <a:pt x="112" y="48"/>
                          </a:cubicBezTo>
                          <a:cubicBezTo>
                            <a:pt x="131" y="43"/>
                            <a:pt x="170" y="38"/>
                            <a:pt x="170" y="38"/>
                          </a:cubicBezTo>
                          <a:cubicBezTo>
                            <a:pt x="218" y="21"/>
                            <a:pt x="264" y="10"/>
                            <a:pt x="314" y="0"/>
                          </a:cubicBezTo>
                          <a:cubicBezTo>
                            <a:pt x="374" y="7"/>
                            <a:pt x="367" y="8"/>
                            <a:pt x="376" y="62"/>
                          </a:cubicBezTo>
                          <a:cubicBezTo>
                            <a:pt x="374" y="80"/>
                            <a:pt x="376" y="98"/>
                            <a:pt x="371" y="115"/>
                          </a:cubicBezTo>
                          <a:cubicBezTo>
                            <a:pt x="368" y="124"/>
                            <a:pt x="350" y="127"/>
                            <a:pt x="343" y="129"/>
                          </a:cubicBezTo>
                          <a:cubicBezTo>
                            <a:pt x="317" y="137"/>
                            <a:pt x="293" y="147"/>
                            <a:pt x="266" y="153"/>
                          </a:cubicBezTo>
                          <a:cubicBezTo>
                            <a:pt x="234" y="170"/>
                            <a:pt x="209" y="185"/>
                            <a:pt x="175" y="197"/>
                          </a:cubicBezTo>
                          <a:cubicBezTo>
                            <a:pt x="159" y="203"/>
                            <a:pt x="148" y="215"/>
                            <a:pt x="131" y="221"/>
                          </a:cubicBezTo>
                          <a:cubicBezTo>
                            <a:pt x="112" y="251"/>
                            <a:pt x="82" y="265"/>
                            <a:pt x="69" y="302"/>
                          </a:cubicBezTo>
                          <a:cubicBezTo>
                            <a:pt x="67" y="342"/>
                            <a:pt x="67" y="382"/>
                            <a:pt x="64" y="422"/>
                          </a:cubicBezTo>
                          <a:cubicBezTo>
                            <a:pt x="60" y="483"/>
                            <a:pt x="49" y="540"/>
                            <a:pt x="103" y="576"/>
                          </a:cubicBezTo>
                          <a:cubicBezTo>
                            <a:pt x="109" y="597"/>
                            <a:pt x="128" y="617"/>
                            <a:pt x="146" y="629"/>
                          </a:cubicBezTo>
                          <a:cubicBezTo>
                            <a:pt x="159" y="649"/>
                            <a:pt x="180" y="664"/>
                            <a:pt x="199" y="677"/>
                          </a:cubicBezTo>
                          <a:cubicBezTo>
                            <a:pt x="212" y="697"/>
                            <a:pt x="228" y="705"/>
                            <a:pt x="237" y="729"/>
                          </a:cubicBezTo>
                          <a:cubicBezTo>
                            <a:pt x="222" y="775"/>
                            <a:pt x="168" y="737"/>
                            <a:pt x="146" y="715"/>
                          </a:cubicBezTo>
                          <a:cubicBezTo>
                            <a:pt x="135" y="685"/>
                            <a:pt x="110" y="656"/>
                            <a:pt x="93" y="629"/>
                          </a:cubicBezTo>
                          <a:cubicBezTo>
                            <a:pt x="82" y="611"/>
                            <a:pt x="59" y="576"/>
                            <a:pt x="59" y="576"/>
                          </a:cubicBezTo>
                          <a:cubicBezTo>
                            <a:pt x="54" y="559"/>
                            <a:pt x="50" y="548"/>
                            <a:pt x="40" y="533"/>
                          </a:cubicBezTo>
                          <a:cubicBezTo>
                            <a:pt x="28" y="497"/>
                            <a:pt x="25" y="460"/>
                            <a:pt x="21" y="422"/>
                          </a:cubicBezTo>
                          <a:cubicBezTo>
                            <a:pt x="22" y="381"/>
                            <a:pt x="0" y="233"/>
                            <a:pt x="64" y="192"/>
                          </a:cubicBezTo>
                          <a:cubicBezTo>
                            <a:pt x="85" y="160"/>
                            <a:pt x="99" y="152"/>
                            <a:pt x="127" y="125"/>
                          </a:cubicBezTo>
                          <a:cubicBezTo>
                            <a:pt x="157" y="96"/>
                            <a:pt x="179" y="70"/>
                            <a:pt x="213" y="48"/>
                          </a:cubicBezTo>
                          <a:cubicBezTo>
                            <a:pt x="227" y="39"/>
                            <a:pt x="241" y="26"/>
                            <a:pt x="256" y="19"/>
                          </a:cubicBezTo>
                          <a:cubicBezTo>
                            <a:pt x="265" y="15"/>
                            <a:pt x="285" y="9"/>
                            <a:pt x="285" y="9"/>
                          </a:cubicBezTo>
                          <a:cubicBezTo>
                            <a:pt x="306" y="11"/>
                            <a:pt x="327" y="8"/>
                            <a:pt x="347" y="14"/>
                          </a:cubicBezTo>
                          <a:cubicBezTo>
                            <a:pt x="353" y="16"/>
                            <a:pt x="357" y="29"/>
                            <a:pt x="357" y="29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" name="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600">
                        <a:moveTo>
                          <a:pt x="117" y="0"/>
                        </a:moveTo>
                        <a:cubicBezTo>
                          <a:pt x="108" y="25"/>
                          <a:pt x="93" y="49"/>
                          <a:pt x="79" y="72"/>
                        </a:cubicBezTo>
                        <a:cubicBezTo>
                          <a:pt x="76" y="91"/>
                          <a:pt x="75" y="111"/>
                          <a:pt x="69" y="129"/>
                        </a:cubicBezTo>
                        <a:cubicBezTo>
                          <a:pt x="66" y="139"/>
                          <a:pt x="59" y="158"/>
                          <a:pt x="59" y="158"/>
                        </a:cubicBezTo>
                        <a:cubicBezTo>
                          <a:pt x="58" y="195"/>
                          <a:pt x="58" y="232"/>
                          <a:pt x="55" y="269"/>
                        </a:cubicBezTo>
                        <a:cubicBezTo>
                          <a:pt x="54" y="286"/>
                          <a:pt x="40" y="317"/>
                          <a:pt x="40" y="317"/>
                        </a:cubicBezTo>
                        <a:cubicBezTo>
                          <a:pt x="43" y="354"/>
                          <a:pt x="42" y="391"/>
                          <a:pt x="74" y="413"/>
                        </a:cubicBezTo>
                        <a:cubicBezTo>
                          <a:pt x="96" y="445"/>
                          <a:pt x="82" y="437"/>
                          <a:pt x="107" y="446"/>
                        </a:cubicBezTo>
                        <a:cubicBezTo>
                          <a:pt x="124" y="463"/>
                          <a:pt x="142" y="477"/>
                          <a:pt x="165" y="485"/>
                        </a:cubicBezTo>
                        <a:cubicBezTo>
                          <a:pt x="178" y="522"/>
                          <a:pt x="159" y="479"/>
                          <a:pt x="184" y="504"/>
                        </a:cubicBezTo>
                        <a:cubicBezTo>
                          <a:pt x="209" y="529"/>
                          <a:pt x="166" y="510"/>
                          <a:pt x="203" y="523"/>
                        </a:cubicBezTo>
                        <a:cubicBezTo>
                          <a:pt x="213" y="551"/>
                          <a:pt x="255" y="544"/>
                          <a:pt x="280" y="547"/>
                        </a:cubicBezTo>
                        <a:cubicBezTo>
                          <a:pt x="313" y="556"/>
                          <a:pt x="319" y="590"/>
                          <a:pt x="280" y="600"/>
                        </a:cubicBezTo>
                        <a:cubicBezTo>
                          <a:pt x="222" y="595"/>
                          <a:pt x="207" y="590"/>
                          <a:pt x="160" y="561"/>
                        </a:cubicBezTo>
                        <a:cubicBezTo>
                          <a:pt x="154" y="557"/>
                          <a:pt x="147" y="555"/>
                          <a:pt x="141" y="552"/>
                        </a:cubicBezTo>
                        <a:cubicBezTo>
                          <a:pt x="136" y="550"/>
                          <a:pt x="131" y="549"/>
                          <a:pt x="127" y="547"/>
                        </a:cubicBezTo>
                        <a:cubicBezTo>
                          <a:pt x="117" y="541"/>
                          <a:pt x="98" y="528"/>
                          <a:pt x="98" y="528"/>
                        </a:cubicBezTo>
                        <a:cubicBezTo>
                          <a:pt x="84" y="506"/>
                          <a:pt x="74" y="482"/>
                          <a:pt x="59" y="461"/>
                        </a:cubicBezTo>
                        <a:cubicBezTo>
                          <a:pt x="53" y="437"/>
                          <a:pt x="48" y="413"/>
                          <a:pt x="40" y="389"/>
                        </a:cubicBezTo>
                        <a:cubicBezTo>
                          <a:pt x="33" y="349"/>
                          <a:pt x="34" y="309"/>
                          <a:pt x="26" y="269"/>
                        </a:cubicBezTo>
                        <a:cubicBezTo>
                          <a:pt x="28" y="198"/>
                          <a:pt x="0" y="66"/>
                          <a:pt x="93" y="33"/>
                        </a:cubicBezTo>
                        <a:cubicBezTo>
                          <a:pt x="104" y="35"/>
                          <a:pt x="119" y="30"/>
                          <a:pt x="127" y="38"/>
                        </a:cubicBezTo>
                        <a:cubicBezTo>
                          <a:pt x="134" y="45"/>
                          <a:pt x="102" y="95"/>
                          <a:pt x="98" y="105"/>
                        </a:cubicBezTo>
                        <a:cubicBezTo>
                          <a:pt x="69" y="170"/>
                          <a:pt x="40" y="245"/>
                          <a:pt x="40" y="317"/>
                        </a:cubicBezTo>
                        <a:lnTo>
                          <a:pt x="37" y="17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933480" y="303120"/>
                <a:ext cx="777960" cy="1251000"/>
              </a:xfrm>
              <a:custGeom>
                <a:avLst/>
                <a:gdLst/>
                <a:ahLst/>
                <a:rect l="l" t="t" r="r" b="b"/>
                <a:pathLst>
                  <a:path w="490" h="788">
                    <a:moveTo>
                      <a:pt x="0" y="87"/>
                    </a:moveTo>
                    <a:cubicBezTo>
                      <a:pt x="21" y="91"/>
                      <a:pt x="33" y="99"/>
                      <a:pt x="53" y="106"/>
                    </a:cubicBezTo>
                    <a:cubicBezTo>
                      <a:pt x="97" y="137"/>
                      <a:pt x="146" y="161"/>
                      <a:pt x="197" y="178"/>
                    </a:cubicBezTo>
                    <a:cubicBezTo>
                      <a:pt x="224" y="197"/>
                      <a:pt x="259" y="207"/>
                      <a:pt x="283" y="231"/>
                    </a:cubicBezTo>
                    <a:cubicBezTo>
                      <a:pt x="297" y="245"/>
                      <a:pt x="299" y="258"/>
                      <a:pt x="317" y="269"/>
                    </a:cubicBezTo>
                    <a:cubicBezTo>
                      <a:pt x="329" y="306"/>
                      <a:pt x="350" y="341"/>
                      <a:pt x="360" y="380"/>
                    </a:cubicBezTo>
                    <a:cubicBezTo>
                      <a:pt x="358" y="479"/>
                      <a:pt x="359" y="578"/>
                      <a:pt x="355" y="677"/>
                    </a:cubicBezTo>
                    <a:cubicBezTo>
                      <a:pt x="354" y="693"/>
                      <a:pt x="341" y="706"/>
                      <a:pt x="336" y="721"/>
                    </a:cubicBezTo>
                    <a:cubicBezTo>
                      <a:pt x="333" y="730"/>
                      <a:pt x="326" y="749"/>
                      <a:pt x="326" y="749"/>
                    </a:cubicBezTo>
                    <a:cubicBezTo>
                      <a:pt x="333" y="788"/>
                      <a:pt x="330" y="777"/>
                      <a:pt x="360" y="769"/>
                    </a:cubicBezTo>
                    <a:cubicBezTo>
                      <a:pt x="377" y="757"/>
                      <a:pt x="374" y="747"/>
                      <a:pt x="394" y="740"/>
                    </a:cubicBezTo>
                    <a:cubicBezTo>
                      <a:pt x="426" y="707"/>
                      <a:pt x="414" y="722"/>
                      <a:pt x="432" y="697"/>
                    </a:cubicBezTo>
                    <a:cubicBezTo>
                      <a:pt x="444" y="660"/>
                      <a:pt x="458" y="624"/>
                      <a:pt x="470" y="586"/>
                    </a:cubicBezTo>
                    <a:cubicBezTo>
                      <a:pt x="473" y="575"/>
                      <a:pt x="481" y="555"/>
                      <a:pt x="485" y="543"/>
                    </a:cubicBezTo>
                    <a:cubicBezTo>
                      <a:pt x="487" y="538"/>
                      <a:pt x="490" y="529"/>
                      <a:pt x="490" y="529"/>
                    </a:cubicBezTo>
                    <a:cubicBezTo>
                      <a:pt x="488" y="468"/>
                      <a:pt x="489" y="407"/>
                      <a:pt x="485" y="346"/>
                    </a:cubicBezTo>
                    <a:cubicBezTo>
                      <a:pt x="485" y="345"/>
                      <a:pt x="473" y="311"/>
                      <a:pt x="470" y="303"/>
                    </a:cubicBezTo>
                    <a:cubicBezTo>
                      <a:pt x="456" y="265"/>
                      <a:pt x="447" y="198"/>
                      <a:pt x="403" y="183"/>
                    </a:cubicBezTo>
                    <a:cubicBezTo>
                      <a:pt x="392" y="166"/>
                      <a:pt x="367" y="153"/>
                      <a:pt x="350" y="140"/>
                    </a:cubicBezTo>
                    <a:cubicBezTo>
                      <a:pt x="341" y="133"/>
                      <a:pt x="331" y="127"/>
                      <a:pt x="322" y="121"/>
                    </a:cubicBezTo>
                    <a:cubicBezTo>
                      <a:pt x="317" y="118"/>
                      <a:pt x="307" y="111"/>
                      <a:pt x="307" y="111"/>
                    </a:cubicBezTo>
                    <a:cubicBezTo>
                      <a:pt x="294" y="90"/>
                      <a:pt x="235" y="57"/>
                      <a:pt x="211" y="49"/>
                    </a:cubicBezTo>
                    <a:cubicBezTo>
                      <a:pt x="201" y="46"/>
                      <a:pt x="192" y="42"/>
                      <a:pt x="182" y="39"/>
                    </a:cubicBezTo>
                    <a:cubicBezTo>
                      <a:pt x="177" y="37"/>
                      <a:pt x="168" y="34"/>
                      <a:pt x="168" y="34"/>
                    </a:cubicBezTo>
                    <a:cubicBezTo>
                      <a:pt x="38" y="39"/>
                      <a:pt x="29" y="0"/>
                      <a:pt x="29" y="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59040" y="333360"/>
                <a:ext cx="784080" cy="1220760"/>
              </a:xfrm>
              <a:custGeom>
                <a:avLst/>
                <a:gdLst/>
                <a:ahLst/>
                <a:rect l="l" t="t" r="r" b="b"/>
                <a:pathLst>
                  <a:path w="494" h="769">
                    <a:moveTo>
                      <a:pt x="27" y="87"/>
                    </a:moveTo>
                    <a:cubicBezTo>
                      <a:pt x="59" y="108"/>
                      <a:pt x="100" y="122"/>
                      <a:pt x="138" y="130"/>
                    </a:cubicBezTo>
                    <a:cubicBezTo>
                      <a:pt x="164" y="144"/>
                      <a:pt x="195" y="152"/>
                      <a:pt x="219" y="169"/>
                    </a:cubicBezTo>
                    <a:cubicBezTo>
                      <a:pt x="251" y="192"/>
                      <a:pt x="274" y="224"/>
                      <a:pt x="296" y="255"/>
                    </a:cubicBezTo>
                    <a:cubicBezTo>
                      <a:pt x="304" y="280"/>
                      <a:pt x="310" y="306"/>
                      <a:pt x="325" y="327"/>
                    </a:cubicBezTo>
                    <a:cubicBezTo>
                      <a:pt x="330" y="343"/>
                      <a:pt x="339" y="375"/>
                      <a:pt x="339" y="375"/>
                    </a:cubicBezTo>
                    <a:cubicBezTo>
                      <a:pt x="336" y="477"/>
                      <a:pt x="336" y="561"/>
                      <a:pt x="301" y="654"/>
                    </a:cubicBezTo>
                    <a:cubicBezTo>
                      <a:pt x="294" y="694"/>
                      <a:pt x="279" y="757"/>
                      <a:pt x="325" y="769"/>
                    </a:cubicBezTo>
                    <a:cubicBezTo>
                      <a:pt x="403" y="728"/>
                      <a:pt x="454" y="629"/>
                      <a:pt x="483" y="548"/>
                    </a:cubicBezTo>
                    <a:cubicBezTo>
                      <a:pt x="494" y="471"/>
                      <a:pt x="485" y="290"/>
                      <a:pt x="430" y="212"/>
                    </a:cubicBezTo>
                    <a:cubicBezTo>
                      <a:pt x="421" y="181"/>
                      <a:pt x="434" y="214"/>
                      <a:pt x="411" y="188"/>
                    </a:cubicBezTo>
                    <a:cubicBezTo>
                      <a:pt x="372" y="144"/>
                      <a:pt x="410" y="170"/>
                      <a:pt x="378" y="150"/>
                    </a:cubicBezTo>
                    <a:cubicBezTo>
                      <a:pt x="368" y="136"/>
                      <a:pt x="361" y="118"/>
                      <a:pt x="349" y="106"/>
                    </a:cubicBezTo>
                    <a:cubicBezTo>
                      <a:pt x="341" y="98"/>
                      <a:pt x="328" y="95"/>
                      <a:pt x="320" y="87"/>
                    </a:cubicBezTo>
                    <a:cubicBezTo>
                      <a:pt x="302" y="69"/>
                      <a:pt x="319" y="75"/>
                      <a:pt x="296" y="63"/>
                    </a:cubicBezTo>
                    <a:cubicBezTo>
                      <a:pt x="266" y="47"/>
                      <a:pt x="298" y="71"/>
                      <a:pt x="267" y="49"/>
                    </a:cubicBezTo>
                    <a:cubicBezTo>
                      <a:pt x="255" y="41"/>
                      <a:pt x="248" y="22"/>
                      <a:pt x="234" y="20"/>
                    </a:cubicBezTo>
                    <a:cubicBezTo>
                      <a:pt x="202" y="15"/>
                      <a:pt x="170" y="17"/>
                      <a:pt x="138" y="15"/>
                    </a:cubicBezTo>
                    <a:cubicBezTo>
                      <a:pt x="98" y="5"/>
                      <a:pt x="53" y="0"/>
                      <a:pt x="18" y="25"/>
                    </a:cubicBezTo>
                    <a:cubicBezTo>
                      <a:pt x="9" y="51"/>
                      <a:pt x="0" y="63"/>
                      <a:pt x="13" y="92"/>
                    </a:cubicBezTo>
                    <a:cubicBezTo>
                      <a:pt x="15" y="97"/>
                      <a:pt x="22" y="99"/>
                      <a:pt x="27" y="97"/>
                    </a:cubicBezTo>
                    <a:cubicBezTo>
                      <a:pt x="30" y="96"/>
                      <a:pt x="27" y="90"/>
                      <a:pt x="27" y="8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 txBox="1"/>
          <p:nvPr/>
        </p:nvSpPr>
        <p:spPr>
          <a:xfrm rot="17451000">
            <a:off x="339120" y="417240"/>
            <a:ext cx="1306800" cy="12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apograf@gmail.com     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32313" b="0"/>
          <a:stretch/>
        </p:blipFill>
        <p:spPr>
          <a:xfrm rot="621600">
            <a:off x="2268000" y="3254400"/>
            <a:ext cx="1341720" cy="1541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82840" y="3205080"/>
            <a:ext cx="1098720" cy="471600"/>
          </a:xfrm>
          <a:custGeom>
            <a:avLst/>
            <a:gdLst/>
            <a:ahLst/>
            <a:rect l="l" t="t" r="r" b="b"/>
            <a:pathLst>
              <a:path w="959" h="415">
                <a:moveTo>
                  <a:pt x="0" y="98"/>
                </a:moveTo>
                <a:cubicBezTo>
                  <a:pt x="53" y="79"/>
                  <a:pt x="106" y="60"/>
                  <a:pt x="136" y="52"/>
                </a:cubicBezTo>
                <a:cubicBezTo>
                  <a:pt x="166" y="44"/>
                  <a:pt x="158" y="59"/>
                  <a:pt x="181" y="52"/>
                </a:cubicBezTo>
                <a:cubicBezTo>
                  <a:pt x="204" y="45"/>
                  <a:pt x="249" y="14"/>
                  <a:pt x="272" y="7"/>
                </a:cubicBezTo>
                <a:cubicBezTo>
                  <a:pt x="295" y="0"/>
                  <a:pt x="294" y="7"/>
                  <a:pt x="317" y="7"/>
                </a:cubicBezTo>
                <a:cubicBezTo>
                  <a:pt x="340" y="7"/>
                  <a:pt x="378" y="0"/>
                  <a:pt x="408" y="7"/>
                </a:cubicBezTo>
                <a:cubicBezTo>
                  <a:pt x="438" y="14"/>
                  <a:pt x="469" y="37"/>
                  <a:pt x="499" y="52"/>
                </a:cubicBezTo>
                <a:cubicBezTo>
                  <a:pt x="529" y="67"/>
                  <a:pt x="566" y="90"/>
                  <a:pt x="589" y="98"/>
                </a:cubicBezTo>
                <a:cubicBezTo>
                  <a:pt x="612" y="106"/>
                  <a:pt x="620" y="98"/>
                  <a:pt x="635" y="98"/>
                </a:cubicBezTo>
                <a:cubicBezTo>
                  <a:pt x="650" y="98"/>
                  <a:pt x="665" y="91"/>
                  <a:pt x="680" y="98"/>
                </a:cubicBezTo>
                <a:cubicBezTo>
                  <a:pt x="695" y="105"/>
                  <a:pt x="703" y="136"/>
                  <a:pt x="726" y="143"/>
                </a:cubicBezTo>
                <a:cubicBezTo>
                  <a:pt x="749" y="150"/>
                  <a:pt x="793" y="128"/>
                  <a:pt x="816" y="143"/>
                </a:cubicBezTo>
                <a:cubicBezTo>
                  <a:pt x="839" y="158"/>
                  <a:pt x="847" y="211"/>
                  <a:pt x="862" y="234"/>
                </a:cubicBezTo>
                <a:cubicBezTo>
                  <a:pt x="877" y="257"/>
                  <a:pt x="892" y="264"/>
                  <a:pt x="907" y="279"/>
                </a:cubicBezTo>
                <a:cubicBezTo>
                  <a:pt x="922" y="294"/>
                  <a:pt x="945" y="309"/>
                  <a:pt x="952" y="324"/>
                </a:cubicBezTo>
                <a:cubicBezTo>
                  <a:pt x="959" y="339"/>
                  <a:pt x="952" y="355"/>
                  <a:pt x="952" y="370"/>
                </a:cubicBezTo>
                <a:cubicBezTo>
                  <a:pt x="952" y="385"/>
                  <a:pt x="952" y="400"/>
                  <a:pt x="952" y="41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73280" y="4130640"/>
            <a:ext cx="37339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67440" y="4084560"/>
          <a:ext cx="1168560" cy="28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7440" y="4084560"/>
                    <a:ext cx="116856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3421080" y="4172040"/>
            <a:ext cx="2854440" cy="1181160"/>
          </a:xfrm>
          <a:custGeom>
            <a:avLst/>
            <a:gdLst/>
            <a:ahLst/>
            <a:rect l="l" t="t" r="r" b="b"/>
            <a:pathLst>
              <a:path w="2495" h="1043">
                <a:moveTo>
                  <a:pt x="0" y="0"/>
                </a:moveTo>
                <a:lnTo>
                  <a:pt x="2495" y="45"/>
                </a:lnTo>
                <a:lnTo>
                  <a:pt x="2359" y="1043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920400">
            <a:off x="4613040" y="4302000"/>
            <a:ext cx="1207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ONA PROTEJ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 EL PÁRP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68520" y="4160880"/>
            <a:ext cx="2853000" cy="2309760"/>
          </a:xfrm>
          <a:custGeom>
            <a:avLst/>
            <a:gdLst/>
            <a:ahLst/>
            <a:rect l="l" t="t" r="r" b="b"/>
            <a:pathLst>
              <a:path w="2494" h="2041">
                <a:moveTo>
                  <a:pt x="45" y="45"/>
                </a:moveTo>
                <a:lnTo>
                  <a:pt x="2404" y="1043"/>
                </a:lnTo>
                <a:lnTo>
                  <a:pt x="2494" y="2041"/>
                </a:lnTo>
                <a:lnTo>
                  <a:pt x="0" y="0"/>
                </a:lnTo>
              </a:path>
            </a:pathLst>
          </a:custGeom>
          <a:solidFill>
            <a:srgbClr val="ffff00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00600">
            <a:off x="4729680" y="5226120"/>
            <a:ext cx="115164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ONA EXPUE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68520" y="4181400"/>
            <a:ext cx="2749680" cy="1179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958000" y="836640"/>
          <a:ext cx="1276200" cy="253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58000" y="836640"/>
                    <a:ext cx="127620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2352600" y="1160640"/>
            <a:ext cx="1508040" cy="1460160"/>
            <a:chOff x="2352600" y="1160640"/>
            <a:chExt cx="1508040" cy="1460160"/>
          </a:xfrm>
        </p:grpSpPr>
        <p:pic>
          <p:nvPicPr>
            <p:cNvPr id="187" name="" descr=""/>
            <p:cNvPicPr/>
            <p:nvPr/>
          </p:nvPicPr>
          <p:blipFill>
            <a:blip r:embed="rId6"/>
            <a:srcRect l="0" t="0" r="34448" b="0"/>
            <a:stretch/>
          </p:blipFill>
          <p:spPr>
            <a:xfrm>
              <a:off x="2352600" y="1180080"/>
              <a:ext cx="1508040" cy="14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352600" y="1160640"/>
              <a:ext cx="1133280" cy="192240"/>
            </a:xfrm>
            <a:custGeom>
              <a:avLst/>
              <a:gdLst/>
              <a:ahLst/>
              <a:rect l="l" t="t" r="r" b="b"/>
              <a:pathLst>
                <a:path w="907" h="188">
                  <a:moveTo>
                    <a:pt x="0" y="143"/>
                  </a:moveTo>
                  <a:cubicBezTo>
                    <a:pt x="15" y="124"/>
                    <a:pt x="30" y="105"/>
                    <a:pt x="45" y="98"/>
                  </a:cubicBezTo>
                  <a:cubicBezTo>
                    <a:pt x="60" y="91"/>
                    <a:pt x="76" y="106"/>
                    <a:pt x="91" y="98"/>
                  </a:cubicBezTo>
                  <a:cubicBezTo>
                    <a:pt x="106" y="90"/>
                    <a:pt x="121" y="60"/>
                    <a:pt x="136" y="52"/>
                  </a:cubicBezTo>
                  <a:cubicBezTo>
                    <a:pt x="151" y="44"/>
                    <a:pt x="158" y="59"/>
                    <a:pt x="181" y="52"/>
                  </a:cubicBezTo>
                  <a:cubicBezTo>
                    <a:pt x="204" y="45"/>
                    <a:pt x="249" y="14"/>
                    <a:pt x="272" y="7"/>
                  </a:cubicBezTo>
                  <a:cubicBezTo>
                    <a:pt x="295" y="0"/>
                    <a:pt x="295" y="7"/>
                    <a:pt x="318" y="7"/>
                  </a:cubicBezTo>
                  <a:cubicBezTo>
                    <a:pt x="341" y="7"/>
                    <a:pt x="385" y="0"/>
                    <a:pt x="408" y="7"/>
                  </a:cubicBezTo>
                  <a:cubicBezTo>
                    <a:pt x="431" y="14"/>
                    <a:pt x="439" y="45"/>
                    <a:pt x="454" y="52"/>
                  </a:cubicBezTo>
                  <a:cubicBezTo>
                    <a:pt x="469" y="59"/>
                    <a:pt x="476" y="52"/>
                    <a:pt x="499" y="52"/>
                  </a:cubicBezTo>
                  <a:cubicBezTo>
                    <a:pt x="522" y="52"/>
                    <a:pt x="567" y="52"/>
                    <a:pt x="590" y="52"/>
                  </a:cubicBezTo>
                  <a:cubicBezTo>
                    <a:pt x="613" y="52"/>
                    <a:pt x="612" y="52"/>
                    <a:pt x="635" y="52"/>
                  </a:cubicBezTo>
                  <a:cubicBezTo>
                    <a:pt x="658" y="52"/>
                    <a:pt x="696" y="52"/>
                    <a:pt x="726" y="52"/>
                  </a:cubicBezTo>
                  <a:cubicBezTo>
                    <a:pt x="756" y="52"/>
                    <a:pt x="793" y="44"/>
                    <a:pt x="816" y="52"/>
                  </a:cubicBezTo>
                  <a:cubicBezTo>
                    <a:pt x="839" y="60"/>
                    <a:pt x="854" y="83"/>
                    <a:pt x="862" y="98"/>
                  </a:cubicBezTo>
                  <a:cubicBezTo>
                    <a:pt x="870" y="113"/>
                    <a:pt x="855" y="128"/>
                    <a:pt x="862" y="143"/>
                  </a:cubicBezTo>
                  <a:cubicBezTo>
                    <a:pt x="869" y="158"/>
                    <a:pt x="888" y="173"/>
                    <a:pt x="907" y="18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521160" y="974880"/>
            <a:ext cx="2604960" cy="2044440"/>
          </a:xfrm>
          <a:custGeom>
            <a:avLst/>
            <a:gdLst/>
            <a:ahLst/>
            <a:rect l="l" t="t" r="r" b="b"/>
            <a:pathLst>
              <a:path w="2812" h="1996">
                <a:moveTo>
                  <a:pt x="0" y="816"/>
                </a:moveTo>
                <a:lnTo>
                  <a:pt x="2812" y="0"/>
                </a:lnTo>
                <a:lnTo>
                  <a:pt x="2812" y="1996"/>
                </a:lnTo>
                <a:lnTo>
                  <a:pt x="0" y="816"/>
                </a:lnTo>
                <a:close/>
              </a:path>
            </a:pathLst>
          </a:cu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22000" y="1708200"/>
            <a:ext cx="14778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A EX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981080" y="115920"/>
            <a:ext cx="316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implement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aremo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68360" y="907920"/>
            <a:ext cx="4896000" cy="52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jo  s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cansancio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a fuente de incomod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cansancio visual resid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 las personas que deb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sar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oj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no siempr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iene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decuados a la dista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specto de la pantalla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c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 deben resolver con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oftalmólogo.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 ello se suma que muchos lugares de trabajo no cuentan con un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adecuada ilu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58:39Z</dcterms:created>
  <dc:creator/>
  <dc:description/>
  <dc:language>en-US</dc:language>
  <cp:lastModifiedBy>vbasso</cp:lastModifiedBy>
  <dcterms:modified xsi:type="dcterms:W3CDTF">2007-09-03T16:51:38Z</dcterms:modified>
  <cp:revision>219</cp:revision>
  <dc:subject/>
  <dc:title>Diapositiva 1</dc:title>
</cp:coreProperties>
</file>