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2A3-34A8-40F8-8779-921D645E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8CD-EF2A-4A10-9F1D-176AF6C9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752-8C2F-42B4-B3DC-5F96D1DD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4EA-F844-4F6C-A5E3-8B0FCAE8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B41-BC3C-4196-ADEE-7931E76B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F1B-6C32-462E-BB03-B78BFA8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DC4-205E-4CDC-B38B-2806D7CC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C56-18AC-4ACD-9486-A7DE160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BA7-1BB3-48FC-828B-51A9EE38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D35-EDC8-4C0F-830F-B532DBE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E37-5F4F-463B-AA78-F5CD246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680-2B33-42EA-A6A9-BEAE302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F55-DD17-44EC-B447-A0FC9514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37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elé vs. Marado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304920"/>
            <a:ext cx="70866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zilianSoccerSkills.co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ntratado por el equipo Cosmos por US$ 6,000,000.00 para jugar dos temporadas en los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 NASL en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7766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Mundial de 94 por uso de drogas – jugando como Capitán de la Selecció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044800"/>
            <a:ext cx="3809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– Estadísticas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undiales - (1958, 1962 e 1970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undiales Interclubes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pas Libertadores da América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ampeonatos Paulistas - Santos (1958, 1960, 1961, 1962, 1964, 1965, 1967, 1968, 1969 e 197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azas Brasil - Santos (1961, 1962, 1963, 1964 e 196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orneos Rio-Sao Paulo - Santos (1959, 1963, 1964 e 1966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ampeonato Nacional de los Estados Unidos - Cosm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4400" spc="-1" strike="noStrike">
                <a:solidFill>
                  <a:srgbClr val="fafad2"/>
                </a:solidFill>
                <a:latin typeface="Arial Unicode MS"/>
                <a:ea typeface="Courier New"/>
              </a:rPr>
              <a:t> </a:t>
            </a:r>
            <a:r>
              <a:rPr b="1" lang="en-US" sz="4400" spc="-1" strike="noStrike">
                <a:solidFill>
                  <a:srgbClr val="fafad2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81 goles en 1363 jueg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 la Selección Brasileña :    92 juegos – 97 g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Maradona – Estadístic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Juniors (198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elona (Copa del Rey, 198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Cup (Mexico, 198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li (Scudetto, 1987 y 199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Cup (198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FA Cup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Supercup (199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mio Franchi Cup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2 juegos - 352 g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juegos por la Selección Argentina - 33 g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os jugaron 21 años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1363 juegos – 1281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692 juegos – 345 go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 la Selecció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92 juegos – 97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90 juegos – 33 g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P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é fue recibido por los Papas Juan XXIII, Pablo VI y Juan Pablo II, en el Vaticano, y por cuatro Presidentes norteamericanos en la Casa Blanca. Electo el atleta del Siglo 20 por el Comité Olímpico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corado Sir, por la Reina Elizabeth II, de Inglaterra; Embajador de laUne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ó homenajes en más de 30 pa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977 ganó el diploma de Ciudadano del Mundo en la ONU. Fue Ministro de Deportes em Brasil entre los años de 1995 y 199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Mara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28600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2286000" cy="280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1911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dos ocasiones ha sido internado por uso de drogas, ninguno contrato de patroci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dades sobre Pel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causa de Pelé, Santos llegó a jugar 22 partidos en 30 días, creando la ley de las 72 horas entre un partido y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A tuvo que cambiar la regla del penal por la “paradinha” que el Rey c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tó profesionalmente a los 15 años, a los 16 en la selección, con 17 era Campeón del Mundo y a los 21 años y 10 meses hacia su gol número 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arar a Pelé con Maradona solo puede ser cosa de argentin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213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de Sue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024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ituido en el Mundial de Argentina de 1978 por Men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21 años, Pelé ya había hecho más de 500 goles en una época en que no existía tarjeta amar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guida se corona Bicampeón Mundial de Clubes 1962-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1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n el Mundial de España sin ningún b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xpulsado contra Brasil por una falta violenta contra Ba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Rey del Futbol - durante el Mundial de 1966 en Inglat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 “Ratin” – defensor argentino – el mundial más violento de la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49600"/>
            <a:ext cx="38098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mejor jugador de este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zo el famoso gol contra Inglaterra con ayuda de la “Mano de 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681280"/>
            <a:ext cx="38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la 3a. vez en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con 6 g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19 de noviembre de 1969 hace su milésimo g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8098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l mundial de Italia, sub-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futbol italiano por uso de dr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 más de US$30,000  en multas por faltar a entrenamientos/ju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27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5:24:51Z</dcterms:created>
  <dc:creator> Leandro Medeiros</dc:creator>
  <dc:description/>
  <dc:language>en-US</dc:language>
  <cp:lastModifiedBy>jereynoso</cp:lastModifiedBy>
  <dcterms:modified xsi:type="dcterms:W3CDTF">2006-10-03T18:07:28Z</dcterms:modified>
  <cp:revision>33</cp:revision>
  <dc:subject/>
  <dc:title>Pele x Maradona</dc:title>
</cp:coreProperties>
</file>