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CA68-63BE-4E0C-B320-A84FC539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6785-74A0-4B0F-9084-7EE7628F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0BBD-777E-49CB-9165-AAA493D2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C12D-8E08-4B36-9310-286F5D9F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4797-26A4-4F71-9490-1FADAE4F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102D-40E3-4EF4-AB47-18884F53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029D-08A7-434B-97D2-25DF8CEE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AABB-3D04-4B2F-BBD5-21A90A24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4BBB-3CD9-4F70-9913-46A35C98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52BC-389E-42B5-951D-2A639A6F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EB4B-3240-48F0-9C1E-36D66C86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792B-A116-4892-B828-3A0914F6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4F0B-7FC7-4E96-B1E3-F586AA40A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6370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Pelé vs. Maradon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304920"/>
            <a:ext cx="70866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razilianSoccerSkills.co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a los 34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contratado por el equipo Cosmos por US$ 6,000,000.00 para jugar dos temporadas en los Estados Un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peón de NASL en 19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5800" y="2776680"/>
            <a:ext cx="38098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a los 34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ulsado del Mundial de 94 por uso de drogas – jugando como Capitán de la Selección Argen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85800" y="2044800"/>
            <a:ext cx="38098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– Estadísticas</a:t>
            </a:r>
            <a:br>
              <a:rPr sz="4400"/>
            </a:br>
            <a:br>
              <a:rPr sz="44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Mundiales - (1958, 1962 e 1970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Mundiales Interclubes - Santos (1962 e 1963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Copas Libertadores da América - Santos (1962 e 1963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Campeonatos Paulistas - Santos (1958, 1960, 1961, 1962, 1964, 1965, 1967, 1968, 1969 e 1973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Tazas Brasil - Santos (1961, 1962, 1963, 1964 e 1965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Torneos Rio-Sao Paulo - Santos (1959, 1963, 1964 e 1966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ampeonato Nacional de los Estados Unidos - Cosmo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lang="en-US" sz="4400" spc="-1" strike="noStrike">
                <a:solidFill>
                  <a:srgbClr val="fafad2"/>
                </a:solidFill>
                <a:latin typeface="Arial Unicode MS"/>
                <a:ea typeface="Courier New"/>
              </a:rPr>
              <a:t> </a:t>
            </a:r>
            <a:r>
              <a:rPr b="1" lang="en-US" sz="4400" spc="-1" strike="noStrike">
                <a:solidFill>
                  <a:srgbClr val="fafad2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281 goles en 1363 juego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Con la Selección Brasileña :    92 juegos – 97 go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Maradona – Estadísticas</a:t>
            </a: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ca Juniors (198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celona (Copa del Rey, 1983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ld Cup (Mexico, 1986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poli (Scudetto, 1987 y 199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an Cup (1987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EFA Cup (198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an Supercup (1991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mio Franchi Cup (199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2 juegos - 352 go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juegos por la Selección Argentina - 33 go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bos jugaron 21 años 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: 1363 juegos – 1281 go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: 692 juegos – 345 gole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 la Selección 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: 92 juegos – 97 go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: 90 juegos – 33 go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era del Campo – Pe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lé fue recibido por los Papas Juan XXIII, Pablo VI y Juan Pablo II, en el Vaticano, y por cuatro Presidentes norteamericanos en la Casa Blanca. Electo el atleta del Siglo 20 por el Comité Olímpico Intern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ecorado Sir, por la Reina Elizabeth II, de Inglaterra; Embajador de laUnes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ibió homenajes en más de 30 pai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1977 ganó el diploma de Ciudadano del Mundo en la ONU. Fue Ministro de Deportes em Brasil entre los años de 1995 y 1998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era del campo – Marado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905120" y="990720"/>
            <a:ext cx="2286000" cy="2800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257800" y="990720"/>
            <a:ext cx="2286000" cy="2800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3520" y="419112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dos ocasiones ha sido internado por uso de drogas, ninguno contrato de patrocion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iosidades sobre Pelé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causa de Pelé, Santos llegó a jugar 22 partidos en 30 días, creando la ley de las 72 horas entre un partido y o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A tuvo que cambiar la regla del penal por la “paradinha” que el Rey cr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utó profesionalmente a los 15 años, a los 16 en la selección, con 17 era Campeón del Mundo y a los 21 años y 10 meses hacia su gol número 5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Conclusión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parar a Pelé con Maradona solo puede ser cosa de argentino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657600" y="4876920"/>
            <a:ext cx="21366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a los 17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peón Mun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 figura del Mundial de Sue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24280" y="3657600"/>
            <a:ext cx="3810240" cy="2522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80880" y="2514600"/>
            <a:ext cx="35719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a los 17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tituido en el Mundial de Argentina de 1978 por Menot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44520" y="1981080"/>
            <a:ext cx="269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a los 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s 21 años, Pelé ya había hecho más de 500 goles en una época en que no existía tarjeta amari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eguida se corona Bicampeón Mundial de Clubes 1962-19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a los 21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ega en el Mundial de España sin ningún bri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expulsado contra Brasil por una falta violenta contra Batis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47880" y="1981080"/>
            <a:ext cx="3284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a los 26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do el Rey del Futbol - durante el Mundial de 1966 en Inglater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un “Ratin” – defensor argentino – el mundial más violento de la his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2649600"/>
            <a:ext cx="380988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a los 26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peón del Mundo por Argent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do el mejor jugador de este mund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zo el famoso gol contra Inglaterra con ayuda de la “Mano de Di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5800" y="2681280"/>
            <a:ext cx="38098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a los 30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peón del mundo por la 3a. vez en Mé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 figura del mundial con 6 g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19 de noviembre de 1969 hace su milésimo g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2122560"/>
            <a:ext cx="380988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a los 30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ega el mundial de Italia, sub-campeón mun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ulsado del futbol italiano por uso de dro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a más de US$30,000  en multas por faltar a entrenamientos/jue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28680" y="1981080"/>
            <a:ext cx="2722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4T15:24:51Z</dcterms:created>
  <dc:creator> Leandro Medeiros</dc:creator>
  <dc:description/>
  <dc:language>en-US</dc:language>
  <cp:lastModifiedBy>jereynoso</cp:lastModifiedBy>
  <dcterms:modified xsi:type="dcterms:W3CDTF">2006-10-03T18:07:28Z</dcterms:modified>
  <cp:revision>33</cp:revision>
  <dc:subject/>
  <dc:title>Pele x Maradona</dc:title>
</cp:coreProperties>
</file>