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01%20MAMA%20VIEJA.wav" ContentType="audio/x-wav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1639-527F-4A67-89A0-1C82AD303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8DC6-919D-4B17-B9E6-AC6648F3EF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05D6-893A-43A7-847A-BB737A502B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929E-D500-4516-AD59-960FC95F0A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4791-C7A8-48AB-89C6-F044F29EAE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F1FB-93A8-4F84-A720-F0628510D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3C29-B0B3-4266-A831-7AE8A536E6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EBF4-766B-4E7B-B043-3F9CB9CBAA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D5F1-34C7-41AB-98BD-5AAE82B25E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AB88-37E7-4113-AB58-78007C032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A8A7-AA25-47DA-AD02-704F55F786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C439-1D93-47AE-A0BE-D14700F20D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5437-0F3F-468B-8D78-F8C2E82391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8E9B-11DA-4D94-978A-B90A44BD9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F0AB-A69F-4CBA-BF19-EE0CAA42D7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57D4-77FE-47EA-9A94-C9E61444C1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B6B4-0CD3-4C59-B011-A1FB586442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8276-6A87-4CDD-9766-9C984E6131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DCDA-FA48-41EC-A1B0-D254C2A167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72B-B752-4277-839A-1BD1C642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E58-4EB1-409B-8C52-F60ED441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38D-7EE8-4527-A3AF-0B88E206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BD6-A4BB-4E40-989B-419D3240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3B6A-8F27-4AD7-B142-C5AB2965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B329-EE09-4B9A-8214-8F6706C8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C3C7-0CCD-4D46-8DE2-BE37FA97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D5AF-6402-4263-8974-52B25D22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8BFE-E815-447A-936E-ED15F8B4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410A-B532-4F66-A542-8B045B8D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564F-9308-4DDD-B2A9-D40BBFF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E5C-A3B4-474E-A771-6FF36000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20F4-EF5C-4313-B880-32FCFB4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30ED-315D-4DC9-A2D3-2D566887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0BB5-727F-49ED-8053-BC79E496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8270-0DA7-40EF-85F6-4CC25B7E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29BE-CAB6-45E5-8A5A-6302643C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37F-D3E5-499C-A958-CA0DFB8C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9EB-2076-41B0-BC23-F9B96001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A3D-DEF6-4975-BE26-966092C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C3D-E104-4CB4-A5D4-CE94B6BC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DD2-7F4B-4739-B7FF-F030120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DC2-5F75-48F6-AFE9-36B0A7AC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58B-125E-4651-88CB-EB30CC19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A0EF-94C7-4824-A496-536604EB8EC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A59D-7933-485E-B1A6-F6E4BB58907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01%20MAMA%20VIEJ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219320" y="57150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Para que los buenos ami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disfruten de estos reales pensami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457200" y="457200"/>
            <a:ext cx="304812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YA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SOY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VIEJO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3"/>
    <p:sndAc>
      <p:stSnd>
        <p:snd r:embed="rId8" name="01%20MAMA%20VIEJ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3 Rectángulo"/>
          <p:cNvSpPr/>
          <p:nvPr/>
        </p:nvSpPr>
        <p:spPr>
          <a:xfrm>
            <a:off x="5410080" y="19051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No” y querer decir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Si”   y querer decirlo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4 Rectángulo"/>
          <p:cNvSpPr/>
          <p:nvPr/>
        </p:nvSpPr>
        <p:spPr>
          <a:xfrm>
            <a:off x="4876920" y="434340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vas envejeciendo, es más fácil ser posit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preocupas menos          de lo que las otras personas puedan pensar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6 Imagen" descr="+++000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0000"/>
          </a:xfrm>
          <a:prstGeom prst="rect">
            <a:avLst/>
          </a:prstGeom>
          <a:ln w="0">
            <a:noFill/>
          </a:ln>
        </p:spPr>
      </p:pic>
      <p:sp>
        <p:nvSpPr>
          <p:cNvPr id="124" name="7 Rectángulo"/>
          <p:cNvSpPr/>
          <p:nvPr/>
        </p:nvSpPr>
        <p:spPr>
          <a:xfrm>
            <a:off x="380880" y="1066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ta me he ganado el derecho de estar equivocad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8 Rectángulo" descr=""/>
          <p:cNvPicPr/>
          <p:nvPr/>
        </p:nvPicPr>
        <p:blipFill>
          <a:blip r:embed="rId2"/>
          <a:stretch/>
        </p:blipFill>
        <p:spPr>
          <a:xfrm>
            <a:off x="281160" y="3651120"/>
            <a:ext cx="4937040" cy="1165320"/>
          </a:xfrm>
          <a:prstGeom prst="rect">
            <a:avLst/>
          </a:prstGeom>
          <a:ln w="0">
            <a:noFill/>
          </a:ln>
        </p:spPr>
      </p:pic>
      <p:pic>
        <p:nvPicPr>
          <p:cNvPr id="126" name="9 Rectángulo" descr=""/>
          <p:cNvPicPr/>
          <p:nvPr/>
        </p:nvPicPr>
        <p:blipFill>
          <a:blip r:embed="rId3"/>
          <a:stretch/>
        </p:blipFill>
        <p:spPr>
          <a:xfrm>
            <a:off x="298440" y="2584440"/>
            <a:ext cx="4707000" cy="67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3 Imagen" descr="+++000-3+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457200" y="11196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gusta ser la persona en la que me he convert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oy a vivir para siempre…pero mientras esté aquí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erderé tiempo en lamentar de lo que pudo s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eocuparme de lo que será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8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3581280" y="4456080"/>
            <a:ext cx="5257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é postre todos los días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i así lo dese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8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80880" y="161640"/>
            <a:ext cx="784872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sencillament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generosa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blar amable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resto… dejárselo A Dios</a:t>
            </a: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33520" y="3049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Qué bello es contemplar las flores y aspirar su fragancia en los ratos de nuestra vejez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6094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¡Que bellas son las maripos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vuelan de flor en fl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5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Rectangle 10" descr=""/>
          <p:cNvPicPr/>
          <p:nvPr/>
        </p:nvPicPr>
        <p:blipFill>
          <a:blip r:embed="rId2"/>
          <a:stretch/>
        </p:blipFill>
        <p:spPr>
          <a:xfrm>
            <a:off x="219240" y="3724200"/>
            <a:ext cx="757224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5181480" y="220968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¡¡¡¡Sonrían cada mañana porque Dios se ha despert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que t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ha colgado el Sol en tus ventanas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7 CuadroTexto"/>
          <p:cNvSpPr/>
          <p:nvPr/>
        </p:nvSpPr>
        <p:spPr>
          <a:xfrm>
            <a:off x="7618680" y="64771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ares As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wheel spokes="3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52280" y="694440"/>
            <a:ext cx="40388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tro día una pers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ven me pregun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sentía ser viejo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sorprendió much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no me considero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4 Rectángulo"/>
          <p:cNvSpPr/>
          <p:nvPr/>
        </p:nvSpPr>
        <p:spPr>
          <a:xfrm>
            <a:off x="457200" y="44956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 soy ahora, probablemente por primera vez en mi vida, la persona que siempre quise s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457200" y="3048120"/>
            <a:ext cx="3733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acerse viej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e decidid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es un regalo.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3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271800"/>
            <a:ext cx="914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gunas veces me desespero de mi cuerpo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las arrugas, las ojeras, las canas y la calvicie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a menudo me sorprendo de la persona vieja que vive en mi espej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5105520" y="281952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o cambiaría mis sorprendente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i mi maravillosa vi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or menos can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un cuerpo musculos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480060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 envejec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me he vuelto amable conm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menos crítico de mí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6 Rectángulo"/>
          <p:cNvSpPr/>
          <p:nvPr/>
        </p:nvSpPr>
        <p:spPr>
          <a:xfrm>
            <a:off x="38088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ero no me preocupo de estas cosas por mucho tiemp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809880" y="389520"/>
            <a:ext cx="5105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he convertido en mi mejor am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e regaño por comer esa galleta extra, o por  no hacer mi cama o por comprar ese juego de jard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necesita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8 Rectángulo"/>
          <p:cNvSpPr/>
          <p:nvPr/>
        </p:nvSpPr>
        <p:spPr>
          <a:xfrm>
            <a:off x="44956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y en mi 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er un poco desordena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vagante y oler las flores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9 Rectángulo"/>
          <p:cNvSpPr/>
          <p:nvPr/>
        </p:nvSpPr>
        <p:spPr>
          <a:xfrm>
            <a:off x="4267080" y="449568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visto a mucho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se de este mundo muy pronto, antes de que entendier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ibertad que v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hacerse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0" y="21348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A quién le interesa si escojo leer o jugar en la computadora          hasta las 4 de la mañana y luego dormir hasta el medio dí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ilaré conmigo a esos maravillosos acordes de los 50´s y 60´s              y si deseo en ese momento llorar por algún amor perdido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5 Rectángulo"/>
          <p:cNvSpPr/>
          <p:nvPr/>
        </p:nvSpPr>
        <p:spPr>
          <a:xfrm>
            <a:off x="1534680" y="5486400"/>
            <a:ext cx="19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lo haré!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743200" y="233640"/>
            <a:ext cx="6172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inaré por la playa sin un traje de baño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sar de las miradas de compas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s que usan bikini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4 Rectángulo"/>
          <p:cNvSpPr/>
          <p:nvPr/>
        </p:nvSpPr>
        <p:spPr>
          <a:xfrm>
            <a:off x="220968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Ellos también se harán viej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(si tienen suerte).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715000" y="1226520"/>
            <a:ext cx="31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é que algunas veces soy olvidadiz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me acuerdo de las cosas import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3 Rectángulo"/>
          <p:cNvSpPr/>
          <p:nvPr/>
        </p:nvSpPr>
        <p:spPr>
          <a:xfrm>
            <a:off x="4572000" y="3886200"/>
            <a:ext cx="434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avés de los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corazón se ha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ómo no puede romp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razón cuando pier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alguien queri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sufre un niñ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muere tu mascot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304920" y="1224360"/>
            <a:ext cx="411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el corazón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o que nos da la fuerz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ndimiento y compas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6 Rectángulo"/>
          <p:cNvSpPr/>
          <p:nvPr/>
        </p:nvSpPr>
        <p:spPr>
          <a:xfrm>
            <a:off x="228600" y="30481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orazón que nunca se ha roto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sabrá de la felic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er imperfecto.</a:t>
            </a: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6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28600" y="2370600"/>
            <a:ext cx="43434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 bendito por haber vivido lo suficiente para que mis cabellos se vuelvan gris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conservar la sonri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i juventu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28600" y="4699080"/>
            <a:ext cx="44956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os no se han reí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tantos han muer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de que sus cabel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olvieran platea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1:24:22Z</dcterms:created>
  <dc:creator>Amalia</dc:creator>
  <dc:description/>
  <dc:language>en-US</dc:language>
  <cp:lastModifiedBy>FARES ASAD</cp:lastModifiedBy>
  <dcterms:modified xsi:type="dcterms:W3CDTF">2010-12-03T16:37:53Z</dcterms:modified>
  <cp:revision>80</cp:revision>
  <dc:subject/>
  <dc:title>Un Regalo para ti</dc:title>
</cp:coreProperties>
</file>