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01%20MAMA%20VIEJA.wav" ContentType="audio/x-wav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A29A-A5F2-495C-98AE-C18CE49AC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619F-56F3-4C10-BA99-5AAC8DD24A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0A71-B6AA-4B9F-B4C9-4350BCF842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BC2B-4038-4073-9A04-4E0669A724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9358-0323-45C5-A130-2F38D670F6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68BC-163D-405A-BA4B-95B77C30E8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E560-BAD2-444F-A2A2-39FA7C9F04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0C1F-AFDF-43AF-AE87-F36ECFC4F2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773F-82D7-4A9A-B044-AA3DC163A3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D605-2933-4474-9768-6F71140481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44C9-039B-4523-9DE9-5C4289F659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0B14-BC2B-4A7C-BA82-599B660E86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9A44-068D-47E6-87CB-6AECB20ECF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1B21-1D82-4F9D-A001-CDC2BEA946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AE9C-29E6-4266-B31F-4DCD1B2E3C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7B6B-F58E-460F-A5F2-A4EE282F2F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CC12-3E9B-4432-A1E1-8DAFD29823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936B-FFDD-414D-826C-A12BC2CC3C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FD5A-8F4F-4BC2-B95F-D8AF3E69A1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1EF8-3BE4-4790-94B2-266E25D6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C8A2-374A-454B-9A60-9AEEF949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16D9-FC23-4FD5-A2DA-461469BA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349B-0CF3-48C7-AB34-B1AD110C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CAEF-D0FE-45F9-A193-F192D8A5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4BF0-850E-437B-9668-5D9AE624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137E-3259-4EA0-BCB4-C4D30201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E430-552F-4B1C-92D7-0AD36F16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BD13-4B88-41F2-9812-40FAB668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F17C-C619-43CE-A66A-752DD220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283A-F181-4BFA-A6DE-7E935156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378A-C56E-44F8-9113-6D40EA15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9188-CB1D-46D1-B8A9-88AE078C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C992-C522-4731-9813-9345329B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917B-1049-4AF2-969D-E77DB050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52EE-5653-4176-BF00-3C5A3370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1A5B-69C4-4D0E-9F24-2D03166F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525-06F1-47A0-836A-738361A9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A83-FD6E-43A6-9B79-92CEC740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9A5-E72D-49B6-AC33-CC3F30B3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E78-FFC7-41C8-8E89-4DAE95BA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55C9-3E88-4518-B3BF-143B5FAE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910-27B4-42F1-B20E-2AD85F09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B26A-A03C-415F-94A1-2B7901E9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103D-2D3B-4164-90D5-5D4E5D0250D5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AC22-85FF-435D-B8B4-7FDBDF7D2D4D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audio" Target="../media/01%20MAMA%20VIEJA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1219320" y="57150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Narrow"/>
              </a:rPr>
              <a:t>Para que los buenos ami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Narrow"/>
              </a:rPr>
              <a:t>disfruten de estos reales pensami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457200" y="457200"/>
            <a:ext cx="3048120" cy="217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50911" dir="2700000" blurRad="0" rotWithShape="0">
                    <a:srgbClr val="c0c0c0"/>
                  </a:outerShdw>
                </a:effectLst>
                <a:latin typeface="Impact"/>
              </a:rPr>
              <a:t>YA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50911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50911" dir="2700000" blurRad="0" rotWithShape="0">
                    <a:srgbClr val="c0c0c0"/>
                  </a:outerShdw>
                </a:effectLst>
                <a:latin typeface="Impact"/>
              </a:rPr>
              <a:t>SOY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50911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50911" dir="2700000" blurRad="0" rotWithShape="0">
                    <a:srgbClr val="c0c0c0"/>
                  </a:outerShdw>
                </a:effectLst>
                <a:latin typeface="Impact"/>
              </a:rPr>
              <a:t>VIEJO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50911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3"/>
    <p:sndAc>
      <p:stSnd>
        <p:snd r:embed="rId8" name="01%20MAMA%20VIEJ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6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3 Rectángulo"/>
          <p:cNvSpPr/>
          <p:nvPr/>
        </p:nvSpPr>
        <p:spPr>
          <a:xfrm>
            <a:off x="5410080" y="190512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o decir “No” y querer decirl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o decir “Si”   y querer decirlo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4 Rectángulo"/>
          <p:cNvSpPr/>
          <p:nvPr/>
        </p:nvSpPr>
        <p:spPr>
          <a:xfrm>
            <a:off x="4876920" y="434340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vas envejeciendo, es más fácil ser positiv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preocupas menos          de lo que las otras personas puedan pensar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6 Imagen" descr="+++000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50000"/>
          </a:xfrm>
          <a:prstGeom prst="rect">
            <a:avLst/>
          </a:prstGeom>
          <a:ln w="0">
            <a:noFill/>
          </a:ln>
        </p:spPr>
      </p:pic>
      <p:sp>
        <p:nvSpPr>
          <p:cNvPr id="124" name="7 Rectángulo"/>
          <p:cNvSpPr/>
          <p:nvPr/>
        </p:nvSpPr>
        <p:spPr>
          <a:xfrm>
            <a:off x="380880" y="10666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ta me he ganado el derecho de estar equivocado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8 Rectángulo" descr=""/>
          <p:cNvPicPr/>
          <p:nvPr/>
        </p:nvPicPr>
        <p:blipFill>
          <a:blip r:embed="rId2"/>
          <a:stretch/>
        </p:blipFill>
        <p:spPr>
          <a:xfrm>
            <a:off x="281160" y="3651120"/>
            <a:ext cx="4937040" cy="1165320"/>
          </a:xfrm>
          <a:prstGeom prst="rect">
            <a:avLst/>
          </a:prstGeom>
          <a:ln w="0">
            <a:noFill/>
          </a:ln>
        </p:spPr>
      </p:pic>
      <p:pic>
        <p:nvPicPr>
          <p:cNvPr id="126" name="9 Rectángulo" descr=""/>
          <p:cNvPicPr/>
          <p:nvPr/>
        </p:nvPicPr>
        <p:blipFill>
          <a:blip r:embed="rId3"/>
          <a:stretch/>
        </p:blipFill>
        <p:spPr>
          <a:xfrm>
            <a:off x="298440" y="2584440"/>
            <a:ext cx="4707000" cy="671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3 Imagen" descr="+++000-3+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457200" y="111960"/>
            <a:ext cx="8381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gusta ser la persona en la que me he converti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oy a vivir para siempre…pero mientras esté aquí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erderé tiempo en lamentar de lo que pudo s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reocuparme de lo que será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8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3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3581280" y="4456080"/>
            <a:ext cx="52578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ré postre todos los días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i así lo deseo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8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380880" y="161640"/>
            <a:ext cx="784872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ar sencillament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ar generosament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blar amablement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resto… dejárselo A Dios</a:t>
            </a:r>
            <a:r>
              <a:rPr b="1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3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533520" y="30492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Qué bello es contemplar las flores y aspirar su fragancia en los ratos de nuestra vejez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3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609480" y="228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¡Que bellas son las maripos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que vuelan de flor en flo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5 Imagen" descr="+++000-3+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Rectangle 10" descr=""/>
          <p:cNvPicPr/>
          <p:nvPr/>
        </p:nvPicPr>
        <p:blipFill>
          <a:blip r:embed="rId2"/>
          <a:stretch/>
        </p:blipFill>
        <p:spPr>
          <a:xfrm>
            <a:off x="219240" y="3724200"/>
            <a:ext cx="7572240" cy="294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6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5181480" y="220968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¡¡¡¡Sonrían cada mañana porque Dios se ha despertad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que t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ha colgado el Sol en tus ventanas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7 CuadroTexto"/>
          <p:cNvSpPr/>
          <p:nvPr/>
        </p:nvSpPr>
        <p:spPr>
          <a:xfrm>
            <a:off x="7618680" y="647712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ares As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7000">
    <p:wheel spokes="3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3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152280" y="694440"/>
            <a:ext cx="40388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otro día una perso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ven me pregunt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sentía ser viejo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sorprendió much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 que no me considero vie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4 Rectángulo"/>
          <p:cNvSpPr/>
          <p:nvPr/>
        </p:nvSpPr>
        <p:spPr>
          <a:xfrm>
            <a:off x="457200" y="449568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 soy ahora, probablemente por primera vez en mi vida, la persona que siempre quise s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457200" y="3048120"/>
            <a:ext cx="37339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f7f7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ffcc66">
                      <a:alpha val="80000"/>
                    </a:srgbClr>
                  </a:outerShdw>
                </a:effectLst>
                <a:latin typeface="Arial Black"/>
              </a:rPr>
              <a:t>Hacerse viejo,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7f7f7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ffcc66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f7f7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ffcc66">
                      <a:alpha val="80000"/>
                    </a:srgbClr>
                  </a:outerShdw>
                </a:effectLst>
                <a:latin typeface="Arial Black"/>
              </a:rPr>
              <a:t>he decidido,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7f7f7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ffcc66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f7f7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ffcc66">
                      <a:alpha val="80000"/>
                    </a:srgbClr>
                  </a:outerShdw>
                </a:effectLst>
                <a:latin typeface="Arial Black"/>
              </a:rPr>
              <a:t>es un regalo.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7f7f7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ffcc66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heel spokes="3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7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0" y="271800"/>
            <a:ext cx="9144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Algunas veces me desespero de mi cuerpo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las arrugas, las ojeras, las canas y la calvicie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y a menudo me sorprendo de la persona vieja que vive en mi espej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4 Rectángulo"/>
          <p:cNvSpPr/>
          <p:nvPr/>
        </p:nvSpPr>
        <p:spPr>
          <a:xfrm>
            <a:off x="5105520" y="281952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No cambiaría mis sorprendentes amig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ni mi maravillosa vid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por menos can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y un cuerpo musculoso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5 Rectángulo"/>
          <p:cNvSpPr/>
          <p:nvPr/>
        </p:nvSpPr>
        <p:spPr>
          <a:xfrm>
            <a:off x="4800600" y="53341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Al envejec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me he vuelto amable conmi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y menos crítico de mí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6 Rectángulo"/>
          <p:cNvSpPr/>
          <p:nvPr/>
        </p:nvSpPr>
        <p:spPr>
          <a:xfrm>
            <a:off x="38088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Verdana"/>
              </a:rPr>
              <a:t>Pero no me preocupo de estas cosas por mucho tiempo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7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3809880" y="389520"/>
            <a:ext cx="510552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he convertido en mi mejor amig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e regaño por comer esa galleta extra, o por  no hacer mi cama o por comprar ese juego de jardí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necesita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8 Rectángulo"/>
          <p:cNvSpPr/>
          <p:nvPr/>
        </p:nvSpPr>
        <p:spPr>
          <a:xfrm>
            <a:off x="4495680" y="2666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y en mi derec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er un poco desordenad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vagante y oler las flores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9 Rectángulo"/>
          <p:cNvSpPr/>
          <p:nvPr/>
        </p:nvSpPr>
        <p:spPr>
          <a:xfrm>
            <a:off x="4267080" y="449568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visto a muchos amig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se de este mundo muy pronto, antes de que entendier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libertad que vi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hacerse vie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4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0" y="213480"/>
            <a:ext cx="9144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A quién le interesa si escojo leer o jugar en la computadora          hasta las 4 de la mañana y luego dormir hasta el medio dí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ilaré conmigo a esos maravillosos acordes de los 50´s y 60´s              y si deseo en ese momento llorar por algún amor perdido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5 Rectángulo"/>
          <p:cNvSpPr/>
          <p:nvPr/>
        </p:nvSpPr>
        <p:spPr>
          <a:xfrm>
            <a:off x="1534680" y="5486400"/>
            <a:ext cx="19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lo haré!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3 Imagen" descr="+++000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2743200" y="233640"/>
            <a:ext cx="6172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inaré por la playa sin un traje de baño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sar de las miradas de compas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os que usan bikini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4 Rectángulo"/>
          <p:cNvSpPr/>
          <p:nvPr/>
        </p:nvSpPr>
        <p:spPr>
          <a:xfrm>
            <a:off x="220968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Ellos también se harán viej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(si tienen suerte).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5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5715000" y="1226520"/>
            <a:ext cx="31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é que algunas veces soy olvidadizo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me acuerdo de las cosas importan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3 Rectángulo"/>
          <p:cNvSpPr/>
          <p:nvPr/>
        </p:nvSpPr>
        <p:spPr>
          <a:xfrm>
            <a:off x="4572000" y="3886200"/>
            <a:ext cx="434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avés de los añ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 corazón se ha ro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Cómo no puede romper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razón cuando pier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alguien querid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cuando sufre un niñ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cuando muere tu mascota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5 Imagen" descr="+++000-3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304920" y="1224360"/>
            <a:ext cx="4114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el corazón ro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lo que nos da la fuerz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ndimiento y compas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6 Rectángulo"/>
          <p:cNvSpPr/>
          <p:nvPr/>
        </p:nvSpPr>
        <p:spPr>
          <a:xfrm>
            <a:off x="228600" y="30481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corazón que nunca se ha roto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nca sabrá de la felicid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ser imperfecto.</a:t>
            </a: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6 Imagen" descr="+++000-3+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228600" y="2370600"/>
            <a:ext cx="43434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y bendito por haber vivido lo suficiente para que mis cabellos se vuelvan gris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 conservar la sonri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mi juventu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228600" y="4699080"/>
            <a:ext cx="44956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tos no se han reíd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tantos han muer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de que sus cabel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volvieran platead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1:24:22Z</dcterms:created>
  <dc:creator>Amalia</dc:creator>
  <dc:description/>
  <dc:language>en-US</dc:language>
  <cp:lastModifiedBy>FARES ASAD</cp:lastModifiedBy>
  <dcterms:modified xsi:type="dcterms:W3CDTF">2010-12-03T16:37:53Z</dcterms:modified>
  <cp:revision>80</cp:revision>
  <dc:subject/>
  <dc:title>Un Regalo para ti</dc:title>
</cp:coreProperties>
</file>