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PianoSoloTeatroIdeal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C0B-D719-4AD8-9988-D75F928B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F18-F15B-4A14-B631-D95E9AD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480-7FE4-418B-A0C2-7FDAB2F1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118-2192-4189-BD57-E20CAEFF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86A-33B7-475C-9214-387E8DA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3D5-7CF1-4075-9578-277A15B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A6D-F4E4-4232-8E46-9B817EC5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D8B-F59C-4113-9025-47933EDB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43F-0EA4-4ACB-969A-9B8CDB56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C3F-3495-4AA0-8A78-CB042AD2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FEE-728E-4B38-9F04-F2202A5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9D3-B377-44B8-89E4-9D5EFE6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250-7772-4D37-BD90-BB7169C02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PianoSoloTeatroIdea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mor02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2" name="Amor02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11430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cript MT Bold"/>
              </a:rPr>
              <a:t>Somos capaces de todo por amor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PianoSoloTeatroIde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Desesperado y afligido, comenzó a reflexionar sobre su vida y vio que había sido un tonto. Se acordó de las palabras de su padre y comenzó a deci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3200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h, padre mío... Si yo hubiese escuchado tus consejos...  Pero ahora es demasiado tar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343400"/>
            <a:ext cx="827100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pesadumbrado, el joven levantó la vista y vio el establo. Con pasos lentos, se dirigió hasta allá y entrando, vio la horca y la placa llenas de polvo, y entonces pensó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pt-BR" sz="4000" spc="-1" strike="noStrike">
                <a:solidFill>
                  <a:srgbClr val="000000"/>
                </a:solidFill>
                <a:latin typeface="Script MT Bold"/>
              </a:rPr>
              <a:t>Yo nunca seguí las palabras de mi padre, no pude alegrarle cuando estaba vivo, pero al menos esta vez haré su voluntad. Voy a  cumplir mi promesa. No me queda nada má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Entonces, él subió los escalones y se colocó la cuerda en el cuello, y pens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h, si yo tuviese una nueva oportunida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Entonces, se tiró desde lo alto de los escalones y, por un instante, sintió que la cuerda apretaba su garganta... </a:t>
            </a:r>
            <a:r>
              <a:rPr b="0" i="1" lang="pt-BR" sz="6600" spc="-1" strike="noStrike">
                <a:solidFill>
                  <a:srgbClr val="0066ff"/>
                </a:solidFill>
                <a:latin typeface="Times New Roman"/>
              </a:rPr>
              <a:t>Era el fin</a:t>
            </a: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n embargo, el brazo de la horca era hueco y se quebró fácilmente, cayendo el joven al piso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bre él cayeron joyas, esmeraldas, perlas, rubíes, safiros y brillantes, muchos brillantes..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a horca estaba llena de piedras preciosas. Entre lo que cayó encontró una nota.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 ella estaba escri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b2b2b2"/>
                </a:solidFill>
                <a:latin typeface="Script MT Bold"/>
              </a:rPr>
              <a:t>Esta es tu nueva oportunidad. ¡Te amo muc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b2b2b2"/>
                </a:solidFill>
                <a:latin typeface="Times New Roman"/>
              </a:rPr>
              <a:t>Con amor, tu viejo pad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uz turva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848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Dios es exactamente así con nosotr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uando nos arrepentimos, pod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r hast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Él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El siempre nos dá </a:t>
            </a:r>
            <a:r>
              <a:rPr b="0" lang="pt-BR" sz="3200" spc="-1" strike="noStrike">
                <a:solidFill>
                  <a:srgbClr val="980c3e"/>
                </a:solidFill>
                <a:latin typeface="Times New Roman"/>
              </a:rPr>
              <a:t>un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980c3e"/>
                </a:solidFill>
                <a:latin typeface="Times New Roman"/>
              </a:rPr>
              <a:t>nueva oportunidad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pt-BR" sz="7200" spc="-1" strike="noStrike">
                <a:solidFill>
                  <a:srgbClr val="000000"/>
                </a:solidFill>
                <a:latin typeface="Times New Roman"/>
              </a:rPr>
              <a:t>¡Dios te ama y yo te aprecio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61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Comparte este mensaje. </a:t>
            </a:r>
            <a:r>
              <a:rPr b="1" i="1" lang="es-MX" sz="1800" spc="-1" strike="noStrike">
                <a:solidFill>
                  <a:srgbClr val="0066ff"/>
                </a:solidFill>
                <a:latin typeface="Times New Roman"/>
              </a:rPr>
              <a:t>Regala vida.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 Dios te bendiga ho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16720" y="2637000"/>
            <a:ext cx="2414520" cy="33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35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Script MT Bold"/>
              </a:rPr>
              <a:t>El Padre no des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bía un hombre muy rico que poseía muchos bienes, una gran estancia, mucho ganado, varios empleados, y un único hijo, su hered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ago acamp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8153280" cy="3929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7882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o que más le gustaba al hijo era hacer fiestas, estar con sus amigos y ser adulado por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u padre siempre le advertía que sus amigos sólo estarían a su lado mientras él tuviese algo que ofrecerles; después, le abandonarían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Un día, el viejo padre, ya avanzado en edad, dijo a sus empleados que le construyeran un pequeño establo. Dentro de el, el propio padre preparó una horca y, junto a ella, una placa con algo escri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514600"/>
            <a:ext cx="7881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Lucida Fax"/>
              </a:rPr>
              <a:t>“</a:t>
            </a:r>
            <a:r>
              <a:rPr b="1" lang="pt-BR" sz="4400" spc="-1" strike="noStrike">
                <a:solidFill>
                  <a:srgbClr val="000000"/>
                </a:solidFill>
                <a:latin typeface="Lucida Fax"/>
              </a:rPr>
              <a:t>PARA QUE NUNCA DESPRECIES LAS PALABRAS DE TU PADRE.”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b5249"/>
                </a:solidFill>
                <a:latin typeface="Times New Roman"/>
              </a:rPr>
              <a:t>Mas tarde, llamó a su hijo, lo llevó hasta el establo y le dijo: </a:t>
            </a:r>
            <a:br>
              <a:rPr sz="3600"/>
            </a:br>
            <a:r>
              <a:rPr b="0" lang="pt-BR" sz="3200" spc="-1" strike="noStrike">
                <a:solidFill>
                  <a:srgbClr val="2a3d7a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95280"/>
            <a:ext cx="84582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Hijo mío, yo ya estoy viejo y, cuando yo me vaya, tú te encargarás de todo lo que es mío... Y yo sé cual será tu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Vas a dejar la estancia en manos de los empleados y vas a gastar todo el dinero con tus amig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Venderás todos los bienes para sustentarte y, cuando no tengas más nada, tus amigos se apartarán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Sólo entonces te arrepentirás amargamente por no haberme escuch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   </a:t>
            </a:r>
            <a:r>
              <a:rPr b="1" i="1" lang="pt-BR" sz="2800" spc="-1" strike="noStrike">
                <a:solidFill>
                  <a:srgbClr val="2a3d7a"/>
                </a:solidFill>
                <a:latin typeface="Script MT Bold"/>
              </a:rPr>
              <a:t>Fue por esto que construí esta hor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¡Ella es para ti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666520"/>
            <a:ext cx="769284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Quiero que me prometas que, si sucede lo que yo te dije, te ahorcarás en e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l joven se rió, pensó que era un absurdo, pero para no contradecir a su padre le prometió que así lo haría, pensando que eso jamás suce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00"/>
                </a:solidFill>
                <a:latin typeface="Times New Roman"/>
              </a:rPr>
              <a:t>El tiempo pasó, el padre murió, y su hijo se encargó de todo, y así como su padre había previsto, el joven gastó todo, vendió los bienes, perdió sus amigos y hasta la propia dignidad</a:t>
            </a:r>
            <a:r>
              <a:rPr b="0" lang="pt-BR" sz="4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2:06:14Z</dcterms:created>
  <dc:creator>oxicomputer</dc:creator>
  <dc:description/>
  <dc:language>en-US</dc:language>
  <cp:lastModifiedBy>Zaret Romero</cp:lastModifiedBy>
  <dcterms:modified xsi:type="dcterms:W3CDTF">2005-10-22T04:37:54Z</dcterms:modified>
  <cp:revision>8</cp:revision>
  <dc:subject/>
  <dc:title>Presentación de PowerPoint</dc:title>
</cp:coreProperties>
</file>