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236-E5AB-479B-AA32-C1044A35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160-DC00-4DE5-AE5C-58E2D3A9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60A-C074-4892-A81A-246E885C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102-0200-44DC-A783-CF5B4AF9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52A-D12E-4EBC-84C8-703E06F9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302-9076-416B-A8C8-B5DF6DF5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49D-D2DD-4660-92A4-AB1550D7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19C-9742-45DD-B0FB-41E4EDCE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641-009C-46C4-82ED-D1022536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19F-7551-4EB8-83CC-7C3FF83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21D-13B2-41F7-AB07-DB893699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2A3-7DCA-4AC2-B808-E63F7394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C403-507F-4859-B0FF-404AF10932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tommyswindow.com/index_spanish.html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r.groups.yahoo.com/group/peque_semillitas/" TargetMode="External"/><Relationship Id="rId2" Type="http://schemas.openxmlformats.org/officeDocument/2006/relationships/hyperlink" Target="http://ar.groups.yahoo.com/group/peque_semillitas/" TargetMode="External"/><Relationship Id="rId3" Type="http://schemas.openxmlformats.org/officeDocument/2006/relationships/hyperlink" Target="http://ar.groups.yahoo.com/group/peque_semillitas/" TargetMode="External"/><Relationship Id="rId4" Type="http://schemas.openxmlformats.org/officeDocument/2006/relationships/hyperlink" Target="mailto:peque_semillitas-subscribe@gruposyahoo.com.ar" TargetMode="External"/><Relationship Id="rId5" Type="http://schemas.openxmlformats.org/officeDocument/2006/relationships/hyperlink" Target="http://peque-semillitas.blogspot.com/" TargetMode="External"/><Relationship Id="rId6" Type="http://schemas.openxmlformats.org/officeDocument/2006/relationships/hyperlink" Target="http://peque-semillitas.blogspot.com/" TargetMode="External"/><Relationship Id="rId7" Type="http://schemas.openxmlformats.org/officeDocument/2006/relationships/hyperlink" Target="http://peque-semillitas.blogspot.com/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52" t="19359" r="57914" b="545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95480" y="3946680"/>
            <a:ext cx="3581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iende los parl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411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979ff"/>
                </a:solidFill>
                <a:latin typeface="Arial"/>
              </a:rPr>
              <a:t>HAZ CLIC PARA AVANZ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7960" y="2610000"/>
            <a:ext cx="3324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7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ommy's Wind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7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7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lides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7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2594520" y="6582600"/>
            <a:ext cx="39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Times New Roman"/>
              </a:rPr>
              <a:t>Copyright © 2008 Tommy's Window.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>
            <a:lum bright="-12000"/>
          </a:blip>
          <a:srcRect l="0" t="0" r="35168" b="45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65760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d66fe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9a9abc">
                      <a:alpha val="50000"/>
                    </a:srgbClr>
                  </a:outerShdw>
                </a:effectLst>
                <a:latin typeface="Abadi MT Condensed Extra Bold"/>
              </a:rPr>
              <a:t>El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d66fe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63504" dir="2216091" blurRad="0" rotWithShape="0">
                  <a:srgbClr val="9a9abc">
                    <a:alpha val="50000"/>
                  </a:srgbClr>
                </a:outerShdw>
              </a:effectLst>
              <a:latin typeface="Abadi MT Condensed Extra Bold"/>
              <a:ea typeface="Abadi MT Condensed Extra Bol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720" y="2438280"/>
            <a:ext cx="4419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d66fe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73964" dir="1863564" blurRad="0" rotWithShape="0">
                    <a:srgbClr val="9a9abc">
                      <a:alpha val="50000"/>
                    </a:srgbClr>
                  </a:outerShdw>
                </a:effectLst>
                <a:latin typeface="Abadi MT Condensed Extra Bold"/>
              </a:rPr>
              <a:t>Factor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d66fe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73964" dir="1863564" blurRad="0" rotWithShape="0">
                  <a:srgbClr val="9a9abc">
                    <a:alpha val="50000"/>
                  </a:srgbClr>
                </a:outerShdw>
              </a:effectLst>
              <a:latin typeface="Abadi MT Condensed Extra Bold"/>
              <a:ea typeface="Abadi MT Condensed Extra Bol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4800600"/>
            <a:ext cx="4876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d66fe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4b4b71">
                      <a:alpha val="50000"/>
                    </a:srgbClr>
                  </a:outerShdw>
                </a:effectLst>
                <a:latin typeface="Abadi MT Condensed Extra Bold"/>
              </a:rPr>
              <a:t>DIOS</a:t>
            </a:r>
            <a:endParaRPr b="1" lang="en-US" sz="18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d66fe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07932" dir="2700000" blurRad="0" rotWithShape="0">
                  <a:srgbClr val="4b4b71">
                    <a:alpha val="50000"/>
                  </a:srgbClr>
                </a:outerShdw>
              </a:effectLst>
              <a:latin typeface="Abadi MT Condensed Extra Bold"/>
              <a:ea typeface="Abadi MT Condensed Extra Bold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62120" y="3049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5a2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n Su Palabra, Dios nos ha hech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85a2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5a2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unas promesas extraordinarias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85a2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219320"/>
            <a:ext cx="7543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a2ff"/>
                    </a:gs>
                    <a:gs pos="100000">
                      <a:srgbClr val="bfd1d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on promesas que Él tiene intención de cumplir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a2ff"/>
                  </a:gs>
                  <a:gs pos="100000">
                    <a:srgbClr val="bfd1d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312408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Nos las ha dado Dio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que es veraz y nunca miente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76520" y="4343400"/>
            <a:ext cx="5867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Él no exagera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No abulta Sus promesas para enaltecers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Sí mismo o para confortarno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71600" y="5562720"/>
            <a:ext cx="6477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Nos hace promesas porque desea que las creamos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y le exijamos que las cumpla, a fin de poder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concedernos todo lo que nos tiene reservado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8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1" presetSubtype="2">
                                  <p:stCondLst>
                                    <p:cond delay="280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dbeff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668" t="93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09480" y="45720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i bien esas promesas no son falsa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í son condicionale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965400"/>
            <a:ext cx="83059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«Deléitate asimismo en el Señor, y Él te concederá                                  las peticiones de tu corazón»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Salmo 37: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«Buscad primeramente el reino de Dios y Su justicia,                                 y todas estas cosas os serán añadidas»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Mateo 6:33).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«Dad, y se os dará»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Lucas 6:38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«Nada bueno niega a los que andan en integridad»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(Salmo 84:1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14400" y="495288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marlo a Él y amar al prójim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como a nosotros mismo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1276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  <a:ea typeface="SimSun"/>
              </a:rPr>
              <a:t>Dependen de que cumplamos cierta estipulación, que en casi todos los casos consiste en obedecer Sus dos grandes mandamiento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86200" y="6477120"/>
            <a:ext cx="15238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00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Mateo 22:37-39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003399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9030" b="0"/>
          <a:stretch/>
        </p:blipFill>
        <p:spPr>
          <a:xfrm>
            <a:off x="-6480" y="-6480"/>
            <a:ext cx="9150480" cy="6870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6553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71920" y="655308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75248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ino de la manera y en el momento que a Dios 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e parezca más conveniente. 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3048120"/>
            <a:ext cx="6248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Dios, como el padre sensato y amoroso que es, </a:t>
            </a:r>
            <a:endParaRPr b="1" lang="en-US" sz="1600" spc="1" strike="noStrike">
              <a:ln w="9360">
                <a:solidFill>
                  <a:srgbClr val="e3ebf1"/>
                </a:solidFill>
                <a:miter/>
              </a:ln>
              <a:solidFill>
                <a:srgbClr val="333399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siempre sabe lo que es mejor para nosotros, </a:t>
            </a:r>
            <a:endParaRPr b="1" lang="en-US" sz="1600" spc="1" strike="noStrike">
              <a:ln w="9360">
                <a:solidFill>
                  <a:srgbClr val="e3ebf1"/>
                </a:solidFill>
                <a:miter/>
              </a:ln>
              <a:solidFill>
                <a:srgbClr val="333399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e3ebf1"/>
                  </a:solidFill>
                  <a:miter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000000"/>
                  </a:outerShdw>
                </a:effectLst>
                <a:latin typeface="Arial Black"/>
              </a:rPr>
              <a:t>y le encanta dárnoslo. </a:t>
            </a:r>
            <a:endParaRPr b="1" lang="en-US" sz="1600" spc="1" strike="noStrike">
              <a:ln w="9360">
                <a:solidFill>
                  <a:srgbClr val="e3ebf1"/>
                </a:solidFill>
                <a:miter/>
              </a:ln>
              <a:solidFill>
                <a:srgbClr val="333399"/>
              </a:solidFill>
              <a:effectLst>
                <a:outerShdw dist="40186" dir="4303641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4495680"/>
            <a:ext cx="7696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9a9abc"/>
                  </a:solidFill>
                  <a:miter/>
                </a:ln>
                <a:gradFill rotWithShape="0">
                  <a:gsLst>
                    <a:gs pos="0">
                      <a:srgbClr val="e3ebf1"/>
                    </a:gs>
                    <a:gs pos="100000">
                      <a:srgbClr val="376fa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¡Ese es el factor Dios!</a:t>
            </a:r>
            <a:endParaRPr b="1" lang="en-US" sz="1600" spc="1" strike="noStrike">
              <a:ln w="9360">
                <a:solidFill>
                  <a:srgbClr val="9a9abc"/>
                </a:solidFill>
                <a:miter/>
              </a:ln>
              <a:gradFill rotWithShape="0">
                <a:gsLst>
                  <a:gs pos="0">
                    <a:srgbClr val="e3ebf1"/>
                  </a:gs>
                  <a:gs pos="100000">
                    <a:srgbClr val="376fa7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00400" y="601992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9a9abc"/>
                  </a:solidFill>
                  <a:miter/>
                </a:ln>
                <a:gradFill rotWithShape="0">
                  <a:gsLst>
                    <a:gs pos="0">
                      <a:srgbClr val="e3ebf1"/>
                    </a:gs>
                    <a:gs pos="100000">
                      <a:srgbClr val="376fa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PARA COMPARTIR</a:t>
            </a:r>
            <a:endParaRPr b="1" lang="en-US" sz="1600" spc="1" strike="noStrike">
              <a:ln w="9360">
                <a:solidFill>
                  <a:srgbClr val="9a9abc"/>
                </a:solidFill>
                <a:miter/>
              </a:ln>
              <a:gradFill rotWithShape="0">
                <a:gsLst>
                  <a:gs pos="0">
                    <a:srgbClr val="e3ebf1"/>
                  </a:gs>
                  <a:gs pos="100000">
                    <a:srgbClr val="376fa7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i cumplimos esos preceptos, hay garantía 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e que las promesas se harán realidad, no forzosamente 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omo nosotros queremos o nos imaginamos, </a:t>
            </a:r>
            <a:endParaRPr b="1" lang="en-US" sz="1600" spc="1" strike="noStrike">
              <a:ln w="9360">
                <a:solidFill>
                  <a:srgbClr val="336699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905200" y="5410080"/>
            <a:ext cx="3038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9a9abc"/>
                  </a:outerShdw>
                </a:effectLst>
                <a:latin typeface="Times New Roman"/>
              </a:rPr>
              <a:t>Adaptado de un texto de Peter Amsterdam</a:t>
            </a:r>
            <a:endParaRPr b="0" lang="en-US" sz="1800" spc="1" strike="noStrike">
              <a:ln w="0">
                <a:noFill/>
              </a:ln>
              <a:solidFill>
                <a:srgbClr val="e3ebf1"/>
              </a:solidFill>
              <a:effectLst>
                <a:outerShdw dist="17819" dir="2700000" blurRad="0" rotWithShape="0">
                  <a:srgbClr val="9a9abc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omb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5.55556E-006 L 6.66667E-006 -0.55556 E">
                                      <p:cBhvr>
                                        <p:cTn id="24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9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457200"/>
            <a:ext cx="8305560" cy="60958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762120"/>
            <a:ext cx="8610840" cy="5410080"/>
          </a:xfrm>
          <a:prstGeom prst="ellipse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7000" y="1325520"/>
            <a:ext cx="765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"Pequeñas Semillitas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etín diario sobre temas de interés gene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 de reflexión personal con orientación cristi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Puedes recibirlas diariamente en tu correo suscribiéndote gratis 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ar.groups.yahoo.com/group/peque_semillitas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peque_semillitas-subscribe@gruposyahoo.com.a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Puedes leerlas actualizadas diariamente en el blog de intern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http://peque-</a:t>
            </a:r>
            <a:r>
              <a:rPr b="0" lang="es-VE" sz="1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semillitas.blogspot.com</a:t>
            </a:r>
            <a:r>
              <a:rPr b="0" lang="es-VE" sz="1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/</a:t>
            </a: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304920"/>
            <a:ext cx="8153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Prácticamente todo el mundo tiene dificultade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problemas económicos o, entre otras cosa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nfrenta situaciones difíciles o padece una enfermedad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29000" y="464832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in embargo, algunos saben sobrellevar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esas situaciones mejor que otros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9000" y="57150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o que marca la diferencia no son las circunstancia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ino más bien a quien acudimos cuando necesitamos ayuda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057400" y="4648320"/>
            <a:ext cx="4724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Haz lo que pueda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86200" y="380880"/>
            <a:ext cx="4876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El secreto para vencer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ualquier obstáculo 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blema en la vida es: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720" y="563868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y deja que Dios se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encargue del resto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762120" y="3808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¿Qué es «El Factor Dios»?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28800" y="1676520"/>
            <a:ext cx="5334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Isaías 55:9 dice: 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«Como son más altos los cielos que la tierra, 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sí son Mis caminos más altos que vuestros caminos 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y Mis pensamientos más que vuestros pensamientos».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6172200"/>
            <a:ext cx="708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Eso es «El Factor Dios».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5029200"/>
            <a:ext cx="7086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l hacer planes debemos recordar que Dios es dueño de la situación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y que Él es capaz de cambiar corazones y situaciones y lograr l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que nosotros no podemos hacer por nuestra cuenta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209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762120" y="304920"/>
            <a:ext cx="4038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o que parece ilógico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 la mente humana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uele adoptar una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erspectiva distinta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uando tomamos a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5c5c8a"/>
                  </a:solidFill>
                  <a:miter/>
                </a:ln>
                <a:solidFill>
                  <a:srgbClr val="e3ebf1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ios en cuenta. </a:t>
            </a:r>
            <a:endParaRPr b="1" lang="en-US" sz="1600" spc="1" strike="noStrike">
              <a:ln w="9360">
                <a:solidFill>
                  <a:srgbClr val="5c5c8a"/>
                </a:solidFill>
                <a:miter/>
              </a:ln>
              <a:solidFill>
                <a:srgbClr val="e3ebf1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4114800"/>
            <a:ext cx="41907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a3bdd1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a3bdd1">
                      <a:alpha val="50000"/>
                    </a:srgbClr>
                  </a:outerShdw>
                </a:effectLst>
                <a:latin typeface="Arial Black"/>
              </a:rPr>
              <a:t>Eso añade a la situación </a:t>
            </a:r>
            <a:endParaRPr b="1" lang="en-US" sz="1600" spc="1" strike="noStrike">
              <a:ln w="9360">
                <a:solidFill>
                  <a:srgbClr val="a3bdd1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a3bdd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a3bdd1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a3bdd1">
                      <a:alpha val="50000"/>
                    </a:srgbClr>
                  </a:outerShdw>
                </a:effectLst>
                <a:latin typeface="Arial Black"/>
              </a:rPr>
              <a:t>otro factor que desafía </a:t>
            </a:r>
            <a:endParaRPr b="1" lang="en-US" sz="1600" spc="1" strike="noStrike">
              <a:ln w="9360">
                <a:solidFill>
                  <a:srgbClr val="a3bdd1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a3bdd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a3bdd1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a3bdd1">
                      <a:alpha val="50000"/>
                    </a:srgbClr>
                  </a:outerShdw>
                </a:effectLst>
                <a:latin typeface="Arial Black"/>
              </a:rPr>
              <a:t>las leyes de la naturaleza </a:t>
            </a:r>
            <a:endParaRPr b="1" lang="en-US" sz="1600" spc="1" strike="noStrike">
              <a:ln w="9360">
                <a:solidFill>
                  <a:srgbClr val="a3bdd1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a3bdd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a3bdd1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a3bdd1">
                      <a:alpha val="50000"/>
                    </a:srgbClr>
                  </a:outerShdw>
                </a:effectLst>
                <a:latin typeface="Arial Black"/>
              </a:rPr>
              <a:t>y hace realidad lo imposible.</a:t>
            </a:r>
            <a:endParaRPr b="1" lang="en-US" sz="1600" spc="1" strike="noStrike">
              <a:ln w="9360">
                <a:solidFill>
                  <a:srgbClr val="a3bdd1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a3bdd1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2219" r="0" b="2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304920"/>
            <a:ext cx="8229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El Factor Dios significa mantenernos firmes en Sus promesas. 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563868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ccdbe6"/>
                    </a:gs>
                    <a:gs pos="100000">
                      <a:srgbClr val="56568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/>
                  </a:outerShdw>
                </a:effectLst>
                <a:latin typeface="Arial Black"/>
              </a:rPr>
              <a:t>Significa que la fe sobrepasa 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ccdbe6"/>
                  </a:gs>
                  <a:gs pos="100000">
                    <a:srgbClr val="565680"/>
                  </a:gs>
                </a:gsLst>
                <a:lin ang="5400000"/>
              </a:gradFill>
              <a:effectLst>
                <a:outerShdw dist="71785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ccdbe6"/>
                    </a:gs>
                    <a:gs pos="100000">
                      <a:srgbClr val="56568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/>
                  </a:outerShdw>
                </a:effectLst>
                <a:latin typeface="Arial Black"/>
              </a:rPr>
              <a:t>todas las imposibilidades.</a:t>
            </a:r>
            <a:endParaRPr b="1" lang="en-US" sz="16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ccdbe6"/>
                  </a:gs>
                  <a:gs pos="100000">
                    <a:srgbClr val="565680"/>
                  </a:gs>
                </a:gsLst>
                <a:lin ang="5400000"/>
              </a:gradFill>
              <a:effectLst>
                <a:outerShdw dist="71785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157536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SimSun"/>
              </a:rPr>
              <a:t>Significa confiar en Él, creer que nada es imposible para Él y que Él puede suplir todas nuestras neces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6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8580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un que Dios vive en la dimensión celestial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obra en el mundo real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5105520"/>
            <a:ext cx="845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solo reparte recompensas de índole espiritual, sino también bendiciones tangibles, visibles y materiales, de esas que se miden en pesos, dólares y eur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SimSun"/>
              </a:rPr>
              <a:t>Es Dios del Cielo y también del mundo terrenal.                                                     Trasciende ambos mundos, manda y vive en ambos, domina y crea en ambos,                        y tiene poder para pagarnos en ambas moned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838080" y="2209680"/>
            <a:ext cx="7391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Su poder y Su capacidad son más que suficientes para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concedernos los bienes tangibles y prácticos que necesitamos,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y además está deseoso de hacerlo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5228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mos aprender a confiar en que nos dará todo lo que nos haga falta, no solo lo espiritual —felicidad, una meta en la vida, paz interior—, sino también lo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57150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tiene reparo alguno en sacarse del bolsillo dinero contante y sonante y entregárnoslo, siempre y cuando tengamos fe para recibirlo. Para Él eso no es nad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33520" y="380880"/>
            <a:ext cx="800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No debemos limitar a Dios con lo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que pensamos que es capaz de hacer.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7226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SimSun"/>
              </a:rPr>
              <a:t>Hay que tener en cuenta que Su influencia se extiende a todo y que puede llevar a cabo milagros no solo en la esfera espiritual, sino también en el terreno físico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5562720"/>
            <a:ext cx="8305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Puede concedernos bendiciones tanto prácticas como espirituales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fd1df"/>
                    </a:gs>
                    <a:gs pos="100000">
                      <a:srgbClr val="4784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Arial Black"/>
              </a:rPr>
              <a:t>Francamente, todos necesitamos muchas de ambos tipos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fd1df"/>
                  </a:gs>
                  <a:gs pos="100000">
                    <a:srgbClr val="4784ff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5:34:50Z</dcterms:created>
  <dc:creator>paco</dc:creator>
  <dc:description>Copyright © 2008 Tommy's Window. 
All Rights Reserved
 DO NOT modify.</dc:description>
  <dc:language>en-US</dc:language>
  <cp:lastModifiedBy>Windows</cp:lastModifiedBy>
  <dcterms:modified xsi:type="dcterms:W3CDTF">2009-07-22T18:35:46Z</dcterms:modified>
  <cp:revision>2</cp:revision>
  <dc:subject>Spanish translation.</dc:subject>
  <dc:title>Diapositiva 1</dc:title>
</cp:coreProperties>
</file>