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Andrea%20Bocelli%20&amp;%20Laura%20Pausini%20-%20Vivo%20Per%20Le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B68-430B-4E8A-BF82-9A94922F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015-FF2A-4EDC-ABCB-B945A40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A1F-B8E3-403D-A8EA-43483FD8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4D4-E481-45E1-AA05-2D162BF7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799-1B0B-4F1F-BD69-300340B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3AB-ADFD-4BF9-B766-67EBF00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B1C-F2A3-4DAC-A5B5-6F3233AF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0CC-9C3E-4569-BF30-68BE4FD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32F-C932-4435-A656-6066C86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D00-33AA-4461-A1E6-C1424E4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BCF-9CF3-46F7-87EE-F5B1B04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815-B7C0-4FB2-9C31-5AAEB70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B37-255F-4D1D-9893-30659F5D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a%20Bocelli%20&amp;%20Laura%20Pausini%20-%20Vivo%20Per%20Lei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3640" y="4937040"/>
            <a:ext cx="59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Italia - año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 es una pequeña ciudad medieval, que se encuentra en la costa del Mar Adriático de Italia, en la carretera entre San Giovanni Rotondo y Loreto. Lanciano significa "Lanza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4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00"/>
                </a:solidFill>
                <a:latin typeface="Arial"/>
              </a:rPr>
              <a:t>Utilizar 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Andrea%20Bocelli%20&amp;%20Laura%20Pausini%20-%20Vivo%20Per%20Le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00160" y="-833400"/>
            <a:ext cx="11344320" cy="852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2016000" cy="33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16080" y="0"/>
            <a:ext cx="101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spués se volteó despacio hacia ellas, diciéndo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Oh afortunados testigos a quié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Santísimo Dios, para destruir mi falta de fe, ha querido revelárse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Él mismo en este Bendito Sacramento y hacerse visib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ante nuestros ojos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Vengan, hermanos y maravíllense ante nuestro Dios tan cerc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osotr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ontemplen la Carne y la Sangr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uestro Amado Crist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80000" cy="74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7417080" cy="710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84720" y="333360"/>
            <a:ext cx="4743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Las personas se apresuraron para ir al altar y, al presenciar el milagro, empezaron a clamar, pidiendo perdón y misericordia.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Otras empezaron a darse golpes de pecho, confesando sus pecados, declarándose indignos de presenciar tal milagr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Otros se arrodillaban en señal de respeto y gratitud por el regalo que el Señor les había concedid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Todos contaban la historia por toda la ciudad y por todos los pueblos circunvec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674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0640"/>
            <a:ext cx="439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se mantuvo intacta, pero la sangre se dividió en el cáliz, en 5 partículas de diferentes tamaños y formas irregulare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os monjes decidieron pesar las partículas descubriendo fenómenos particulares sobre el peso de cada una de ella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Cuando pesan 1, pesa lo mismo que 2 y 2 pesan lo mismo que las 5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Inmediatamente la Hostia y las cinco partículas fueron colocadas en un relicario de marf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08200" y="3429000"/>
            <a:ext cx="24429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27640" y="189000"/>
            <a:ext cx="453708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nálisis, realizados con absoluto rigor científico (desde 1574, en 1970-71 y en 1991) y documentados, por una serie de fotografías al microscop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ieron los siguientes resultado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 verdadera Carne. La Sangre es verdadera Sang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y la Sangre pertenecen a la especie human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tá constituida por el tejido muscular del corazón. En la Carne están presentes, en secciones, el miocardio, el endocardio, el nervio vago y, por el relevante espesor del miocard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l ventrículo cardiaco izqui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0"/>
            <a:ext cx="4753080" cy="7101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87840" y="907920"/>
            <a:ext cx="2851200" cy="50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476280"/>
            <a:ext cx="5040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arne es un CORAZON completo en su estructura esenci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La Carne y la Sangre tienen el mismo grupo sanguíneo (AB)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ekton Pro"/>
              </a:rPr>
              <a:t>ípico grupo sanguíneo judí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se encontraron las proteínas normalmente fraccionadas, con la proporción en porcentaje, correspondiente al cuadro Sero-proteico de la sangre fresca norm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también se encontraron estos minerales : Cloruro, fósforo, magnesio, potasio, sodio y cal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81080" y="0"/>
            <a:ext cx="4897440" cy="7029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55736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onservación de la Carne y de la Sangre, dejadas al estado natura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por espacio de trece sigl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y expuestas a la acción de agentes atmosféricos y biológicos, es de por sí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 un fenómeno extraordinari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Conclusión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Se puede decir que la Ciencia ha dado una respuesta segura y exhaustiv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acerca de la autenticidad de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Milagro Eucarístico de Lanc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Basílica del milagro Eucarísico en Lanciano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0"/>
            <a:ext cx="550836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40464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quí se conser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sde hace má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trece siglos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el primero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y más grande</a:t>
            </a: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l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milagr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ucarístico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7567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5588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13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333360"/>
            <a:ext cx="684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, desde 1713, se conserva en un artístico Ostensorio de plata, de la escuela napolitana, finamente cinc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Sangre está contenida en una rica y antigua ampolla de cristal de R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72360" y="333360"/>
            <a:ext cx="27716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La Hostia-Carne, aún se conserva muy bie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El tamaño de la hostia es como las hostias que el sacerdote eleva en las misas hoy día.</a:t>
            </a:r>
            <a:r>
              <a:rPr b="1" i="1" lang="es-ES" sz="2400" spc="-1" strike="noStrike">
                <a:solidFill>
                  <a:srgbClr val="000000"/>
                </a:solidFill>
                <a:latin typeface="Tekton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221000"/>
            <a:ext cx="2664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Es ligeramente pard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dquiere un tinte r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si se ilumina por el 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posterior.  La 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coagulada tiene un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terroso que tiende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marillo O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852640"/>
            <a:ext cx="741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Milagro de Lanciano es un continuo mila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La Hostia convertida en Carne y el Vino convertido en Sang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sin el uso de ningún preservativo, están aún presentes en el relic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uando en 1991 hicieron cortes histológicos de la carne, esta sang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360" y="5084640"/>
            <a:ext cx="662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 DIOS TE BENDIGA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49360"/>
            <a:ext cx="73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te bendiga y te guarde,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ga brillar su rostro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sobre ti  y te conceda su Gracia, 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bite en ti y te de Paz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7008840" cy="525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40600" y="3357720"/>
            <a:ext cx="2003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33360"/>
            <a:ext cx="45720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Un Monje de la Orden de San Basil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sabio en las cosas del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ero no en las cosas de la 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asaba un tiempo de prue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contra la 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Dudaba de la presencia real de Nuestro Señor Jesús en la Eucaristía. Oraba constantemente para librarse de esas dudas por miedo de perder su vocación.</a:t>
            </a:r>
            <a:r>
              <a:rPr b="1" i="1" lang="en-US" sz="2000" spc="-1" strike="noStrike">
                <a:solidFill>
                  <a:srgbClr val="333399"/>
                </a:solidFill>
                <a:latin typeface="Tekton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40072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836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Sufría día tras día la du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¿Está Jesús realmente y, substancialmente presente en la Eucaristía?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udaba sobre el misterio de la transubsta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86360" cy="568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60280"/>
            <a:ext cx="38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Oraba constantemente para librarse de esas dudas por miedo de perder su vocació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u sacerdocio se convirtió en una rutina y se destruía poco a poco. Especialmente la celebración de la Santa Misa se convirtió en una rutina más, un trabaj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5400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1147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La sit</a:t>
            </a: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uació</a:t>
            </a: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n en el mundo no le ayudó a fortalecer su fe. Había muchas herejías surgiendo durante esta época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acerdotes y obispos eran víctimas de esas herejías, las cuales estaban infectando a la Iglesia por todas parte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Algunas de estas herejías negaban la presencia real de nuestro Señor en la Eucaristí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l sacerdote no podía levantarse de esta oscuridad que envolvía su corazón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Cada vez estaba más convencido, por la lógica humana, de esas herej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98900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Una mañana del año 700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mientras celebraba la Santa Misa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el sacerdote estaba siendo atacado fuertemente por la duda y después de haber pronunciado las solemnes palabras de la consagración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vio como la Santa Hostia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se convirtió en un círculo de carne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y el vino en sangre vi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42900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aba ante un fenómeno sobrenatural visible, que lo hizo temblar y comenzó a llorar incontrolablemente de gozo y agradecimiento. . 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uvo largo rato, de espaldas a los fieles, como era la misa en es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29:12Z</dcterms:created>
  <dc:creator>LR</dc:creator>
  <dc:description/>
  <dc:language>en-US</dc:language>
  <cp:lastModifiedBy>Colossus User</cp:lastModifiedBy>
  <dcterms:modified xsi:type="dcterms:W3CDTF">2009-02-18T03:11:08Z</dcterms:modified>
  <cp:revision>22</cp:revision>
  <dc:subject/>
  <dc:title>Lanciano-Italia</dc:title>
</cp:coreProperties>
</file>