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4A3-D099-4F6B-8B6F-6E44E21104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FDE6-F217-409C-82A1-034F827562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1ADA-CBF0-4796-B4B5-9E5AED74AF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4C6-4571-49A1-8E00-97118E14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895-F5F1-461E-872D-F496F075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8A882-DF13-4AEF-92D5-656777C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3CBAD-858A-41A0-BEB2-7A45C15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CC5AB-2F56-439F-B45E-5A6845B2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02066-BEE6-4C45-91C9-E5B0761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720F2-6899-4255-A239-89D1F42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7E07A-F325-4973-8925-B4A547E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294CE-2FE7-4907-8D5A-AD59E841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19AC1-880E-4481-9201-0A602057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0D5C-FD7B-4C40-9C23-F78A54E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8A9EE-80F6-4FCB-928B-E154CA4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89C-887E-4897-AFC5-61C4017A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BFA8F-B567-4810-8780-8E237F6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6F0C4-5D18-404E-9782-95ADA4C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6A030-CDA5-4E01-99C6-FBB0A45C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1F0D5-1B47-428B-B56E-8ED43D36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5FD07-237A-4FF0-BFC8-D92F4FB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DD084-264E-4284-9003-A898AB76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8E739-772D-4024-A707-4B5C884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B9DA8-C0E8-4A7F-A1FA-50BDEE6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9CF16-EC72-4911-BB40-BD0F12F5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00F8E-93E8-405C-A6EE-BEC6A519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6BB-4ED6-494E-8224-CB891446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53FEA-7991-46A0-BE11-F36A7A15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62337-AAD9-491E-9352-8CFB26B0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65F16-7087-4D66-9DE3-7696A2AD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1158B-626B-40AF-B4C6-4346610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C28FC-2322-49CC-9EEC-140838B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23784-2C47-4A52-9E3F-8F4A0A6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5909E-E52B-4782-8B5A-5D806913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8E93D-A6E1-44F5-9121-350FB5F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CBDF5-3D3B-4475-931A-94D45EF9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560EA-199A-4502-BB73-578D5A4B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D4C6-99A1-4A0F-B1AA-03E222AE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DD279-24C6-43FE-A03A-F17FC37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88F92-7E38-4E6C-A9A9-3DCD335C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3DD0-1C46-4775-BE46-BD62E6D9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0767-3B09-42A2-A04A-F57650F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60A68-5700-4BA0-A5A1-1725268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F5A63-869C-45BE-954A-E78A934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D33F4-5466-44CE-BF9F-D995B8B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0A9C0-C5B6-4269-BB33-9C0C4A08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8B4A4-A8DA-4D56-AF2E-15C33DE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9191F-58AE-44CF-A30F-4BFC05C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E17B-D80E-4B23-A0D9-329CE4B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70943-3CBD-4F10-A226-6C8EDC6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16F45-9AC7-4C78-BD34-AE06113C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ACA8B-1905-4CD5-BC62-1E26F91F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3B244-3620-4C1F-BAE9-BD7D1410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F4382-999B-4CE7-BB59-C20A31F0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AB10-5F39-4549-9B14-B7B08E9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360E-469B-47A1-89B8-21D7FB2F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5839-92C2-4FDD-9FB8-72F3B71A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52E5-2EA6-4858-AD4E-83C83D5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E81-6632-4716-BC74-C621B7D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9E6-0EB2-4C2C-8EEF-1822B33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2027-7E43-49DD-BE91-4A22283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CCE-5E0A-4383-8E54-297C8B5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3157-67EB-4230-B4C9-E869CC1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082-D549-4599-84D5-52112658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E774-FBDA-4C15-9F76-000A98D9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7E52-EF46-4EC2-868D-304584F2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E509-59F4-4124-8316-573E0FF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5143-864A-4A4B-A4E6-4E85189A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CDAB-D803-42E8-8BED-7D629B5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DC7B-2201-498B-A518-B335433B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59B-7866-47C2-B2DF-27E8DD8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EA4C-115F-4660-B2D2-135149CE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CDFB-689F-41AB-BBBE-9687423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8697-B84B-495D-A890-BA707F5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2C94-8504-4CFD-A2A6-A73E7D8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BF7D-8D6B-44B5-8D7A-EFB00E6A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7DB0-EE10-4BA8-8BD6-A2DD4FF2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70BA-C748-4344-AAFB-C4FE8DE8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261A-E971-439D-B78C-758BA292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76B3-15DF-437E-8B79-038CE9B9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60D4-50F8-4B81-863A-1A41AEF6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6F9-D912-413B-B26C-E1C11AF5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E372-9342-4FF3-BFA0-A1F17DA1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53C0-1B6E-41FC-B78A-82EAF41A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2DB1-44E4-489C-8B23-98307DEE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D528-07CF-4708-AC65-19AA164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29D9-4F40-4282-BD34-7D238AA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4011-B9FE-4F17-8AC8-74E92D8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42D64-1E2A-438D-BC60-499D71A7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0384-290B-4EED-BDD3-108594DA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6B7B-25F9-4F35-8340-D4AF3F87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FF33-1924-483F-BEA7-A530FC01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B75-2171-4F53-9F9B-FF8EF0F3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379B-C187-44CD-9A7A-6B59DCDE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04CB-6A08-4CA1-B8C1-2B0DB05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B24F-636D-4A17-A57F-2FE799E4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A0CC4-AD4B-4158-8937-6EB2396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41A9-9A5A-40DB-BC18-3681226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33166-629B-4142-88DD-F3AD2E0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61CE4-2163-4742-A712-A88733B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D0CD-FC4A-4172-82CC-80C64E5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C298-5D5C-4900-AF84-71CAFCD0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8AE3-B63C-4B51-82E8-6C1CE1C0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312-1CFC-49A5-A939-4C0B5DC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5536-D343-4990-9A4D-822F87C0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012DA-A46B-47F3-AE9C-04B005A5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5C02-9CAC-46B8-94F7-37BCCB1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B376-C72B-4471-9B44-08A7926A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BF5CA-B4B7-474A-BE56-1363C1B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A99D5-99FF-41CE-AB9C-9FCA358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7B0E-07C4-4F15-A91A-A92C224E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7CB7-7130-46FB-BCDE-14EA3112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E588-8D46-432A-BEAD-882C6E8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F1F2-CABE-4465-B080-21939B0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0FA-E934-4AC4-9C5F-829891D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E4E7-69EF-4442-BD87-CE5B531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7312-B670-4C80-B74F-67E0D366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62EF-8978-415B-B82E-D6C3FA99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99D9A-F2CD-4D23-B454-9FD0AF5B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FBF5-A3EE-4D2A-85D0-1190EC1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4DB8-5EF6-4630-B792-D0195E6B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B4D6C-F136-48A2-A987-20C7BF3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9914-D7F5-4AFD-BC6A-9A48FDF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2B9B5-E3FE-44BD-911C-E8C63E93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FD4A-0100-4C9C-A843-38FF3E5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65A-30F0-44E9-8910-C774376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CB3D2-1D59-4563-9D45-04BFB96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BE0E3-B277-4F3B-99B4-7C7B581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AB65-CAC1-42F0-96B9-DD3C6F46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7227-F4AE-4715-99B8-F3780E25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86478-2DED-40EA-A255-64432F11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605EC-A064-485A-9C20-0A008AD0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86BB-BBFF-4529-908F-9F292AB0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1D30-27E6-479C-91C8-183DAE4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BD0E-1164-49C4-B70D-AC418C3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05CE5-2C49-46FB-82BC-B7FBED60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319-C1E2-424E-9165-BB30C7D6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4BA8-D465-407D-AC11-A3B3D879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4C73-2BB3-413D-98BD-6BCD0BDE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DA0C-3675-4231-928E-5BEB347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9794B-8F05-4726-B5BD-1A4E280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F23BC-FFA7-4C2B-A751-FCFFE2EE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F9FD5-A436-48A6-A64C-5E4822DA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4F5B-5D54-4096-B287-E7C1A4DE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9A3AE-6616-4E4E-8771-8BF4B2BF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23716-A08C-4CBD-AB0E-66781512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EB66-209E-4C23-B1D1-50F27611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3DCE-3AE7-41AF-B045-C78D312F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0A8F-B569-4524-A25E-940A2AA9D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E40E-676E-4E23-A544-169A299ED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7BC4-5B45-491F-A738-7AC88FACD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9181-0CF5-4B17-B124-ED7291595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DBAB-3ADC-44BD-B0E4-419DB0C0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4ABE-8680-42B2-AA92-2D60315D9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A9BA-2B8C-489F-AA57-43EE2F752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ADE-7C52-4B4D-8A08-9D1AF2C37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820-26F7-4A09-946A-57D49436B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8812-06CE-4C24-9EAC-6BBA8727B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E6F-786C-47CB-8F38-67EEE44C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8" descr="perrito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9"/>
          <p:cNvSpPr/>
          <p:nvPr/>
        </p:nvSpPr>
        <p:spPr>
          <a:xfrm>
            <a:off x="4427640" y="0"/>
            <a:ext cx="393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Comic Sans MS"/>
              </a:rPr>
              <a:t>Todos, alguna vez le decimos a nuestros amigos . . .</a:t>
            </a:r>
            <a:r>
              <a:rPr b="0" i="1" lang="en-US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2987640" y="6165720"/>
            <a:ext cx="61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Comic Sans MS"/>
              </a:rPr>
              <a:t>SEREMOS AMIGOS SIEMPRE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10 kutya-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5"/>
          <p:cNvSpPr/>
          <p:nvPr/>
        </p:nvSpPr>
        <p:spPr>
          <a:xfrm>
            <a:off x="3348000" y="5373720"/>
            <a:ext cx="57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Comic Sans MS"/>
              </a:rPr>
              <a:t>Y diles  a  los nuevo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Comic Sans MS"/>
              </a:rPr>
              <a:t>que  nunca  lo  hará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16 shepherd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900000" y="26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Comic Sans MS"/>
              </a:rPr>
              <a:t>Recuerda que todos necesitamos un ami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perro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528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5"/>
          <p:cNvSpPr/>
          <p:nvPr/>
        </p:nvSpPr>
        <p:spPr>
          <a:xfrm>
            <a:off x="250920" y="285840"/>
            <a:ext cx="201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bf9f"/>
                </a:solidFill>
                <a:latin typeface="Comic Sans MS"/>
              </a:rPr>
              <a:t>En algún momento de tú vida quizás llegues a sentir que no tienes ningún amig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6643800" y="57168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bf9f"/>
                </a:solidFill>
                <a:latin typeface="Comic Sans MS"/>
              </a:rPr>
              <a:t>Pero sólo recuerda este correo y tranquilíz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6227640" y="4076640"/>
            <a:ext cx="29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sabiendo que hay alquien que te aprecia y se acuerda de 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perro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5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444120" y="4724280"/>
            <a:ext cx="27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0066"/>
                </a:solidFill>
                <a:latin typeface="Comic Sans MS"/>
              </a:rPr>
              <a:t>Un abra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5"/>
          <p:cNvSpPr/>
          <p:nvPr/>
        </p:nvSpPr>
        <p:spPr>
          <a:xfrm>
            <a:off x="4419720" y="304920"/>
            <a:ext cx="4724280" cy="1600200"/>
          </a:xfrm>
          <a:prstGeom prst="cloudCallout">
            <a:avLst>
              <a:gd name="adj1" fmla="val -43750"/>
              <a:gd name="adj2" fmla="val 652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3" name="Picture 7" descr="perrito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8"/>
          <p:cNvSpPr/>
          <p:nvPr/>
        </p:nvSpPr>
        <p:spPr>
          <a:xfrm>
            <a:off x="5076720" y="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ero, ¿cuánto dura en realidad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perrito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6"/>
          <p:cNvSpPr/>
          <p:nvPr/>
        </p:nvSpPr>
        <p:spPr>
          <a:xfrm>
            <a:off x="684360" y="5445000"/>
            <a:ext cx="549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89d8"/>
                </a:solidFill>
                <a:latin typeface="Comic Sans MS"/>
              </a:rPr>
              <a:t>Podemos ser los mejores amigos por un año . .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2034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50920" y="22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" name="Picture 12" descr="perritos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3"/>
          <p:cNvSpPr/>
          <p:nvPr/>
        </p:nvSpPr>
        <p:spPr>
          <a:xfrm>
            <a:off x="4786200" y="26028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omic Sans MS"/>
              </a:rPr>
              <a:t>Muy buenos amigos el siguente año . . .</a:t>
            </a:r>
            <a:r>
              <a:rPr b="1" i="1" lang="es-E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6" descr="perrito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7"/>
          <p:cNvSpPr/>
          <p:nvPr/>
        </p:nvSpPr>
        <p:spPr>
          <a:xfrm>
            <a:off x="179280" y="33336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No hablamos tan a menudo el proximo año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perritos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3857760" y="0"/>
            <a:ext cx="5286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Comic Sans MS"/>
              </a:rPr>
              <a:t>. . . Y no necesitamo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Comic Sans MS"/>
              </a:rPr>
              <a:t>hablar del todo, el año después de este…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19 kutya-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0" y="2602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Comic Sans MS"/>
              </a:rPr>
              <a:t>Entonces, lo que quiero decirte es que . .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395280" y="24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Comic Sans MS"/>
              </a:rPr>
              <a:t>Eres importante para 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0" y="407664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Comic Sans MS"/>
              </a:rPr>
              <a:t>Aunque nos demoremos en volver a hab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6372360" y="76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Que te adm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6948360" y="249228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Te resp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6372360" y="551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y que realmente te aprecio muc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9000">
    <p:split dir="out" orient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8" descr="perrito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24"/>
          <p:cNvSpPr/>
          <p:nvPr/>
        </p:nvSpPr>
        <p:spPr>
          <a:xfrm>
            <a:off x="324000" y="54936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Envia este mensaje a todos tus amig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9"/>
          <p:cNvSpPr/>
          <p:nvPr/>
        </p:nvSpPr>
        <p:spPr>
          <a:xfrm>
            <a:off x="0" y="2205000"/>
            <a:ext cx="39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c003f"/>
                </a:solidFill>
                <a:latin typeface="Comic Sans MS"/>
              </a:rPr>
              <a:t>No importa que tan seguido hablen 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539640" y="5084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Que tan cerca es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4643280" y="494172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Comic Sans MS"/>
              </a:rPr>
              <a:t>Y también regrésaselo a quien te lo enví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8 kutya-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5"/>
          <p:cNvSpPr/>
          <p:nvPr/>
        </p:nvSpPr>
        <p:spPr>
          <a:xfrm>
            <a:off x="2411280" y="5589720"/>
            <a:ext cx="63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Permítele a los viejos amigos saber que no los has olvid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2:28:04Z</dcterms:created>
  <dc:creator/>
  <dc:description/>
  <dc:language>en-US</dc:language>
  <cp:lastModifiedBy>Tulio Triviño</cp:lastModifiedBy>
  <dcterms:modified xsi:type="dcterms:W3CDTF">2009-05-28T22:52:50Z</dcterms:modified>
  <cp:revision>23</cp:revision>
  <dc:subject/>
  <dc:title>ES PARA TI</dc:title>
</cp:coreProperties>
</file>