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6AE2-C1D8-4A2A-866B-6C9FA09996A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9C59-1AF5-4187-978D-CEE12237DCD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6925-D614-430C-B347-D74059C85C0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3997-28A5-409F-AB16-47A5E2850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6CA9-C642-47DF-8076-E8BBB609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3D0B7-A4DE-436E-9ADB-DC304441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42450-1DF2-4C89-9F40-FF4E2EE6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09723E-372E-40AC-B0BB-5500F515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B2676-3954-464D-8A56-29ECD347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34F23-F0D1-4C85-ADB3-74B9C9BA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48329-BDEA-4FDD-B989-FDD15C1F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EFA06-016C-4A69-80F7-6D3CD4B2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73DD9-3EC4-4313-86CB-0D00523B2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54E1B-3DC5-48EE-842B-EE383B55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0F428-7357-42BF-AD7F-11C782D62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220A-A4C9-4704-B83A-0ABAF93CF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66AEB2-B0BA-490D-AC2C-C3C00A47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3BD5D-1B4C-431D-85D7-BC76F24B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39F92-FA2C-49C1-9DCE-8EC67209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BD99B5-A0F7-4D76-AB20-01A0CDC3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63AA4F-3E1F-4D3D-9EE8-D6050691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B82ED-12A7-4D31-B7D0-E7BD8F89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FAD5D-6995-496B-92DD-2CB8D837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B5565-D63D-4052-BDD2-8F6B6AAE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67C04-61F5-472B-A361-4C0EA3CC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C857B-B5AE-4188-8277-CDEBA6447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066B-1273-4C98-BA4C-35A9EA7A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8CB08-AFE0-47D1-8F80-D50C160E5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B3040-B725-42D3-A7D2-66671614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E0885-586B-4CED-A4F0-798CDFDA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50FC1-973D-47B0-96BF-A44B6F3E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5D935-BA81-4967-976A-37F199C4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3CCE7-3DEE-4BE0-93F9-82431780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8AD47-42FC-4AE5-A365-B0507B81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6FAE0-504F-456F-BD16-A9B408D5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414A1-0B3C-4838-99B8-E0B4EB91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A3D4C-1728-41BE-997F-9981F182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EACD-7CC8-4E10-89FC-65614FF69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DDF30-965E-43C6-80DB-6E2573E3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83E40-B62A-4C74-9737-744CB804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C7359-2384-4D7D-A12E-72595951B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8D11E6-11D9-4F2B-80A7-AB33A001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92388C-9A36-4536-83DC-9F9660C0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0D65BE-7EFB-40B9-B4DE-28B0C98F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12666C-A1C5-4E8F-A460-E086E0EF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60B7E0-153D-4F6B-BF81-99F79B7C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90C86C-B2DA-4836-8FB7-262C34FD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11EC2E-CD60-47F1-845C-E2CC0792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D06C-F1A6-44B1-9278-EC115F5F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EB039-4A70-401F-A161-656CA9D6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B97336-C543-4FBA-B4CC-51D253F0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1A77B0-F752-4B1D-88C1-75B9E56F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68FE0-88F7-44BF-AEFA-58FFAEFCF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9A6D19-89BC-4FC8-AF0D-0605119F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477D-5214-4FDB-B153-A8953463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0BDE-EF67-4618-B4DB-08FC6907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048C-4CFD-4B3F-9962-11323086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849A-4867-47DA-84B1-280E9013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F0DD-5753-4DE0-A392-1BFBE692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8731-6CE7-4DC0-8D7E-F8919E91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1B69-C111-4D76-8E28-F6F249B5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64D9-88A4-488E-A397-AB85A432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9D52-87AB-4ECE-AAA9-9FDFD8A9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9672-B23B-444D-A654-63E3BFFC8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108D-3F62-466A-B29B-3D982ED1D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AC694-34FA-46D8-9C20-2C9DE89DE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3520B-CD4E-4AB0-90A3-B55C6FD9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FCDD8-8733-429B-A921-1EBEC4CE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20799-4892-4DC2-B93E-8CC967C1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74D53-FFC9-4BDA-93DC-DDBC6DBC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78F8-B404-47F8-8D43-742535E9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F6F86-2272-4F79-B19F-BDDF658D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A36D6-868B-420D-ACC3-7F6CFACA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333F3-3A33-4D5A-8989-D48D265A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33CC8-B306-415A-9E6D-485BCD1E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AD839-4A05-4ABB-8A59-89FCEB86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99C45-0F78-4826-B265-FF87AF56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D3230-E88C-47FE-8901-4CA76739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86EB8-463F-41D4-8FED-839C265F5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C4C07-E680-4F7C-A268-49012E0F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0728A-9524-4087-9814-FC555D21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ED64-31CA-44C5-B490-97FBB952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AC15F-D00B-4C4A-A68C-B8B27CA9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C18CB-E239-41DD-9CA1-6717896D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7AFC9-FB10-4CBC-92E0-B2D3B7CA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55196-80F6-4E79-9263-69E74DDB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D2CEB-E173-407F-A1D9-B644C0D5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15CC4-6E61-4FA5-B1F8-05C7BB65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80D99-ED53-4826-8BDC-8E1D8F3A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E0654-FDE9-4A7F-8FDC-E87211195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4B3E3-428B-401A-A4DD-AF952116D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5B8DD-0351-46E6-979E-19FF47CDB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478F-1080-46F6-A2A2-576223CC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EC1AD-AE41-4C3E-818E-92E40E24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45C1A-715B-4337-A322-2AEB92F3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B1BCE-961A-4618-9670-AE05E251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115D2-C0DC-4E06-ADDD-D13FFA03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5DF93-8DEC-4C87-92C1-6928D4BD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2AE47-F1FE-4AEB-989F-C28F007F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1FC6B-7746-43ED-913F-1E8C66A1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49866-0BA8-45CF-B2A3-882DE431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C0C86-77C6-4C7A-8B9A-84007982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6173E-1902-49F9-A0C9-0E9E4B684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800B-51B1-4DCF-B9F6-411AD838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2B73D-6D49-46CD-AD4B-7DBB1C54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7B01E-AC51-4D08-9563-38D3413CC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CE985-34C1-4838-963A-2C9A50B1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F2CDC-824D-43DB-9C9E-09D489C4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19DA2-65A1-4CC7-8422-47EC10F0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15F82-78F0-4387-94D3-CB63E530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550C1-CB6A-4F18-8173-0DBCC2C7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06E12-6BA0-42DF-8C8E-D3AB8242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5B92B-A434-4E3D-83DC-3E1E80B1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89240-BA98-419E-A042-DBA300E3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ED3A-3D9F-4EDA-AD3E-1F58BC64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10754-39DE-4575-B350-65859517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509CF-E9C9-4136-BAC1-13B29F4B0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EF541-C548-4899-A48B-B8D032FE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FD5AE-39E8-43CD-A707-269FA408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D0E8E-6CE9-45CE-9216-144B6D89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F1A60-AE47-4984-A0A2-ABDD108A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199A0-650B-471D-9E45-4C9257AB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63B76-290B-4CEE-8FF8-0C256710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44B62-34CE-4BB5-B255-D5E8B92A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D2975-A7CC-499F-B3C7-8312EC6C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C294-9466-4764-908C-9C3EAD7B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9AC9A-349E-4D06-86B9-D5B94E9E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5043E-1E52-41F0-BC60-E4ADE0FB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45519-B977-4C42-A61F-1CCD2CD7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6303B-99C2-4F5E-A315-D1758388B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98029-44E0-4B0E-BCE9-7B0D6BA1B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5C91F-66CE-4BFA-8286-F6AC0BD5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D0D83-4413-4A18-936C-19AF93DA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8C38C-C104-46D0-B222-BB813C94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9A947-35B9-4F07-B1AD-047CFE4D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AAC51-107E-4E99-BACC-2E6823C8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67C4-0082-416F-953D-BDA3AA3B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8B5C0-4883-4AF8-AF95-876953BA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0B17C-4971-4BF6-BF3D-692D2156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76FA3-402A-43BF-BDDB-1892D177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417F7-CBCB-42E9-B415-2C0E387D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F5276-B2A4-42A6-89F5-D77EEADF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9DCB4-159B-4AD3-9E14-910F357F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1C0E3-9863-4B7E-AE8B-C188E6A44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ADDA0-D759-46C8-AC86-780B9C48F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67B18-65DB-4A4D-BCB1-EAE201B1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57E9A-DAC4-4230-982B-53591620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B6B7-8AA6-4463-BC1E-C2D3919B5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90C6-9BC9-4EF0-A416-71E1C14A1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5B86-D932-438A-9E61-DF516CE15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3797-3803-44C2-813D-831043FBF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86C1-A65B-440A-B747-804061C51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2418-B796-4F97-9359-5397029A9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8252-67AE-4662-AC7F-7A4ED1934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C569-E42C-407F-A68A-1875EBA53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3C4E-7B99-4E8C-AA29-6C5CB9E36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27FC-9659-4E79-890B-646E704E6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14DB-93C3-42E1-B1E5-AB247CC33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0CF4-5597-44D1-A66C-4CC6CCF72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8" descr="perritos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29"/>
          <p:cNvSpPr/>
          <p:nvPr/>
        </p:nvSpPr>
        <p:spPr>
          <a:xfrm>
            <a:off x="4427640" y="0"/>
            <a:ext cx="393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ccff"/>
                </a:solidFill>
                <a:latin typeface="Comic Sans MS"/>
              </a:rPr>
              <a:t>Todos, alguna vez le decimos a nuestros amigos . . .</a:t>
            </a:r>
            <a:r>
              <a:rPr b="0" i="1" lang="en-US" sz="2800" spc="-1" strike="noStrike">
                <a:solidFill>
                  <a:srgbClr val="99003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Text Box 30"/>
          <p:cNvSpPr/>
          <p:nvPr/>
        </p:nvSpPr>
        <p:spPr>
          <a:xfrm>
            <a:off x="2987640" y="6165720"/>
            <a:ext cx="615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cccff"/>
                </a:solidFill>
                <a:latin typeface="Comic Sans MS"/>
              </a:rPr>
              <a:t>SEREMOS AMIGOS SIEMPRE…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7000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4" descr="10 kutya-2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5"/>
          <p:cNvSpPr/>
          <p:nvPr/>
        </p:nvSpPr>
        <p:spPr>
          <a:xfrm>
            <a:off x="3348000" y="5373720"/>
            <a:ext cx="579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6633"/>
                </a:solidFill>
                <a:latin typeface="Comic Sans MS"/>
              </a:rPr>
              <a:t>Y diles  a  los nuevo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6633"/>
                </a:solidFill>
                <a:latin typeface="Comic Sans MS"/>
              </a:rPr>
              <a:t>que  nunca  lo  hará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7000">
    <p:split dir="out" orient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4" descr="16 shepherd-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5"/>
          <p:cNvSpPr/>
          <p:nvPr/>
        </p:nvSpPr>
        <p:spPr>
          <a:xfrm>
            <a:off x="900000" y="2602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Comic Sans MS"/>
              </a:rPr>
              <a:t>Recuerda que todos necesitamos un amig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7000">
    <p:split dir="out" orient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4" descr="perro"/>
          <p:cNvPicPr/>
          <p:nvPr/>
        </p:nvPicPr>
        <p:blipFill>
          <a:blip r:embed="rId1"/>
          <a:stretch/>
        </p:blipFill>
        <p:spPr>
          <a:xfrm>
            <a:off x="-7920" y="-7920"/>
            <a:ext cx="9161280" cy="687528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5"/>
          <p:cNvSpPr/>
          <p:nvPr/>
        </p:nvSpPr>
        <p:spPr>
          <a:xfrm>
            <a:off x="250920" y="285840"/>
            <a:ext cx="2017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bf9f"/>
                </a:solidFill>
                <a:latin typeface="Comic Sans MS"/>
              </a:rPr>
              <a:t>En algún momento de tú vida quizás llegues a sentir que no tienes ningún amigo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Rectangle 6"/>
          <p:cNvSpPr/>
          <p:nvPr/>
        </p:nvSpPr>
        <p:spPr>
          <a:xfrm>
            <a:off x="6643800" y="57168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bf9f"/>
                </a:solidFill>
                <a:latin typeface="Comic Sans MS"/>
              </a:rPr>
              <a:t>Pero sólo recuerda este correo y tranquilíza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6227640" y="4076640"/>
            <a:ext cx="29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bf9f"/>
                </a:solidFill>
                <a:latin typeface="Comic Sans MS"/>
              </a:rPr>
              <a:t>sabiendo que hay alquien que te aprecia y se acuerda de ti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2000">
    <p:split dir="out" orient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4" descr="perro"/>
          <p:cNvPicPr/>
          <p:nvPr/>
        </p:nvPicPr>
        <p:blipFill>
          <a:blip r:embed="rId1"/>
          <a:stretch/>
        </p:blipFill>
        <p:spPr>
          <a:xfrm>
            <a:off x="-7920" y="-7920"/>
            <a:ext cx="9161280" cy="687528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3444120" y="4724280"/>
            <a:ext cx="276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0066"/>
                </a:solidFill>
                <a:latin typeface="Comic Sans MS"/>
              </a:rPr>
              <a:t>Un abraz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80000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AutoShape 5"/>
          <p:cNvSpPr/>
          <p:nvPr/>
        </p:nvSpPr>
        <p:spPr>
          <a:xfrm>
            <a:off x="4419720" y="304920"/>
            <a:ext cx="4724280" cy="1600200"/>
          </a:xfrm>
          <a:prstGeom prst="cloudCallout">
            <a:avLst>
              <a:gd name="adj1" fmla="val -43750"/>
              <a:gd name="adj2" fmla="val 6527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3" name="Picture 7" descr="perritos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8"/>
          <p:cNvSpPr/>
          <p:nvPr/>
        </p:nvSpPr>
        <p:spPr>
          <a:xfrm>
            <a:off x="5076720" y="0"/>
            <a:ext cx="40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Pero, ¿cuánto dura en realidad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8000">
    <p:split dir="out" orient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5" descr="perritos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6"/>
          <p:cNvSpPr/>
          <p:nvPr/>
        </p:nvSpPr>
        <p:spPr>
          <a:xfrm>
            <a:off x="684360" y="5445000"/>
            <a:ext cx="549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89d8"/>
                </a:solidFill>
                <a:latin typeface="Comic Sans MS"/>
              </a:rPr>
              <a:t>Podemos ser los mejores amigos por un año . .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8000">
    <p:split dir="out" orient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"/>
          <p:cNvSpPr/>
          <p:nvPr/>
        </p:nvSpPr>
        <p:spPr>
          <a:xfrm>
            <a:off x="331920" y="13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331920" y="13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Text Box 6"/>
          <p:cNvSpPr/>
          <p:nvPr/>
        </p:nvSpPr>
        <p:spPr>
          <a:xfrm>
            <a:off x="120348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Text Box 7"/>
          <p:cNvSpPr/>
          <p:nvPr/>
        </p:nvSpPr>
        <p:spPr>
          <a:xfrm>
            <a:off x="250920" y="22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1" name="Picture 12" descr="perritos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13"/>
          <p:cNvSpPr/>
          <p:nvPr/>
        </p:nvSpPr>
        <p:spPr>
          <a:xfrm>
            <a:off x="4786200" y="260280"/>
            <a:ext cx="43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Comic Sans MS"/>
              </a:rPr>
              <a:t>Muy buenos amigos el siguente año . . .</a:t>
            </a:r>
            <a:r>
              <a:rPr b="1" i="1" lang="es-E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8000">
    <p:split dir="out" orient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6" descr="perritos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7"/>
          <p:cNvSpPr/>
          <p:nvPr/>
        </p:nvSpPr>
        <p:spPr>
          <a:xfrm>
            <a:off x="179280" y="333360"/>
            <a:ext cx="36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Comic Sans MS"/>
              </a:rPr>
              <a:t>No hablamos tan a menudo el proximo año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8000">
    <p:split dir="out" orient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6" descr="perritos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8"/>
          <p:cNvSpPr/>
          <p:nvPr/>
        </p:nvSpPr>
        <p:spPr>
          <a:xfrm>
            <a:off x="3857760" y="0"/>
            <a:ext cx="52862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Comic Sans MS"/>
              </a:rPr>
              <a:t>. . . Y no necesitamo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Comic Sans MS"/>
              </a:rPr>
              <a:t>hablar del todo, el año después de este…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7000">
    <p:split dir="out" orient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4" descr="19 kutya-0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5"/>
          <p:cNvSpPr/>
          <p:nvPr/>
        </p:nvSpPr>
        <p:spPr>
          <a:xfrm>
            <a:off x="0" y="260280"/>
            <a:ext cx="37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Comic Sans MS"/>
              </a:rPr>
              <a:t>Entonces, lo que quiero decirte es que . .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395280" y="242100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Comic Sans MS"/>
              </a:rPr>
              <a:t>Eres importante para m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0" y="4076640"/>
            <a:ext cx="30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Comic Sans MS"/>
              </a:rPr>
              <a:t>Aunque nos demoremos en volver a habl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Text Box 11"/>
          <p:cNvSpPr/>
          <p:nvPr/>
        </p:nvSpPr>
        <p:spPr>
          <a:xfrm>
            <a:off x="6372360" y="76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Que te admi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Text Box 12"/>
          <p:cNvSpPr/>
          <p:nvPr/>
        </p:nvSpPr>
        <p:spPr>
          <a:xfrm>
            <a:off x="6948360" y="249228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Te respe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Text Box 13"/>
          <p:cNvSpPr/>
          <p:nvPr/>
        </p:nvSpPr>
        <p:spPr>
          <a:xfrm>
            <a:off x="6372360" y="5516640"/>
            <a:ext cx="27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y que realmente te aprecio much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9000">
    <p:split dir="out" orient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8" descr="perritos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24"/>
          <p:cNvSpPr/>
          <p:nvPr/>
        </p:nvSpPr>
        <p:spPr>
          <a:xfrm>
            <a:off x="324000" y="549360"/>
            <a:ext cx="41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bc003f"/>
                </a:solidFill>
                <a:latin typeface="Comic Sans MS"/>
              </a:rPr>
              <a:t>Envia este mensaje a todos tus amig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Text Box 29"/>
          <p:cNvSpPr/>
          <p:nvPr/>
        </p:nvSpPr>
        <p:spPr>
          <a:xfrm>
            <a:off x="0" y="2205000"/>
            <a:ext cx="39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c003f"/>
                </a:solidFill>
                <a:latin typeface="Comic Sans MS"/>
              </a:rPr>
              <a:t>No importa que tan seguido hablen 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Text Box 31"/>
          <p:cNvSpPr/>
          <p:nvPr/>
        </p:nvSpPr>
        <p:spPr>
          <a:xfrm>
            <a:off x="539640" y="508464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bc003f"/>
                </a:solidFill>
                <a:latin typeface="Comic Sans MS"/>
              </a:rPr>
              <a:t>Que tan cerca est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Text Box 32"/>
          <p:cNvSpPr/>
          <p:nvPr/>
        </p:nvSpPr>
        <p:spPr>
          <a:xfrm>
            <a:off x="4643280" y="494172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Comic Sans MS"/>
              </a:rPr>
              <a:t>Y también regrésaselo a quien te lo enví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2000">
    <p:split dir="out" orient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4" descr="8 kutya-0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5"/>
          <p:cNvSpPr/>
          <p:nvPr/>
        </p:nvSpPr>
        <p:spPr>
          <a:xfrm>
            <a:off x="2411280" y="5589720"/>
            <a:ext cx="638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Comic Sans MS"/>
              </a:rPr>
              <a:t>Permítele a los viejos amigos saber que no los has olvida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8000">
    <p:split dir="out" orient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2:28:04Z</dcterms:created>
  <dc:creator/>
  <dc:description/>
  <dc:language>en-US</dc:language>
  <cp:lastModifiedBy>Tulio Triviño</cp:lastModifiedBy>
  <dcterms:modified xsi:type="dcterms:W3CDTF">2009-05-28T22:52:50Z</dcterms:modified>
  <cp:revision>23</cp:revision>
  <dc:subject/>
  <dc:title>ES PARA TI</dc:title>
</cp:coreProperties>
</file>