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8.jpeg" ContentType="image/jpeg"/>
  <Override PartName="/ppt/media/image51.jpeg" ContentType="image/jpeg"/>
  <Override PartName="/ppt/media/La%20vie%20continue%20Rieu.wav" ContentType="audio/x-wav"/>
  <Override PartName="/ppt/media/image5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2EE4-5298-4AB3-BFE4-81F46F914A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3A69-7138-47E7-B914-790F7FAF331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00E9-E00E-4437-8178-04FE10E718A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53BE-D695-440C-B4CC-C0501941DB3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FE38-0C03-4CC4-B788-ECBC670EC4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4BCC-5273-49D7-8FD6-290556DE18A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9A85-A882-441F-ADBD-FC3E84C30C6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824B-42F8-471D-8E1C-4272AABC11A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1C0E-F52D-4B85-B647-4472937FE7E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36D0-B935-4FEF-8BA8-C851654DA6F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0A1F-ADB6-46A1-98B7-92EBF5BA683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0AC8-7030-40E8-9210-A59C1890FA3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5C20-DBFE-4C2C-A8F4-9DFB8DCBF64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6D99-2064-4BFE-A5A2-C7F57877E8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7DA2-0D67-461C-B617-53C7D8EAA37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A9BC-6CAA-477A-B8F8-62572DEBFA5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B4F3-C395-4B2B-BAF2-261FB63D82B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49AD-6AD1-488E-9658-8C65DE3B643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AA17-09D3-4C06-829A-9B7D499493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14C7-0B2C-49D0-8750-CFF3666166F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071D-14AB-4EB0-8EFE-94CB3E94FBA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2A58-549F-4C0B-AD81-42E50A2B98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4907-45FA-4340-B4F3-3D91A62501E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4867-67F0-468B-AD1D-3F128456CF7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2EEC-8877-46CD-9AB8-44EF2C5502C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9E82-B15E-48FC-ACCE-B337CED066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9486-BE35-487C-9E1C-285708359CC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FE6B-1F6F-4E41-87BD-9718554924B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AD52-9721-4206-9FF9-4F6891EDE4F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5398-3162-4C35-843D-F1B2C9E110B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AC9B-481E-41DC-BB39-B54BC9A1A2D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7E7F-3D98-48CA-A39D-990232EB31E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AAE0-45BA-4F40-B85A-1B51E0C543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803D-04F7-45CE-A398-6A9389A813B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229F-EBCB-43F2-97D0-E5129A672EF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70A7-767D-463E-96F7-65A90B4A0F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B8E3-8957-4F78-B432-ED8EA75515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52E2-F56E-4DB5-BCAF-7883AC65DE2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5EDA-7B62-40E8-89D7-DBBF56A8460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EE1C-5AC4-4805-9914-12C3B6D10B5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883E-39AE-4869-A31A-5ACD6D3134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FEF1-DBC6-43A4-83E8-8212E680BEA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D1B5-7F20-48D0-8A78-71D327F2F8B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F23D-E5E2-42BF-8B12-049B92F35C0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F74F-9142-4FD6-8FCE-D6B9933194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CB59-C938-438D-A9BA-01D891969E4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90D3-1753-4E6E-B22F-149F31ED80C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BB25-644C-47F3-88AB-92D7EA9840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BF8C-054B-4157-B297-B8BEBBBAD4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655B-BE10-4BAA-A9AB-648D776F9A4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190-842F-44F7-87DF-D7131BFE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26E-FBA1-4507-B9C0-DC23F43E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4502C-64B3-449F-8D99-E10EC8A6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DC741-586D-43B0-A8F1-2D5C2B37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536A8-2709-4643-B4DC-C956037C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01B54-ECCE-4A09-8C9E-715DF113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1D285-AE5A-4E60-A6FE-189A5C3C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E3DF5-30C0-45E3-B3EE-D664E380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ABB9C-B536-4FFA-9D60-6CCBA84D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15097-2DB5-4356-A24C-3D274DD5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09793-F472-4902-A6FF-25732DA8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A0AB9-E0A6-4D54-A3E3-C1BD101D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7A6-119F-4700-B7DC-ABBC422C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400AD-2A10-47FC-BAA0-9EA26CA9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79546-ADAD-4CC3-8AF7-1C7ACE99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1379C-08B9-4BF5-B606-C5D9DE41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3B7EA-4E78-4EEB-93DC-12084D6C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CFE18-6440-4B2A-8CAD-3D75D9DF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753F7-0232-4787-9D7B-4D45FFC0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7C7A7-359A-4016-9132-861440DC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1F5D4-5336-40CF-AAC2-AB8D2C31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0E99B-7F7A-4C28-8B5F-8E36354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45136-2353-4430-B213-7D816263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DC4-EA98-4165-B773-A7E8988E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DED13-5FCF-4556-8297-B8E114EF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FB70F-3B0C-4C00-9ADC-660EFC79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00EAC-F7CE-4A85-AEAF-2C595034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4062A-341B-4F7F-9209-5658B998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102DE-AE25-41CF-AEF1-E8BE8FC7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0028E-1778-4D9F-B058-8ED0F1D7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47DEE-55A8-45EC-B88C-F8FAAE2E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BEF46-197E-4781-99D7-A810438C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BFB86-7A9A-4A98-98EE-7892C242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79A22-2B13-4D43-87F1-7BB59B0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EE75-70CA-4CD7-8E42-13CD8688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978B5-CEFB-4560-95B6-9454F17D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5A8EE-8B2C-4B45-B690-B788FD19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B9A77-C540-4F70-8609-E7AAA55D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13F6A-FCB8-4652-86F2-E98E18FB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E0D8D-C7B4-45EE-9373-58E78D5B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D5E82-DD22-4482-A9D5-C318F613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F6AF2-86F7-4F0F-A289-33426AC0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7E339-1BD5-42C1-A47A-E628B168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BB426-0367-4FF3-94F6-6CDB2C66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C5059-FA7D-4675-B72C-F25102DF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CF5E-A2B4-48BB-9020-C231B155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CB293-6B13-4AFF-B7F3-A8F1C636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77E6E-55CA-4733-9CDB-10870E5D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AE0D2-B688-4050-8C97-38B1CDBF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34797-02BA-4F0A-AD81-426F7F7D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29484-1451-4F48-9BEE-0685CEB4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B1AB-1BED-4BD5-903F-A1EEBED4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C79E-993B-41F0-B7B7-5FDFE2E5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308B-6D50-4EF5-A964-986A9AE8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2E11-C12A-4EB7-AB34-8EE73320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766D-F134-4B37-A6E9-7A542BD4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14C-9A18-4814-BE48-2D56CCEF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7D86-15A1-4E65-AA39-B18FA57C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4DBD-AC41-4B8F-873C-6AFBA76F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8EAC-A83B-4705-906C-762C14A5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17AC-1492-46F8-ACD1-B5B55AA7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7939-849C-4A00-AFAF-BFCDEA29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ED4F-2200-4C5C-99C6-4AC4C21D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5337-D151-4A9F-BB2C-30AAAE10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55BF-5FBE-43C7-8BEC-8FA8F740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58F4-B433-4BDC-9026-4B11C127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5F6E-2306-47C0-A652-CE4C6960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7B4-29CF-49C2-B020-B3A76B80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0214-51F6-44FB-B1BC-5E6F8476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FDCB-CF39-4468-9E7F-C27B1F21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AE49-AF99-4CF8-8984-6DE8F1D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B541E-4F0B-4F6A-B640-711A2C81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49B7-5ED7-445C-A178-D7FC4996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7F8F-AB2F-4351-9DB4-E0D521B8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1781-83B6-4E39-A558-CAC26B91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E6113-A731-4149-807F-5C042FF4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1CC49-D691-4BE3-9245-C403FD92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F768-8016-4CB3-B0E2-D650EAA9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4C5-676D-40AC-9877-19AEA88C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E9A4E-348C-4E62-AC73-D75FD9C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4875E-36AC-44E0-B89B-4A236575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53426-4816-4AA4-A3BF-1C6A99A4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662FA-31E7-4A6B-8DF0-1095D2F1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A191D-F4F5-41E3-9120-4BBAEA78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E793C-8A9C-4B5D-A694-D5503A22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FDC6B-459F-4B70-89FF-6D60353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CC02-114B-4961-8D7A-E27D75E2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17289-8E1A-40ED-9BFC-74BEA7C3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A3CB4-A294-4251-AF7E-8318876B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477-0BD6-439C-8AF6-54947EC1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9D4E2-19AB-432B-81F9-2A18502B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ACFB7-294D-4486-AA09-49D65840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49E10-8982-43B2-A334-D6032D25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E00B3-9E8B-415A-BB98-88ABA2C0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19911-5FB3-4C74-AC50-99FFF9B7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B2252-AA73-4985-B812-43621EA0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59FD-BCB0-4984-A904-1B45B5EB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6907E-D3FF-400A-937D-F64CEECB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A5487-2F68-493D-AB17-74523A4E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03053-86F3-412A-9214-649615D1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0A0-7433-43CF-8D3C-3FE36068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9EB3D-7310-4A2E-AE2B-0A342CB1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F15CD-244D-4DB4-8FB3-9264DD1E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E64AB-A27E-4899-904C-69DAE587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B8F66-5B99-43FE-8173-E10911AF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2D12D-6F49-498A-BA6E-0130E96C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358D0-566D-4938-9D4F-E8D7641D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F5322-A2E2-4E0B-AE98-4AABA747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F904E-83AB-4B89-B8E8-63DFB586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C4D2C-AAAB-4AEE-8475-5EF7CA80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2A835-B6B3-44E0-BAE3-5D6D6FAF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D13-9FD2-4596-A6CF-7699F58D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26EFB-34FF-44D2-B645-5FDEB79E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0E99D-F1B4-4E85-B1BC-FCD762A7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2A2AA-29C0-4C08-846E-C80F1EC3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B6C7A-2FD3-4BF9-A374-C3F02189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DD036-E623-498F-8F61-BD846CD1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D4B67-8B41-484B-92AB-9776E47A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715CE-FA61-4E6B-BAD4-08E273EF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86BEE-2448-46E9-ADD2-A6214E4E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C9C89-E2DF-41C2-95F0-2B88B174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84576-F81D-4C8B-A3D2-CAC3D176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4AE-9F64-4413-AE52-841A7FD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7819B-B79B-45E3-A3AE-3A217AB5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30498-8A18-4E49-B772-283196C5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1755B-5FCC-4EC0-B25C-16EDDA18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ECC90-7C6C-4CEA-AAFF-2B56A65D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3F139-79E0-4986-98B1-98BB0ECF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89513-DE2F-4CA6-B765-BAC5F747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F2B38-702D-4149-B14B-412AF0F4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F04A0-41B3-477E-B90B-2EC667DE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04ACE-16A2-4E63-B4B9-BD0C25CF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91B5E-CA75-40A8-8183-A707C3CB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F63-6D89-4F09-B1F7-FA53DBF3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14040" y="3049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83EB6-7AD3-4C7E-94D5-A37D7881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570EA-1BE7-49FE-A2A8-26DC8B2D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5E5CE-359C-4B99-BA81-061C0B7E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FF06E-399F-45CF-A774-8C9E336B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14040" y="40777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6FE42-342D-470E-8BE9-910AEEEA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18960" y="13712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04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818960" y="40777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3D85D-5EFE-4AA6-9072-3B067076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49056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67080" y="13712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1404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49056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67080" y="40777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36F73-F332-4581-B7EB-061D78DC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E24DB-C88E-4757-A390-4647B586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706B8-C3A9-488D-A92D-964AA813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F27B2-4557-42AC-A5DC-1301757A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laboutiquedelpowerpoint.net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5B0A-EB99-4270-AF51-2835B4884C7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6 Imagen" descr="firm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6165720"/>
            <a:ext cx="117324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C40B-EF3D-4BAD-9DD0-DB42DC76CD4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512F-219D-48F9-997E-B5BF628501D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47FC-CE44-4E61-BC50-DDEBD00EA4B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1C37-BA9B-4AF2-8085-D7E9B27FB52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BAC4-824D-4235-91E5-6D89CD5B949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4D9A-001A-45B0-B03E-CE5F910A402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210F-33E0-447C-A3B2-DD547AF6903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3281-E2D7-4DF0-8F6A-A65B21A098E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6F71-F508-442E-B3C6-23788EDE9F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909F-8829-441D-A599-90090057595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34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f634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04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97b6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AD48-685D-4881-B9CC-4F381CC36EF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La%20vie%20continue%20Rieu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WordArt 3"/>
          <p:cNvSpPr txBox="1"/>
          <p:nvPr/>
        </p:nvSpPr>
        <p:spPr>
          <a:xfrm>
            <a:off x="1619280" y="4365720"/>
            <a:ext cx="611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illSans"/>
              </a:rPr>
              <a:t> </a:t>
            </a:r>
            <a:endParaRPr b="1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illSans"/>
              <a:ea typeface="GillSans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581280" y="304920"/>
            <a:ext cx="339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Image 10" descr="image0.jpg"/>
          <p:cNvPicPr/>
          <p:nvPr/>
        </p:nvPicPr>
        <p:blipFill>
          <a:blip r:embed="rId1"/>
          <a:stretch/>
        </p:blipFill>
        <p:spPr>
          <a:xfrm>
            <a:off x="0" y="18288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503" name="11 Rectángulo" descr=""/>
          <p:cNvPicPr/>
          <p:nvPr/>
        </p:nvPicPr>
        <p:blipFill>
          <a:blip r:embed="rId2"/>
          <a:stretch/>
        </p:blipFill>
        <p:spPr>
          <a:xfrm>
            <a:off x="2408400" y="360360"/>
            <a:ext cx="6333840" cy="1200240"/>
          </a:xfrm>
          <a:prstGeom prst="rect">
            <a:avLst/>
          </a:prstGeom>
          <a:ln w="0">
            <a:noFill/>
          </a:ln>
        </p:spPr>
      </p:pic>
      <p:pic>
        <p:nvPicPr>
          <p:cNvPr id="504" name="12 Rectángulo" descr=""/>
          <p:cNvPicPr/>
          <p:nvPr/>
        </p:nvPicPr>
        <p:blipFill>
          <a:blip r:embed="rId3"/>
          <a:stretch/>
        </p:blipFill>
        <p:spPr>
          <a:xfrm>
            <a:off x="3340080" y="1620720"/>
            <a:ext cx="5559480" cy="3799080"/>
          </a:xfrm>
          <a:prstGeom prst="rect">
            <a:avLst/>
          </a:prstGeom>
          <a:ln w="0">
            <a:noFill/>
          </a:ln>
        </p:spPr>
      </p:pic>
      <p:pic>
        <p:nvPicPr>
          <p:cNvPr id="505" name="13 Rectángulo" descr=""/>
          <p:cNvPicPr/>
          <p:nvPr/>
        </p:nvPicPr>
        <p:blipFill>
          <a:blip r:embed="rId4"/>
          <a:stretch/>
        </p:blipFill>
        <p:spPr>
          <a:xfrm>
            <a:off x="3413160" y="4773600"/>
            <a:ext cx="5737320" cy="1487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in"/>
    <p:sndAc>
      <p:stSnd>
        <p:snd r:embed="rId5" name="La%20vie%20continue%20Rie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Image 1" descr="imag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Image 1" descr="imag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Image 1" descr="imag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Image 1" descr="imag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Image 1" descr="imag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Image 1" descr="imag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Image 1" descr="image1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5" descr="piedbluepair"/>
          <p:cNvPicPr/>
          <p:nvPr/>
        </p:nvPicPr>
        <p:blipFill>
          <a:blip r:embed="rId1"/>
          <a:stretch/>
        </p:blipFill>
        <p:spPr>
          <a:xfrm>
            <a:off x="228600" y="304920"/>
            <a:ext cx="8675640" cy="6248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Image 1" descr="image10.jp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Image 1" descr="image11.jpg"/>
          <p:cNvPicPr/>
          <p:nvPr/>
        </p:nvPicPr>
        <p:blipFill>
          <a:blip r:embed="rId1"/>
          <a:stretch/>
        </p:blipFill>
        <p:spPr>
          <a:xfrm>
            <a:off x="0" y="113832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6"/>
          <p:cNvSpPr/>
          <p:nvPr/>
        </p:nvSpPr>
        <p:spPr>
          <a:xfrm>
            <a:off x="1187280" y="5661000"/>
            <a:ext cx="720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Image 6" descr="1.jpeg"/>
          <p:cNvPicPr/>
          <p:nvPr/>
        </p:nvPicPr>
        <p:blipFill>
          <a:blip r:embed="rId1"/>
          <a:stretch/>
        </p:blipFill>
        <p:spPr>
          <a:xfrm>
            <a:off x="1042920" y="1052640"/>
            <a:ext cx="7337520" cy="4960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1" descr="imag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Image 1" descr="imag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Image 1" descr="image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Image 1" descr="image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Image 2" descr="imag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Image 1" descr="imag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Image 1" descr="imag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Image 2" descr="image23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8" descr="whiteeyemale"/>
          <p:cNvPicPr/>
          <p:nvPr/>
        </p:nvPicPr>
        <p:blipFill>
          <a:blip r:embed="rId1"/>
          <a:stretch/>
        </p:blipFill>
        <p:spPr>
          <a:xfrm>
            <a:off x="1306440" y="228600"/>
            <a:ext cx="6721560" cy="6369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Image 2" descr="image24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Image 5" descr="2.jpeg"/>
          <p:cNvPicPr/>
          <p:nvPr/>
        </p:nvPicPr>
        <p:blipFill>
          <a:blip r:embed="rId1"/>
          <a:stretch/>
        </p:blipFill>
        <p:spPr>
          <a:xfrm>
            <a:off x="2411280" y="333360"/>
            <a:ext cx="4505400" cy="6173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Image 2" descr="image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Image 1" descr="image2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Image 1" descr="imag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Image 1" descr="image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Image 1" descr="image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Image 1" descr="image40.jpg"/>
          <p:cNvPicPr/>
          <p:nvPr/>
        </p:nvPicPr>
        <p:blipFill>
          <a:blip r:embed="rId1"/>
          <a:stretch/>
        </p:blipFill>
        <p:spPr>
          <a:xfrm>
            <a:off x="947880" y="692280"/>
            <a:ext cx="7369200" cy="5527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Image 1" descr="image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Image 1" descr="image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imperator"/>
          <p:cNvPicPr/>
          <p:nvPr/>
        </p:nvPicPr>
        <p:blipFill>
          <a:blip r:embed="rId1"/>
          <a:stretch/>
        </p:blipFill>
        <p:spPr>
          <a:xfrm>
            <a:off x="971640" y="476280"/>
            <a:ext cx="733896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7" descr="paon"/>
          <p:cNvPicPr/>
          <p:nvPr/>
        </p:nvPicPr>
        <p:blipFill>
          <a:blip r:embed="rId1"/>
          <a:stretch/>
        </p:blipFill>
        <p:spPr>
          <a:xfrm>
            <a:off x="1479600" y="33336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Image 5" descr="3.jpeg"/>
          <p:cNvPicPr/>
          <p:nvPr/>
        </p:nvPicPr>
        <p:blipFill>
          <a:blip r:embed="rId1"/>
          <a:stretch/>
        </p:blipFill>
        <p:spPr>
          <a:xfrm>
            <a:off x="1042920" y="907920"/>
            <a:ext cx="7323120" cy="5011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Image 1" descr="image45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paon bleu male"/>
          <p:cNvPicPr/>
          <p:nvPr/>
        </p:nvPicPr>
        <p:blipFill>
          <a:blip r:embed="rId1"/>
          <a:stretch/>
        </p:blipFill>
        <p:spPr>
          <a:xfrm>
            <a:off x="0" y="189000"/>
            <a:ext cx="4851360" cy="6507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silverpiedmale"/>
          <p:cNvPicPr/>
          <p:nvPr/>
        </p:nvPicPr>
        <p:blipFill>
          <a:blip r:embed="rId2"/>
          <a:stretch/>
        </p:blipFill>
        <p:spPr>
          <a:xfrm>
            <a:off x="5111640" y="152280"/>
            <a:ext cx="4032360" cy="6516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" descr="paon"/>
          <p:cNvPicPr/>
          <p:nvPr/>
        </p:nvPicPr>
        <p:blipFill>
          <a:blip r:embed="rId1"/>
          <a:stretch/>
        </p:blipFill>
        <p:spPr>
          <a:xfrm>
            <a:off x="228600" y="304920"/>
            <a:ext cx="4114800" cy="6324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ictrain"/>
          <p:cNvPicPr/>
          <p:nvPr/>
        </p:nvPicPr>
        <p:blipFill>
          <a:blip r:embed="rId2"/>
          <a:stretch/>
        </p:blipFill>
        <p:spPr>
          <a:xfrm>
            <a:off x="4495680" y="304920"/>
            <a:ext cx="4343400" cy="6316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6" descr="whitetrain"/>
          <p:cNvPicPr/>
          <p:nvPr/>
        </p:nvPicPr>
        <p:blipFill>
          <a:blip r:embed="rId1"/>
          <a:stretch/>
        </p:blipFill>
        <p:spPr>
          <a:xfrm>
            <a:off x="609480" y="304920"/>
            <a:ext cx="3657600" cy="6335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_bgreentrain"/>
          <p:cNvPicPr/>
          <p:nvPr/>
        </p:nvPicPr>
        <p:blipFill>
          <a:blip r:embed="rId2"/>
          <a:stretch/>
        </p:blipFill>
        <p:spPr>
          <a:xfrm>
            <a:off x="5219640" y="333360"/>
            <a:ext cx="3581640" cy="6340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Image 1" descr="image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Image 1" descr="image48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Image 1" descr="image49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Image 1" descr="image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galerie-membre,oiseau-paon,paon-sur-la-gloriet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Image 1" descr="imag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Image 5" descr="4.jpeg"/>
          <p:cNvPicPr/>
          <p:nvPr/>
        </p:nvPicPr>
        <p:blipFill>
          <a:blip r:embed="rId1"/>
          <a:stretch/>
        </p:blipFill>
        <p:spPr>
          <a:xfrm>
            <a:off x="971640" y="1197000"/>
            <a:ext cx="7394400" cy="4492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Image 5" descr="5.jpeg"/>
          <p:cNvPicPr/>
          <p:nvPr/>
        </p:nvPicPr>
        <p:blipFill>
          <a:blip r:embed="rId1"/>
          <a:stretch/>
        </p:blipFill>
        <p:spPr>
          <a:xfrm>
            <a:off x="1158840" y="981000"/>
            <a:ext cx="701820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Image 1" descr="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age 1" descr="imag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Image 1" descr="imag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9:04:23Z</dcterms:created>
  <dc:creator/>
  <dc:description/>
  <cp:keywords/>
  <dc:language>en-US</dc:language>
  <cp:lastModifiedBy/>
  <dcterms:modified xsi:type="dcterms:W3CDTF">2013-08-27T19:05:40Z</dcterms:modified>
  <cp:revision>1</cp:revision>
  <dc:subject/>
  <dc:title/>
</cp:coreProperties>
</file>