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media/La%20vie%20continue%20Rieu.wav" ContentType="audio/x-wav"/>
  <Override PartName="/ppt/media/image5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C1C1-8BCC-4230-B24B-5B16FF9FAA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0C6C-FCF5-44A0-A732-DF65AA5FE78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0051-28D2-442A-ADFE-8361716535C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B4BE-BBF9-4BBC-A181-7DFE1463814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EA09-2A88-4096-A6B1-0280418E492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9EDC-EB7D-402E-BCC4-D0BE0B0B2E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D801-7D96-4E02-9193-19EA5EE212B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539F-CDC0-4032-8342-099BA5860B8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38F8-CC5D-483B-9D2E-66B8679BDA5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5722-0D52-4B56-833B-2A40D7EE96C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9F3E-7C9F-40A4-9CAF-071AD6A9134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D068-FE75-4E56-825F-E47C74E768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97AE-394C-4AF3-A438-71A48B859F5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B412-A655-4EC5-A39C-BFA764BB6E4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6241-4280-486B-8D81-A19CD9A2D95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9E6F-2A42-4AB6-B5FC-AF6735046C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D835-B76C-4F3B-96D2-94D272A6BD0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57D0-E7AD-4406-BBA1-2D5E48786A6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6FB5-087F-4DB4-90AE-A9C75EDA9E5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9188-8BBC-470F-A765-4CA3B7882A2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3DE4-D073-4885-8A93-3D8A235DBE8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C18B-5B75-45BD-9FEC-90DBCCF20CA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1A8D-F851-4316-B3B7-BB42100B005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FD72-0DE9-4FED-9DAA-DFE97D47BFA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08A4-C7BA-44AC-B91B-B464210169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1875-3FE2-4530-B5DD-DA479DF7F24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B412-C077-4F50-B5C8-6498513EE7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7E49-6A65-4924-B994-EDCA0FB8DF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1B13-3046-4E8F-A675-0A3070B1BD6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B906-6314-4EB3-9147-6C288BC5906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550A-391A-4889-AA06-D198BDE3A1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EBA3-83D6-48C6-BF91-67418A1C399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2710-C1B1-4C40-950B-16492A11CFA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DC17-B6B9-4FEC-82DA-C1379B2FE11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7492-98FD-44C0-8464-2568A59600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C1C1-25C1-4AA6-8327-8164DCFEC9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2836-F5D9-4AA1-86F4-65982867182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00BC-51A0-4AF2-8A91-E1037127852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7524-476C-4675-B92E-3C04C9A7B2E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729B-F9FA-48D3-A99B-823FAD02EB0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A89D-8FE7-4A49-B414-2220244C810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03F1-F25A-4641-8BB5-D205F146D4B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E7CD-E355-44A5-9E8D-BA45C0B04F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F79C-BB80-4FEF-A4C0-A5DC8235CD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FA84-0A47-493F-9D9C-78A726367E8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4253-9B68-4877-A6BB-8C30F058DC8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EE46-EAAB-4E8A-AA25-4E30885404F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D360-6121-4838-A410-3FE5F88DAD4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C367-F256-488D-BDCC-A728CC9B7DB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4B7D-866A-4891-927B-45E59334B2C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F82-EEA4-4A3B-9046-D4D9C09A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C4B-9DC7-42D5-B619-A7AB233F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6E945-3B79-487A-833B-2719B22A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4AFBE-53AD-443A-81A1-80BADF7E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CC8DA-EF0D-4926-8745-288E6F3C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05B3C-33CF-4D7D-8741-CAEFA3AD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D0810-06D5-4CE1-BC09-C7894B2F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560F0-9E11-4C14-B9EB-DE280372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0A62A-8F61-4EF4-A499-6D185680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E6F64-30B3-461B-BE40-75579D8E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BE1CC-B8AE-4705-B72C-5EB8DB66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A5CE6-4D4B-449F-AC1C-283DE3DE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292-1786-4DAE-8366-9141464E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1FB42-9301-47DF-B5CA-E15C7DC7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6E3A9-0800-46C2-981B-56662ED6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74708-911E-4839-B13B-AD4D0B51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3CCD8-87D9-4B00-AB51-C17CA564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F761B-60FE-46C4-8F9F-BE93D0A5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7DEC9-CA16-4905-A1CF-C80FC1BC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98FEB-C15B-4343-B777-126E1CDC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7FAAB-269A-45EC-B0C9-F569AA50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285F7-F183-41E3-A41E-9CBE5F2D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5F409-1267-41C6-9610-F2489DD8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66B-C905-4782-B993-BD9A045E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AAA15-3448-4ECE-890F-51E4B0D0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08744-E59D-4AAA-8679-51ADEE94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82CA5-4D44-41CA-8C4A-D420FF8A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A7088-6E75-4D80-B9F1-3427B449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2DD7C-2FCF-49A0-9AD7-B138D702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1818D-F5FB-4AE9-B990-4851D937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49E09-58EF-4FB6-9DA5-7BC3B4AD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A8A70-5135-4673-A6FB-CA813347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B5365-6F4B-474A-A07C-6D5C42C2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2E335-BC83-4521-BA5C-1F6C8C40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A649-9B9C-4514-A602-625970DF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18C84-2E8A-4C7D-86F7-23DC9E00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3D85C-B8C9-4463-A8E7-04317A2E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37809-2EAF-426B-9010-02CAF5E7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207E1-0F64-4520-9A1B-5AD50BF8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54B30-664D-408D-A55B-C93DA4D5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4FE0F-49FA-4B65-8696-D4A7448B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79091-E5BF-413F-AE6E-512DB692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B85E7-54CE-4104-9652-7121DE70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45239-7775-4343-82EF-4C53A8A1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18F0E-3AFA-40C3-BAAA-611D69D2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D552-803D-4066-A42A-82D5F685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EE759-0E59-47D0-AACD-3F30998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5800F-6D5B-4674-9ACD-35696EE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E527F-1479-4429-A8FB-1EBFE5A7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49521-FE29-4EA6-BD28-52C8F4CF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624D0-1D72-43F3-AD60-3CEF950D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66D2-6991-4831-9D1A-2DF3E9E0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D33C-5FFC-4A80-8CFE-E1EB992A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B402-58A8-4012-9518-E7A7E99E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60EE-E28B-4564-94FD-2B33E389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3BE4-F306-424C-AFFE-7A99E8BF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1A5-712D-4A57-8C70-340E8067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571F-F86B-434F-80CE-258C3475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4459-4437-415A-8CEC-FBF019E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ACF5-4E28-497A-8A8E-AA3B3754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0139-003D-42DC-B79B-7E959531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E598-FC61-45EB-A29A-03BA5DB6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2785-AE77-4D0C-BD0B-FC4F0C60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972F-CEEF-449E-BDFC-3F599D21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A57A-EED9-4765-A027-A82C3AD7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A391-4C2F-4B75-9E1B-48EC4B3C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E483-740B-490E-80AE-8A0B1C87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FE5-E6A7-427D-ABA7-F966AE8D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AB0AE-624D-489A-8008-959F93C5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A4545-D3E3-40B5-B91C-AF57B958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1E4B-6373-4467-BB4C-A5D954DA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90A7-ED03-44DD-8D7E-25C87DD3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F8BD-CA95-4987-BE4F-3C7B7990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3856-990B-4321-94E7-C2EB191A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C7AD-971F-44C7-845D-A4CE5C6D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4D31-7034-47E1-AF56-7B5978BE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0B0F9-AC59-49C0-9817-F8CBEE92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5C0A1-4B91-4CF9-BC5E-655BF9D2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3FA-8234-4C72-81A9-FED4F7BD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9527F-EB9E-4D2C-94A3-A8698AE7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8E139-67BA-4AB6-ADD8-C2B740FC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8EFF-3BF7-4571-893D-5F65A1FC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0A226-A44C-4648-AACC-E4D262CB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994B6-FDF1-4F0D-A44F-31EB682A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FFFB-8B75-4A82-95B7-49ABBDD7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F6C96-4E2D-47B0-956C-2FE83AAD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F1A2-7BAB-4320-9B39-B8CF2BE6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E2996-DCD4-4D1F-A0B3-45EFA2B3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DF959-4375-4CE4-AB3E-2505EE78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AC3-BEA6-4196-AF3E-9EEE8602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51900-AE6D-43FC-8DEC-03F5DC4A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ED92-B005-48D3-9188-441E0B8F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291B9-840E-43A0-95CC-08091E19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B68DA-2A75-452E-9308-0A716B9C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3BD0-3AE2-4C84-BAFE-BB6741E6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5618-6A32-4E4F-8C38-E6D3638C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8D0D1-D697-484B-8A80-CD39FA2A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7D081-60CB-48DC-8008-7D88AF1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B4987-8C08-4C99-AA2D-A4F3627E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975D7-C3A7-4516-BF32-7A2A8307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16C-C17C-46E3-9564-AED71927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591FD-F034-4DC2-8BA2-03D66996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70758-EAEC-46F6-8EA7-38CD60C8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4F33B-882F-4B40-8F30-7F19AC0F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E5E1D-AB21-451E-A3E7-8B43CF76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45031-9FC3-43E6-9ED5-1CD385C7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6EDAB-C75E-4364-9A1C-7286D3FD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2EB88-C641-404C-9E68-7105925A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4DCD2-CE2D-43EE-B782-0678BCDE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AB0EF-5A61-42A8-9638-51B1084F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1F56-CB11-490B-A886-1CF7515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9AF-1193-404E-A0D7-6182ADD5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FC126-0C76-47BE-AC1E-04C46EB7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C3D19-7B29-49C9-BD8A-A4EA3D66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DB171-C8BA-4B7C-8A1A-474827D9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A02F5-1C50-4DF9-9752-B0830292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017C1-AEF2-420F-9843-4785C073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80884-C421-4613-BDFA-FFA70E5B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4700B-940B-46C4-A862-0BCDE251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14157-44D3-41BA-A382-3D795AF5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C8118-E6FD-4DD0-B4E5-6E5FC26A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EB575-604A-4106-B1EA-01BF3DD9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247-4C74-4570-8585-D5B770FC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258B8-B137-4150-B44E-3A984A5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049EE-5631-4CA0-B8F3-607B319C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6A1A8-FB76-407C-926D-D335205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1010C-74CD-4876-B156-26CE4EAD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7C30-78C7-4D54-96CA-8005495E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C6BE1-9B5C-4779-98DE-3215E4D6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90F46-3142-4417-9321-3EF4028B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9064C-2163-4EC1-A153-896B6601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DAF51-3652-4FD7-B1A1-655C9195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36913-718A-43E4-9FEB-8FACBACD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C7C-8849-4EA4-85B8-4378F162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10098-225E-4958-9833-7AE7A68D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C2481-7D0B-4097-BE99-CDA96ED9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D06FE-7F60-49FF-A909-2799F12E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1EA3A-6EC7-4FF0-A6CB-CA7BA1CB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17BE3-DA05-401F-9897-3333690C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AE277-B442-40EE-9517-ACAFA1EA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31A36-1C6A-4AEF-AE69-A289853D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33692-E745-4878-B029-825F534B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4CFC3-5B5F-4230-870E-06F63DF0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BD22C-0361-4472-9B4B-1C16475E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E6B9-6946-4F3B-AA6B-598F1EF21D8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6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6165720"/>
            <a:ext cx="117324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3085-94D2-4858-8FCC-D9597F17E6B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E61-9933-4C7B-8D87-023C06FEE94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CAED-72EE-45A2-B6AA-D57C3FE2F2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00AA-289A-4582-AB26-A1A892CEBF0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0243-EAF0-4CA3-B099-A46BD2A6CD6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14BC-0386-4C56-BDFD-C43A8B9E247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EB08-C839-483D-B946-EB350AD3DEB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1A9D-EF84-44AA-A936-28E4775CCE0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3075-82A9-429A-B769-DEF2CF4A78E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5B05-B315-4141-96AB-1CB155548C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E561-52AE-4634-A6B2-08B4AA461F3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La%20vie%20continue%20Rieu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WordArt 3"/>
          <p:cNvSpPr txBox="1"/>
          <p:nvPr/>
        </p:nvSpPr>
        <p:spPr>
          <a:xfrm>
            <a:off x="1619280" y="4365720"/>
            <a:ext cx="611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illSans"/>
              </a:rPr>
              <a:t> </a:t>
            </a:r>
            <a:endParaRPr b="1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illSans"/>
              <a:ea typeface="GillSans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581280" y="304920"/>
            <a:ext cx="339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Image 10" descr="image0.jpg"/>
          <p:cNvPicPr/>
          <p:nvPr/>
        </p:nvPicPr>
        <p:blipFill>
          <a:blip r:embed="rId1"/>
          <a:stretch/>
        </p:blipFill>
        <p:spPr>
          <a:xfrm>
            <a:off x="0" y="18288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503" name="11 Rectángulo" descr=""/>
          <p:cNvPicPr/>
          <p:nvPr/>
        </p:nvPicPr>
        <p:blipFill>
          <a:blip r:embed="rId2"/>
          <a:stretch/>
        </p:blipFill>
        <p:spPr>
          <a:xfrm>
            <a:off x="2408400" y="360360"/>
            <a:ext cx="6333840" cy="1200240"/>
          </a:xfrm>
          <a:prstGeom prst="rect">
            <a:avLst/>
          </a:prstGeom>
          <a:ln w="0">
            <a:noFill/>
          </a:ln>
        </p:spPr>
      </p:pic>
      <p:pic>
        <p:nvPicPr>
          <p:cNvPr id="504" name="12 Rectángulo" descr=""/>
          <p:cNvPicPr/>
          <p:nvPr/>
        </p:nvPicPr>
        <p:blipFill>
          <a:blip r:embed="rId3"/>
          <a:stretch/>
        </p:blipFill>
        <p:spPr>
          <a:xfrm>
            <a:off x="3340080" y="1620720"/>
            <a:ext cx="5559480" cy="3799080"/>
          </a:xfrm>
          <a:prstGeom prst="rect">
            <a:avLst/>
          </a:prstGeom>
          <a:ln w="0">
            <a:noFill/>
          </a:ln>
        </p:spPr>
      </p:pic>
      <p:pic>
        <p:nvPicPr>
          <p:cNvPr id="505" name="13 Rectángulo" descr=""/>
          <p:cNvPicPr/>
          <p:nvPr/>
        </p:nvPicPr>
        <p:blipFill>
          <a:blip r:embed="rId4"/>
          <a:stretch/>
        </p:blipFill>
        <p:spPr>
          <a:xfrm>
            <a:off x="3413160" y="4773600"/>
            <a:ext cx="5737320" cy="1487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in"/>
    <p:sndAc>
      <p:stSnd>
        <p:snd r:embed="rId5" name="La%20vie%20continue%20Rie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Image 1" descr="imag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Image 1" descr="imag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Image 1" descr="imag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Image 1" descr="imag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Image 1" descr="imag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Image 1" descr="imag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Image 1" descr="image1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5" descr="piedbluepair"/>
          <p:cNvPicPr/>
          <p:nvPr/>
        </p:nvPicPr>
        <p:blipFill>
          <a:blip r:embed="rId1"/>
          <a:stretch/>
        </p:blipFill>
        <p:spPr>
          <a:xfrm>
            <a:off x="228600" y="304920"/>
            <a:ext cx="8675640" cy="6248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Image 1" descr="image10.jp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Image 1" descr="image11.jpg"/>
          <p:cNvPicPr/>
          <p:nvPr/>
        </p:nvPicPr>
        <p:blipFill>
          <a:blip r:embed="rId1"/>
          <a:stretch/>
        </p:blipFill>
        <p:spPr>
          <a:xfrm>
            <a:off x="0" y="113832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6"/>
          <p:cNvSpPr/>
          <p:nvPr/>
        </p:nvSpPr>
        <p:spPr>
          <a:xfrm>
            <a:off x="1187280" y="5661000"/>
            <a:ext cx="720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Image 6" descr="1.jpeg"/>
          <p:cNvPicPr/>
          <p:nvPr/>
        </p:nvPicPr>
        <p:blipFill>
          <a:blip r:embed="rId1"/>
          <a:stretch/>
        </p:blipFill>
        <p:spPr>
          <a:xfrm>
            <a:off x="1042920" y="1052640"/>
            <a:ext cx="7337520" cy="4960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1" descr="imag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Image 1" descr="imag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Image 1" descr="imag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Image 1" descr="imag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Image 2" descr="imag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Image 1" descr="imag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Image 1" descr="imag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Image 2" descr="image23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8" descr="whiteeyemale"/>
          <p:cNvPicPr/>
          <p:nvPr/>
        </p:nvPicPr>
        <p:blipFill>
          <a:blip r:embed="rId1"/>
          <a:stretch/>
        </p:blipFill>
        <p:spPr>
          <a:xfrm>
            <a:off x="1306440" y="228600"/>
            <a:ext cx="6721560" cy="6369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Image 2" descr="image24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Image 5" descr="2.jpeg"/>
          <p:cNvPicPr/>
          <p:nvPr/>
        </p:nvPicPr>
        <p:blipFill>
          <a:blip r:embed="rId1"/>
          <a:stretch/>
        </p:blipFill>
        <p:spPr>
          <a:xfrm>
            <a:off x="2411280" y="333360"/>
            <a:ext cx="4505400" cy="6173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Image 2" descr="image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Image 1" descr="image2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Image 1" descr="imag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Image 1" descr="image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Image 1" descr="image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Image 1" descr="image40.jpg"/>
          <p:cNvPicPr/>
          <p:nvPr/>
        </p:nvPicPr>
        <p:blipFill>
          <a:blip r:embed="rId1"/>
          <a:stretch/>
        </p:blipFill>
        <p:spPr>
          <a:xfrm>
            <a:off x="947880" y="692280"/>
            <a:ext cx="7369200" cy="5527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Image 1" descr="image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Image 1" descr="image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imperator"/>
          <p:cNvPicPr/>
          <p:nvPr/>
        </p:nvPicPr>
        <p:blipFill>
          <a:blip r:embed="rId1"/>
          <a:stretch/>
        </p:blipFill>
        <p:spPr>
          <a:xfrm>
            <a:off x="971640" y="476280"/>
            <a:ext cx="733896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7" descr="paon"/>
          <p:cNvPicPr/>
          <p:nvPr/>
        </p:nvPicPr>
        <p:blipFill>
          <a:blip r:embed="rId1"/>
          <a:stretch/>
        </p:blipFill>
        <p:spPr>
          <a:xfrm>
            <a:off x="1479600" y="33336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Image 5" descr="3.jpeg"/>
          <p:cNvPicPr/>
          <p:nvPr/>
        </p:nvPicPr>
        <p:blipFill>
          <a:blip r:embed="rId1"/>
          <a:stretch/>
        </p:blipFill>
        <p:spPr>
          <a:xfrm>
            <a:off x="1042920" y="907920"/>
            <a:ext cx="7323120" cy="5011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Image 1" descr="image45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paon bleu male"/>
          <p:cNvPicPr/>
          <p:nvPr/>
        </p:nvPicPr>
        <p:blipFill>
          <a:blip r:embed="rId1"/>
          <a:stretch/>
        </p:blipFill>
        <p:spPr>
          <a:xfrm>
            <a:off x="0" y="189000"/>
            <a:ext cx="4851360" cy="6507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silverpiedmale"/>
          <p:cNvPicPr/>
          <p:nvPr/>
        </p:nvPicPr>
        <p:blipFill>
          <a:blip r:embed="rId2"/>
          <a:stretch/>
        </p:blipFill>
        <p:spPr>
          <a:xfrm>
            <a:off x="5111640" y="152280"/>
            <a:ext cx="4032360" cy="6516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" descr="paon"/>
          <p:cNvPicPr/>
          <p:nvPr/>
        </p:nvPicPr>
        <p:blipFill>
          <a:blip r:embed="rId1"/>
          <a:stretch/>
        </p:blipFill>
        <p:spPr>
          <a:xfrm>
            <a:off x="228600" y="304920"/>
            <a:ext cx="4114800" cy="6324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ictrain"/>
          <p:cNvPicPr/>
          <p:nvPr/>
        </p:nvPicPr>
        <p:blipFill>
          <a:blip r:embed="rId2"/>
          <a:stretch/>
        </p:blipFill>
        <p:spPr>
          <a:xfrm>
            <a:off x="4495680" y="304920"/>
            <a:ext cx="4343400" cy="6316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6" descr="whitetrain"/>
          <p:cNvPicPr/>
          <p:nvPr/>
        </p:nvPicPr>
        <p:blipFill>
          <a:blip r:embed="rId1"/>
          <a:stretch/>
        </p:blipFill>
        <p:spPr>
          <a:xfrm>
            <a:off x="609480" y="304920"/>
            <a:ext cx="3657600" cy="6335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_bgreentrain"/>
          <p:cNvPicPr/>
          <p:nvPr/>
        </p:nvPicPr>
        <p:blipFill>
          <a:blip r:embed="rId2"/>
          <a:stretch/>
        </p:blipFill>
        <p:spPr>
          <a:xfrm>
            <a:off x="5219640" y="333360"/>
            <a:ext cx="3581640" cy="6340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Image 1" descr="image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Image 1" descr="image48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Image 1" descr="image49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Image 1" descr="image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galerie-membre,oiseau-paon,paon-sur-la-gloriet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Image 1" descr="imag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Image 5" descr="4.jpeg"/>
          <p:cNvPicPr/>
          <p:nvPr/>
        </p:nvPicPr>
        <p:blipFill>
          <a:blip r:embed="rId1"/>
          <a:stretch/>
        </p:blipFill>
        <p:spPr>
          <a:xfrm>
            <a:off x="971640" y="1197000"/>
            <a:ext cx="7394400" cy="449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Image 5" descr="5.jpeg"/>
          <p:cNvPicPr/>
          <p:nvPr/>
        </p:nvPicPr>
        <p:blipFill>
          <a:blip r:embed="rId1"/>
          <a:stretch/>
        </p:blipFill>
        <p:spPr>
          <a:xfrm>
            <a:off x="1158840" y="981000"/>
            <a:ext cx="701820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Image 1" descr="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age 1" descr="imag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Image 1" descr="imag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9:04:23Z</dcterms:created>
  <dc:creator/>
  <dc:description/>
  <cp:keywords/>
  <dc:language>en-US</dc:language>
  <cp:lastModifiedBy/>
  <dcterms:modified xsi:type="dcterms:W3CDTF">2013-08-27T19:05:40Z</dcterms:modified>
  <cp:revision>1</cp:revision>
  <dc:subject/>
  <dc:title/>
</cp:coreProperties>
</file>