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Mojinos%20Escozios-Las%20sevillanas%20del%20Borracho%20Cortad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A0F-47C5-41A3-9F12-CE442109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4E4-D60B-4F0F-9C72-86DAC52B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38B-0661-4E98-A401-C13B0A8A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0B4-2B0B-4967-BDE0-2A06E59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5021-DA47-4150-AE4D-82BD9AB1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3A27-2CF4-49CD-B93B-05D5F6E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44B-38B2-4C68-BCB5-4BA81BB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105-A00E-4F6A-92DA-F16EF7E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FE9-C8C2-47E8-9777-E264101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F024-7738-45F9-9A7C-35DEEE61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4F9-6FB7-488A-972F-EC7D4AB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484-6B9A-4A93-92CE-927E20F9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2CFB-E590-4DE6-82BA-3A088C0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E3C-8695-4CB4-9EA6-18C6982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6AC9-24E6-4423-98A6-D23965A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979-9E80-494A-8DAB-8AAE5C90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6F7-CC57-401E-B7E0-A25848AC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845-C568-4153-8330-4D93CB8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C8A-309A-44C5-9E01-DAB037D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FAF-2872-452A-87B1-26B9767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A6D-1095-45CD-A7A0-F4D3D71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BD1-D1A6-4FA6-AC1C-EA3BAB5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51-1B30-4218-8A58-B17550E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C42-B60C-4607-B462-7B54E33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37B-8FE5-47ED-92F2-3D01955B05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CE3-9D94-4E20-A03E-4C2F1591D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ojinos%20Escozios-Las%20sevillanas%20del%20Borracho%20Cortad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emios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ESACA 200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Mojinos%20Escozios-Las%20sevillanas%20del%20Borracho%20Cortad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8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6360" cy="692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-171360"/>
            <a:ext cx="4761000" cy="702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70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687920" cy="702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5560" y="-5076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0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96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Sajcabó, hip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5805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úsica: Sevillanas del Borracho - Los Mojinos Escoz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3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1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9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4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81080" y="252360"/>
            <a:ext cx="9577440" cy="658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08:50Z</dcterms:created>
  <dc:creator> </dc:creator>
  <dc:description/>
  <dc:language>en-US</dc:language>
  <cp:lastModifiedBy> </cp:lastModifiedBy>
  <dcterms:modified xsi:type="dcterms:W3CDTF">2008-10-26T18:28:53Z</dcterms:modified>
  <cp:revision>2</cp:revision>
  <dc:subject/>
  <dc:title>Premios  RESACA 2008</dc:title>
</cp:coreProperties>
</file>