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Mojinos%20Escozios-Las%20sevillanas%20del%20Borracho%20Cortada.wav" ContentType="audio/x-wav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3.jpeg" ContentType="image/jpeg"/>
  <Override PartName="/ppt/media/image7.jpeg" ContentType="image/jpeg"/>
  <Override PartName="/ppt/media/image12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39B6-5494-40A0-9223-FE85EB6EF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E368-CE85-47AD-8CCC-B95091D70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FD28-5935-4CB9-8DBA-E71067914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1F57-D0BA-48C8-B37F-77E5DCF52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825FC-2FEC-4294-8F5C-230FAD32C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BF8A7-EC79-4144-84AE-608097A52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9A1EE-F0EA-4A9A-8F10-E5FB9357B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958AC-F6E6-468B-AE34-801AAD772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03CE3-A713-4711-9D88-4E461428D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74899-DE42-466A-9B3F-FD3F51F08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93A82-1C65-4AD5-AA41-BB57370D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6199-0A06-44C6-B620-9AB94669A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34F58-F727-455C-83E2-DE7819DA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FDBBF-2358-496F-825B-9509F4A3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CFFDE-ED3F-4A83-8870-A6A1F9D14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8CFDB-F5C3-445C-ADBB-84E54CEAE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4B542-F80C-415A-B1A7-703DEBCAF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AD11-6F1D-4212-9149-330DE8322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BD1D-712E-431C-AA2D-FB5080D0F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31F3-A2BE-477C-A1B7-A6CEE6032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40C9-83EC-470C-83E8-61B7771FD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25B5-01E3-4302-8411-34CDE0D9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44F9-74B0-43AC-946C-DE92A71B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CCF3-EB31-468F-BD9C-D8CB3878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BAAA2-D139-455D-99B3-3DBF566425B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FAFF6-181A-4DE8-A167-7B11CEDBA53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Mojinos%20Escozios-Las%20sevillanas%20del%20Borracho%20Cortada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Premios </a:t>
            </a:r>
            <a:br>
              <a:rPr sz="4800"/>
            </a:b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RESACA 2008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Mojinos%20Escozios-Las%20sevillanas%20del%20Borracho%20Cortad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188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36360" cy="6924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411280" y="-171360"/>
            <a:ext cx="4761000" cy="7029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517032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4687920" cy="7029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514512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-25560" y="-50760"/>
            <a:ext cx="9144000" cy="6845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7002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88720" cy="6962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b2b2b2"/>
                </a:solidFill>
                <a:latin typeface="Arial"/>
              </a:rPr>
              <a:t>Sajcabó, hip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63640" y="580536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úsica: Sevillanas del Borracho - Los Mojinos Escozi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6939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68000" cy="6811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85440" cy="6892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404360" cy="6943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-181080" y="252360"/>
            <a:ext cx="9577440" cy="6580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6T18:08:50Z</dcterms:created>
  <dc:creator> </dc:creator>
  <dc:description/>
  <dc:language>en-US</dc:language>
  <cp:lastModifiedBy> </cp:lastModifiedBy>
  <dcterms:modified xsi:type="dcterms:W3CDTF">2008-10-26T18:28:53Z</dcterms:modified>
  <cp:revision>2</cp:revision>
  <dc:subject/>
  <dc:title>Premios  RESACA 2008</dc:title>
</cp:coreProperties>
</file>