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402-C392-4F9E-A87E-469E4DF1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8E9-1F7B-4113-B3E9-F60E2AE9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F53-25EA-4AB3-A225-B23917C7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469-03FF-4863-BB86-B4AB04DB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7C9-9A3E-4594-A048-98AFD128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330-A041-4A96-A4FD-9FA73BE4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622-4070-4D7E-BE09-EC6289DA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BA0-00C1-4A98-8E1B-4EEEB570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333-5154-41E7-A7DB-E2A37D69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6E3-ED51-441C-A8E9-4C67D194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8BD-4867-4EEE-9C77-FD3D8BA6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CAD-678D-4D67-B797-B97949E8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215D-2FB1-4EA8-91F0-145DCFAFAC4C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1400978&amp;id=45543756493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hyperlink" Target="http://www.facebook.com/photo.php?pid=1400978&amp;id=45543756493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photos-c.ak.fbcdn.net/photos-ak-snc1/v1952/205/118/45543756493/n45543756493_1400978_62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142920"/>
            <a:ext cx="8858160" cy="6429240"/>
          </a:xfrm>
          <a:prstGeom prst="rect">
            <a:avLst/>
          </a:prstGeom>
          <a:ln w="0">
            <a:noFill/>
          </a:ln>
        </p:spPr>
      </p:pic>
      <p:pic>
        <p:nvPicPr>
          <p:cNvPr id="44" name="4 Rectángulo" descr=""/>
          <p:cNvPicPr/>
          <p:nvPr/>
        </p:nvPicPr>
        <p:blipFill>
          <a:blip r:embed="rId3"/>
          <a:stretch/>
        </p:blipFill>
        <p:spPr>
          <a:xfrm>
            <a:off x="281160" y="463680"/>
            <a:ext cx="8869320" cy="2292120"/>
          </a:xfrm>
          <a:prstGeom prst="rect">
            <a:avLst/>
          </a:prstGeom>
          <a:ln w="0">
            <a:noFill/>
          </a:ln>
        </p:spPr>
      </p:pic>
      <p:pic>
        <p:nvPicPr>
          <p:cNvPr id="45" name="5 Rectángulo" descr=""/>
          <p:cNvPicPr/>
          <p:nvPr/>
        </p:nvPicPr>
        <p:blipFill>
          <a:blip r:embed="rId4"/>
          <a:stretch/>
        </p:blipFill>
        <p:spPr>
          <a:xfrm>
            <a:off x="1298520" y="2792520"/>
            <a:ext cx="6632640" cy="4919400"/>
          </a:xfrm>
          <a:prstGeom prst="rect">
            <a:avLst/>
          </a:prstGeom>
          <a:ln w="0">
            <a:noFill/>
          </a:ln>
        </p:spPr>
      </p:pic>
      <p:pic>
        <p:nvPicPr>
          <p:cNvPr id="46" name="Roberto Carlos - Quero que vá tudo pro inferno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D:\Administrador\Mis documentos\MIS DOCUMENTOS FF\ALMUERZO PROMO-JATO LAURIE\REUNION PROMO XXXVII-COLE-JATO JOSE 028.jp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" descr="D:\Administrador\Mis documentos\MIS DOCUMENTOS FF\ALMUERZO PROMO-JATO LAURIE\REUNION PROMO XXXVII-COLE-JATO JOSE 030.jp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D:\Administrador\Mis documentos\MIS DOCUMENTOS FF\ALMUERZO PROMO-JATO LAURIE\REUNION PROMO XXXVII-COLE-JATO JOSE 055.jpg"/>
          <p:cNvPicPr/>
          <p:nvPr/>
        </p:nvPicPr>
        <p:blipFill>
          <a:blip r:embed="rId2"/>
          <a:stretch/>
        </p:blipFill>
        <p:spPr>
          <a:xfrm>
            <a:off x="285840" y="214200"/>
            <a:ext cx="8643960" cy="648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D:\Administrador\Mis documentos\MIS DOCUMENTOS FF\ALMUERZO PROMO-JATO LAURIE\REUNION PROMO XXXVII-COLE-JATO JOSE 038.jpg"/>
          <p:cNvPicPr/>
          <p:nvPr/>
        </p:nvPicPr>
        <p:blipFill>
          <a:blip r:embed="rId2"/>
          <a:stretch/>
        </p:blipFill>
        <p:spPr>
          <a:xfrm>
            <a:off x="357120" y="214200"/>
            <a:ext cx="857268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D:\Administrador\Mis documentos\MIS DOCUMENTOS FF\ALMUERZO PROMO-JATO LAURIE\REUNION PROMO XXXVII-COLE-JATO JOSE 056.jpg"/>
          <p:cNvPicPr/>
          <p:nvPr/>
        </p:nvPicPr>
        <p:blipFill>
          <a:blip r:embed="rId2"/>
          <a:stretch/>
        </p:blipFill>
        <p:spPr>
          <a:xfrm>
            <a:off x="357120" y="214200"/>
            <a:ext cx="8643960" cy="648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D:\Administrador\Mis documentos\MIS DOCUMENTOS FF\ALMUERZO PROMO-JATO LAURIE\REUNION PROMO XXXVII-COLE-JATO JOSE 039.jpg"/>
          <p:cNvPicPr/>
          <p:nvPr/>
        </p:nvPicPr>
        <p:blipFill>
          <a:blip r:embed="rId2"/>
          <a:stretch/>
        </p:blipFill>
        <p:spPr>
          <a:xfrm>
            <a:off x="214200" y="160200"/>
            <a:ext cx="8643960" cy="648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D:\Administrador\Mis documentos\MIS DOCUMENTOS FF\ALMUERZO PROMO-JATO LAURIE\REUNION PROMO XXXVII-COLE-JATO JOSE 061.jpg"/>
          <p:cNvPicPr/>
          <p:nvPr/>
        </p:nvPicPr>
        <p:blipFill>
          <a:blip r:embed="rId2"/>
          <a:stretch/>
        </p:blipFill>
        <p:spPr>
          <a:xfrm>
            <a:off x="357120" y="214200"/>
            <a:ext cx="857268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D:\Administrador\Mis documentos\MIS DOCUMENTOS FF\ALMUERZO PROMO-JATO LAURIE\REUNION PROMO XXXVII-COLE-JATO JOSE 065.jp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D:\Administrador\Mis documentos\MIS DOCUMENTOS FF\ALMUERZO PROMO-JATO LAURIE\REUNION PROMO XXXVII-COLE-JATO JOSE 066.jpg"/>
          <p:cNvPicPr/>
          <p:nvPr/>
        </p:nvPicPr>
        <p:blipFill>
          <a:blip r:embed="rId2"/>
          <a:stretch/>
        </p:blipFill>
        <p:spPr>
          <a:xfrm>
            <a:off x="285840" y="214200"/>
            <a:ext cx="8501040" cy="637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D:\Administrador\Mis documentos\MIS DOCUMENTOS FF\ALMUERZO PROMO-JATO LAURIE\REUNION PROMO XXXVII-COLE-JATO JOSE 071.jp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D:\Administrador\Mis documentos\MIS DOCUMENTOS FF\ALMUERZO PROMO-JATO LAURIE\REUNION PROMO XXXVII-COLE-JATO JOSE 003.jpg"/>
          <p:cNvPicPr/>
          <p:nvPr/>
        </p:nvPicPr>
        <p:blipFill>
          <a:blip r:embed="rId2"/>
          <a:stretch/>
        </p:blipFill>
        <p:spPr>
          <a:xfrm>
            <a:off x="285840" y="285840"/>
            <a:ext cx="8429400" cy="639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15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115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115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Administrador\Mis documentos\MIS DOCUMENTOS FF\ALMUERZO PROMO-JATO LAURIE\REUNION PROMO XXXVII-COLE-JATO JOSE 075.jpg"/>
          <p:cNvPicPr/>
          <p:nvPr/>
        </p:nvPicPr>
        <p:blipFill>
          <a:blip r:embed="rId2"/>
          <a:stretch/>
        </p:blipFill>
        <p:spPr>
          <a:xfrm>
            <a:off x="285840" y="214200"/>
            <a:ext cx="8643960" cy="648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2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2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D:\Administrador\Mis documentos\MIS DOCUMENTOS FF\ALMUERZO PROMO-JATO LAURIE\REUNION PROMO XXXVII-COLE-JATO JOSE 045.jp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D:\Administrador\Mis documentos\MIS DOCUMENTOS FF\ALMUERZO PROMO-JATO LAURIE\REUNION PROMO XXXVII-COLE-JATO JOSE 012.jpg"/>
          <p:cNvPicPr/>
          <p:nvPr/>
        </p:nvPicPr>
        <p:blipFill>
          <a:blip r:embed="rId2"/>
          <a:stretch/>
        </p:blipFill>
        <p:spPr>
          <a:xfrm>
            <a:off x="285840" y="214200"/>
            <a:ext cx="8643960" cy="648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5840" y="1600200"/>
            <a:ext cx="8400960" cy="4829040"/>
          </a:xfrm>
          <a:prstGeom prst="rect">
            <a:avLst/>
          </a:prstGeom>
          <a:ln w="0">
            <a:noFill/>
          </a:ln>
        </p:spPr>
      </p:pic>
      <p:pic>
        <p:nvPicPr>
          <p:cNvPr id="112" name="6 Rectángulo" descr=""/>
          <p:cNvPicPr/>
          <p:nvPr/>
        </p:nvPicPr>
        <p:blipFill>
          <a:blip r:embed="rId2"/>
          <a:stretch/>
        </p:blipFill>
        <p:spPr>
          <a:xfrm>
            <a:off x="1523880" y="2962440"/>
            <a:ext cx="1451160" cy="306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photos-d.ak.fbcdn.net/photos-ak-snc1/v1952/205/118/45543756493/n45543756493_1400979_748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287280"/>
            <a:ext cx="8642160" cy="6356520"/>
          </a:xfrm>
          <a:prstGeom prst="rect">
            <a:avLst/>
          </a:prstGeom>
          <a:ln w="0">
            <a:noFill/>
          </a:ln>
        </p:spPr>
      </p:pic>
      <p:pic>
        <p:nvPicPr>
          <p:cNvPr id="114" name="11 Rectángulo" descr=""/>
          <p:cNvPicPr/>
          <p:nvPr/>
        </p:nvPicPr>
        <p:blipFill>
          <a:blip r:embed="rId5"/>
          <a:stretch/>
        </p:blipFill>
        <p:spPr>
          <a:xfrm>
            <a:off x="-6480" y="2230560"/>
            <a:ext cx="851724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:\Administrador\Mis documentos\MIS DOCUMENTOS FF\ALMUERZO PROMO-JATO LAURIE\REUNION PROMO XXXVII-COLE-JATO JOSE 001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D:\Administrador\Mis documentos\MIS DOCUMENTOS FF\ALMUERZO PROMO-JATO LAURIE\REUNION PROMO XXXVII-COLE-JATO JOSE 002.jp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D:\Administrador\Mis documentos\MIS DOCUMENTOS FF\ALMUERZO PROMO-JATO LAURIE\REUNION PROMO XXXVII-COLE-JATO JOSE 005.jpg"/>
          <p:cNvPicPr/>
          <p:nvPr/>
        </p:nvPicPr>
        <p:blipFill>
          <a:blip r:embed="rId2"/>
          <a:stretch/>
        </p:blipFill>
        <p:spPr>
          <a:xfrm>
            <a:off x="285840" y="214200"/>
            <a:ext cx="8501040" cy="637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D:\Administrador\Mis documentos\MIS DOCUMENTOS FF\ALMUERZO PROMO-JATO LAURIE\REUNION PROMO XXXVII-COLE-JATO JOSE 006.jpg"/>
          <p:cNvPicPr/>
          <p:nvPr/>
        </p:nvPicPr>
        <p:blipFill>
          <a:blip r:embed="rId2"/>
          <a:stretch/>
        </p:blipFill>
        <p:spPr>
          <a:xfrm>
            <a:off x="285840" y="214200"/>
            <a:ext cx="8501040" cy="637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D:\Administrador\Mis documentos\MIS DOCUMENTOS FF\ALMUERZO PROMO-JATO LAURIE\REUNION PROMO XXXVII-COLE-JATO JOSE 014.jpg"/>
          <p:cNvPicPr/>
          <p:nvPr/>
        </p:nvPicPr>
        <p:blipFill>
          <a:blip r:embed="rId2"/>
          <a:stretch/>
        </p:blipFill>
        <p:spPr>
          <a:xfrm>
            <a:off x="214200" y="160200"/>
            <a:ext cx="8643960" cy="648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D:\Administrador\Mis documentos\MIS DOCUMENTOS FF\ALMUERZO PROMO-JATO LAURIE\REUNION PROMO XXXVII-COLE-JATO JOSE 015.jpg"/>
          <p:cNvPicPr/>
          <p:nvPr/>
        </p:nvPicPr>
        <p:blipFill>
          <a:blip r:embed="rId2"/>
          <a:stretch/>
        </p:blipFill>
        <p:spPr>
          <a:xfrm>
            <a:off x="285840" y="214200"/>
            <a:ext cx="8501040" cy="637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D:\Administrador\Mis documentos\MIS DOCUMENTOS FF\ALMUERZO PROMO-JATO LAURIE\REUNION PROMO XXXVII-COLE-JATO JOSE 021.jpg"/>
          <p:cNvPicPr/>
          <p:nvPr/>
        </p:nvPicPr>
        <p:blipFill>
          <a:blip r:embed="rId2"/>
          <a:stretch/>
        </p:blipFill>
        <p:spPr>
          <a:xfrm>
            <a:off x="357120" y="268200"/>
            <a:ext cx="8429760" cy="632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8:29:46Z</dcterms:created>
  <dc:creator>Franklin</dc:creator>
  <dc:description/>
  <dc:language>en-US</dc:language>
  <cp:lastModifiedBy>Franklin</cp:lastModifiedBy>
  <dcterms:modified xsi:type="dcterms:W3CDTF">2010-01-12T23:20:15Z</dcterms:modified>
  <cp:revision>18</cp:revision>
  <dc:subject/>
  <dc:title>Diapositiva 1</dc:title>
</cp:coreProperties>
</file>