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6.png" ContentType="image/png"/>
  <Override PartName="/ppt/media/image7.jpeg" ContentType="image/jpeg"/>
  <Override PartName="/ppt/media/image28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30.png" ContentType="image/png"/>
  <Override PartName="/ppt/media/image12.jpeg" ContentType="image/jpeg"/>
  <Override PartName="/ppt/media/image4.png" ContentType="image/png"/>
  <Override PartName="/ppt/media/image13.jpeg" ContentType="image/jpeg"/>
  <Override PartName="/ppt/media/image9.jpeg" ContentType="image/jpeg"/>
  <Override PartName="/ppt/media/image11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4.jpeg" ContentType="image/jpeg"/>
  <Override PartName="/ppt/media/image25.jpeg" ContentType="image/jpeg"/>
  <Override PartName="/ppt/media/image2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ED9A-C3A0-414B-BB0A-EC75CF77B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605D-4859-4308-8617-C530D3C13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DFD7-36B3-4F55-8BD7-3E9FD8C99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B877-67D0-4F60-88A5-8A019C300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8741-999C-4794-A18C-68B422471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C16B-71BE-412D-9926-073DCD8E6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C8E0-4A2D-46B8-AC8B-3EA30E2A1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7FB6-219C-4ED6-AD54-0D1DCCB70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3B57-6E75-44E5-81A5-35CEEC9B5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4D95-9225-46FB-80C9-18CB8646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1CFC-5478-4367-913A-B9768656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7B63-CAAA-4D99-8FD1-F4D33357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BD6F9-35D6-4B16-8B52-0DD4F6942CDE}" type="slidenum">
              <a:rPr b="0" lang="es-P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acebook.com/photo.php?pid=1400978&amp;id=45543756493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8.png"/><Relationship Id="rId3" Type="http://schemas.openxmlformats.org/officeDocument/2006/relationships/hyperlink" Target="http://www.facebook.com/photo.php?pid=1400978&amp;id=45543756493" TargetMode="External"/><Relationship Id="rId4" Type="http://schemas.openxmlformats.org/officeDocument/2006/relationships/image" Target="../media/image29.jpe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http://photos-c.ak.fbcdn.net/photos-ak-snc1/v1952/205/118/45543756493/n45543756493_1400978_6209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2920" y="142920"/>
            <a:ext cx="8858160" cy="6429240"/>
          </a:xfrm>
          <a:prstGeom prst="rect">
            <a:avLst/>
          </a:prstGeom>
          <a:ln w="0">
            <a:noFill/>
          </a:ln>
        </p:spPr>
      </p:pic>
      <p:pic>
        <p:nvPicPr>
          <p:cNvPr id="44" name="4 Rectángulo" descr=""/>
          <p:cNvPicPr/>
          <p:nvPr/>
        </p:nvPicPr>
        <p:blipFill>
          <a:blip r:embed="rId3"/>
          <a:stretch/>
        </p:blipFill>
        <p:spPr>
          <a:xfrm>
            <a:off x="281160" y="463680"/>
            <a:ext cx="8869320" cy="2292120"/>
          </a:xfrm>
          <a:prstGeom prst="rect">
            <a:avLst/>
          </a:prstGeom>
          <a:ln w="0">
            <a:noFill/>
          </a:ln>
        </p:spPr>
      </p:pic>
      <p:pic>
        <p:nvPicPr>
          <p:cNvPr id="45" name="5 Rectángulo" descr=""/>
          <p:cNvPicPr/>
          <p:nvPr/>
        </p:nvPicPr>
        <p:blipFill>
          <a:blip r:embed="rId4"/>
          <a:stretch/>
        </p:blipFill>
        <p:spPr>
          <a:xfrm>
            <a:off x="1298520" y="2792520"/>
            <a:ext cx="6632640" cy="4919400"/>
          </a:xfrm>
          <a:prstGeom prst="rect">
            <a:avLst/>
          </a:prstGeom>
          <a:ln w="0">
            <a:noFill/>
          </a:ln>
        </p:spPr>
      </p:pic>
      <p:pic>
        <p:nvPicPr>
          <p:cNvPr id="46" name="Roberto Carlos - Quero que vá tudo pro inferno.wav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" descr="D:\Administrador\Mis documentos\MIS DOCUMENTOS FF\ALMUERZO PROMO-JATO LAURIE\REUNION PROMO XXXVII-COLE-JATO JOSE 028.jpg"/>
          <p:cNvPicPr/>
          <p:nvPr/>
        </p:nvPicPr>
        <p:blipFill>
          <a:blip r:embed="rId2"/>
          <a:stretch/>
        </p:blipFill>
        <p:spPr>
          <a:xfrm>
            <a:off x="285840" y="214200"/>
            <a:ext cx="8572320" cy="643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" descr="D:\Administrador\Mis documentos\MIS DOCUMENTOS FF\ALMUERZO PROMO-JATO LAURIE\REUNION PROMO XXXVII-COLE-JATO JOSE 030.jpg"/>
          <p:cNvPicPr/>
          <p:nvPr/>
        </p:nvPicPr>
        <p:blipFill>
          <a:blip r:embed="rId2"/>
          <a:stretch/>
        </p:blipFill>
        <p:spPr>
          <a:xfrm>
            <a:off x="285840" y="214200"/>
            <a:ext cx="8572320" cy="643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D:\Administrador\Mis documentos\MIS DOCUMENTOS FF\ALMUERZO PROMO-JATO LAURIE\REUNION PROMO XXXVII-COLE-JATO JOSE 055.jpg"/>
          <p:cNvPicPr/>
          <p:nvPr/>
        </p:nvPicPr>
        <p:blipFill>
          <a:blip r:embed="rId2"/>
          <a:stretch/>
        </p:blipFill>
        <p:spPr>
          <a:xfrm>
            <a:off x="285840" y="214200"/>
            <a:ext cx="8643960" cy="648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" descr="D:\Administrador\Mis documentos\MIS DOCUMENTOS FF\ALMUERZO PROMO-JATO LAURIE\REUNION PROMO XXXVII-COLE-JATO JOSE 038.jpg"/>
          <p:cNvPicPr/>
          <p:nvPr/>
        </p:nvPicPr>
        <p:blipFill>
          <a:blip r:embed="rId2"/>
          <a:stretch/>
        </p:blipFill>
        <p:spPr>
          <a:xfrm>
            <a:off x="357120" y="214200"/>
            <a:ext cx="8572680" cy="643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" descr="D:\Administrador\Mis documentos\MIS DOCUMENTOS FF\ALMUERZO PROMO-JATO LAURIE\REUNION PROMO XXXVII-COLE-JATO JOSE 056.jpg"/>
          <p:cNvPicPr/>
          <p:nvPr/>
        </p:nvPicPr>
        <p:blipFill>
          <a:blip r:embed="rId2"/>
          <a:stretch/>
        </p:blipFill>
        <p:spPr>
          <a:xfrm>
            <a:off x="357120" y="214200"/>
            <a:ext cx="8643960" cy="648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" descr="D:\Administrador\Mis documentos\MIS DOCUMENTOS FF\ALMUERZO PROMO-JATO LAURIE\REUNION PROMO XXXVII-COLE-JATO JOSE 039.jpg"/>
          <p:cNvPicPr/>
          <p:nvPr/>
        </p:nvPicPr>
        <p:blipFill>
          <a:blip r:embed="rId2"/>
          <a:stretch/>
        </p:blipFill>
        <p:spPr>
          <a:xfrm>
            <a:off x="214200" y="160200"/>
            <a:ext cx="8643960" cy="648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" descr="D:\Administrador\Mis documentos\MIS DOCUMENTOS FF\ALMUERZO PROMO-JATO LAURIE\REUNION PROMO XXXVII-COLE-JATO JOSE 061.jpg"/>
          <p:cNvPicPr/>
          <p:nvPr/>
        </p:nvPicPr>
        <p:blipFill>
          <a:blip r:embed="rId2"/>
          <a:stretch/>
        </p:blipFill>
        <p:spPr>
          <a:xfrm>
            <a:off x="357120" y="214200"/>
            <a:ext cx="8572680" cy="643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" descr="D:\Administrador\Mis documentos\MIS DOCUMENTOS FF\ALMUERZO PROMO-JATO LAURIE\REUNION PROMO XXXVII-COLE-JATO JOSE 065.jpg"/>
          <p:cNvPicPr/>
          <p:nvPr/>
        </p:nvPicPr>
        <p:blipFill>
          <a:blip r:embed="rId2"/>
          <a:stretch/>
        </p:blipFill>
        <p:spPr>
          <a:xfrm>
            <a:off x="285840" y="214200"/>
            <a:ext cx="8572320" cy="643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" descr="D:\Administrador\Mis documentos\MIS DOCUMENTOS FF\ALMUERZO PROMO-JATO LAURIE\REUNION PROMO XXXVII-COLE-JATO JOSE 066.jpg"/>
          <p:cNvPicPr/>
          <p:nvPr/>
        </p:nvPicPr>
        <p:blipFill>
          <a:blip r:embed="rId2"/>
          <a:stretch/>
        </p:blipFill>
        <p:spPr>
          <a:xfrm>
            <a:off x="285840" y="214200"/>
            <a:ext cx="8501040" cy="637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" descr="D:\Administrador\Mis documentos\MIS DOCUMENTOS FF\ALMUERZO PROMO-JATO LAURIE\REUNION PROMO XXXVII-COLE-JATO JOSE 071.jpg"/>
          <p:cNvPicPr/>
          <p:nvPr/>
        </p:nvPicPr>
        <p:blipFill>
          <a:blip r:embed="rId2"/>
          <a:stretch/>
        </p:blipFill>
        <p:spPr>
          <a:xfrm>
            <a:off x="285840" y="214200"/>
            <a:ext cx="8572320" cy="643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" descr="D:\Administrador\Mis documentos\MIS DOCUMENTOS FF\ALMUERZO PROMO-JATO LAURIE\REUNION PROMO XXXVII-COLE-JATO JOSE 003.jpg"/>
          <p:cNvPicPr/>
          <p:nvPr/>
        </p:nvPicPr>
        <p:blipFill>
          <a:blip r:embed="rId2"/>
          <a:stretch/>
        </p:blipFill>
        <p:spPr>
          <a:xfrm>
            <a:off x="285840" y="285840"/>
            <a:ext cx="8429400" cy="639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155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1155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" dur="1155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" dur="1155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D:\Administrador\Mis documentos\MIS DOCUMENTOS FF\ALMUERZO PROMO-JATO LAURIE\REUNION PROMO XXXVII-COLE-JATO JOSE 075.jpg"/>
          <p:cNvPicPr/>
          <p:nvPr/>
        </p:nvPicPr>
        <p:blipFill>
          <a:blip r:embed="rId2"/>
          <a:stretch/>
        </p:blipFill>
        <p:spPr>
          <a:xfrm>
            <a:off x="285840" y="214200"/>
            <a:ext cx="8643960" cy="648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3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2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2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" descr="D:\Administrador\Mis documentos\MIS DOCUMENTOS FF\ALMUERZO PROMO-JATO LAURIE\REUNION PROMO XXXVII-COLE-JATO JOSE 045.jpg"/>
          <p:cNvPicPr/>
          <p:nvPr/>
        </p:nvPicPr>
        <p:blipFill>
          <a:blip r:embed="rId2"/>
          <a:stretch/>
        </p:blipFill>
        <p:spPr>
          <a:xfrm>
            <a:off x="285840" y="214200"/>
            <a:ext cx="8572320" cy="643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D:\Administrador\Mis documentos\MIS DOCUMENTOS FF\ALMUERZO PROMO-JATO LAURIE\REUNION PROMO XXXVII-COLE-JATO JOSE 012.jpg"/>
          <p:cNvPicPr/>
          <p:nvPr/>
        </p:nvPicPr>
        <p:blipFill>
          <a:blip r:embed="rId2"/>
          <a:stretch/>
        </p:blipFill>
        <p:spPr>
          <a:xfrm>
            <a:off x="285840" y="214200"/>
            <a:ext cx="8643960" cy="648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85840" y="1600200"/>
            <a:ext cx="8400960" cy="4829040"/>
          </a:xfrm>
          <a:prstGeom prst="rect">
            <a:avLst/>
          </a:prstGeom>
          <a:ln w="0">
            <a:noFill/>
          </a:ln>
        </p:spPr>
      </p:pic>
      <p:pic>
        <p:nvPicPr>
          <p:cNvPr id="112" name="6 Rectángulo" descr=""/>
          <p:cNvPicPr/>
          <p:nvPr/>
        </p:nvPicPr>
        <p:blipFill>
          <a:blip r:embed="rId2"/>
          <a:stretch/>
        </p:blipFill>
        <p:spPr>
          <a:xfrm>
            <a:off x="1523880" y="2962440"/>
            <a:ext cx="1451160" cy="3060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http://photos-d.ak.fbcdn.net/photos-ak-snc1/v1952/205/118/45543756493/n45543756493_1400979_7483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5840" y="287280"/>
            <a:ext cx="8642160" cy="6356520"/>
          </a:xfrm>
          <a:prstGeom prst="rect">
            <a:avLst/>
          </a:prstGeom>
          <a:ln w="0">
            <a:noFill/>
          </a:ln>
        </p:spPr>
      </p:pic>
      <p:pic>
        <p:nvPicPr>
          <p:cNvPr id="114" name="11 Rectángulo" descr=""/>
          <p:cNvPicPr/>
          <p:nvPr/>
        </p:nvPicPr>
        <p:blipFill>
          <a:blip r:embed="rId5"/>
          <a:stretch/>
        </p:blipFill>
        <p:spPr>
          <a:xfrm>
            <a:off x="-6480" y="2230560"/>
            <a:ext cx="8517240" cy="437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" descr="D:\Administrador\Mis documentos\MIS DOCUMENTOS FF\ALMUERZO PROMO-JATO LAURIE\REUNION PROMO XXXVII-COLE-JATO JOSE 001.jpg"/>
          <p:cNvPicPr/>
          <p:nvPr/>
        </p:nvPicPr>
        <p:blipFill>
          <a:blip r:embed="rId2"/>
          <a:stretch/>
        </p:blipFill>
        <p:spPr>
          <a:xfrm>
            <a:off x="214200" y="214200"/>
            <a:ext cx="8715600" cy="635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4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4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4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4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" descr="D:\Administrador\Mis documentos\MIS DOCUMENTOS FF\ALMUERZO PROMO-JATO LAURIE\REUNION PROMO XXXVII-COLE-JATO JOSE 002.jpg"/>
          <p:cNvPicPr/>
          <p:nvPr/>
        </p:nvPicPr>
        <p:blipFill>
          <a:blip r:embed="rId2"/>
          <a:stretch/>
        </p:blipFill>
        <p:spPr>
          <a:xfrm>
            <a:off x="285840" y="214200"/>
            <a:ext cx="8572320" cy="643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" descr="D:\Administrador\Mis documentos\MIS DOCUMENTOS FF\ALMUERZO PROMO-JATO LAURIE\REUNION PROMO XXXVII-COLE-JATO JOSE 005.jpg"/>
          <p:cNvPicPr/>
          <p:nvPr/>
        </p:nvPicPr>
        <p:blipFill>
          <a:blip r:embed="rId2"/>
          <a:stretch/>
        </p:blipFill>
        <p:spPr>
          <a:xfrm>
            <a:off x="285840" y="214200"/>
            <a:ext cx="8501040" cy="637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" descr="D:\Administrador\Mis documentos\MIS DOCUMENTOS FF\ALMUERZO PROMO-JATO LAURIE\REUNION PROMO XXXVII-COLE-JATO JOSE 006.jpg"/>
          <p:cNvPicPr/>
          <p:nvPr/>
        </p:nvPicPr>
        <p:blipFill>
          <a:blip r:embed="rId2"/>
          <a:stretch/>
        </p:blipFill>
        <p:spPr>
          <a:xfrm>
            <a:off x="285840" y="214200"/>
            <a:ext cx="8501040" cy="637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" descr="D:\Administrador\Mis documentos\MIS DOCUMENTOS FF\ALMUERZO PROMO-JATO LAURIE\REUNION PROMO XXXVII-COLE-JATO JOSE 014.jpg"/>
          <p:cNvPicPr/>
          <p:nvPr/>
        </p:nvPicPr>
        <p:blipFill>
          <a:blip r:embed="rId2"/>
          <a:stretch/>
        </p:blipFill>
        <p:spPr>
          <a:xfrm>
            <a:off x="214200" y="160200"/>
            <a:ext cx="8643960" cy="648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" descr="D:\Administrador\Mis documentos\MIS DOCUMENTOS FF\ALMUERZO PROMO-JATO LAURIE\REUNION PROMO XXXVII-COLE-JATO JOSE 015.jpg"/>
          <p:cNvPicPr/>
          <p:nvPr/>
        </p:nvPicPr>
        <p:blipFill>
          <a:blip r:embed="rId2"/>
          <a:stretch/>
        </p:blipFill>
        <p:spPr>
          <a:xfrm>
            <a:off x="285840" y="214200"/>
            <a:ext cx="8501040" cy="637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" descr="D:\Administrador\Mis documentos\MIS DOCUMENTOS FF\ALMUERZO PROMO-JATO LAURIE\REUNION PROMO XXXVII-COLE-JATO JOSE 021.jpg"/>
          <p:cNvPicPr/>
          <p:nvPr/>
        </p:nvPicPr>
        <p:blipFill>
          <a:blip r:embed="rId2"/>
          <a:stretch/>
        </p:blipFill>
        <p:spPr>
          <a:xfrm>
            <a:off x="357120" y="268200"/>
            <a:ext cx="8429760" cy="632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6T18:29:46Z</dcterms:created>
  <dc:creator>Franklin</dc:creator>
  <dc:description/>
  <dc:language>en-US</dc:language>
  <cp:lastModifiedBy>Franklin</cp:lastModifiedBy>
  <dcterms:modified xsi:type="dcterms:W3CDTF">2010-01-12T23:20:15Z</dcterms:modified>
  <cp:revision>18</cp:revision>
  <dc:subject/>
  <dc:title>Diapositiva 1</dc:title>
</cp:coreProperties>
</file>