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2.png" ContentType="image/pn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23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7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81.jpeg" ContentType="image/jpeg"/>
  <Override PartName="/ppt/media/image22.jpeg" ContentType="image/jpeg"/>
  <Override PartName="/ppt/media/image9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8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9A9-EFC8-43FD-9B5F-215ABAEE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6BE-0213-4D47-A6E6-C43475DE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7ED-1BC9-47E8-99B9-790B5A90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A73-1649-4C25-8D7F-1F2423C0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2E8-7C02-4AAE-A216-276C8F4E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CD9-A6A7-4AF5-B33A-1399BDAE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562-4D6A-4DC0-8D2B-413B784E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B9C-4E18-4D06-B79F-EC921041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3B3-12C4-4F59-AE3C-AA889B0D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D79-09F9-4229-873A-E08B6A32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550-1022-426E-BB7A-CAC9E19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8B9-FDB5-434B-9827-ECCF4A77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C08F-EF50-4C98-B97B-B3E1FD0DC21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hyperlink" Target="http://elviajederiddhi.wordpress.com/" TargetMode="External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70384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1680" y="762120"/>
            <a:ext cx="9175680" cy="53146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610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894096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8:00:29Z</dcterms:created>
  <dc:creator>juan armas</dc:creator>
  <dc:description/>
  <dc:language>en-US</dc:language>
  <cp:lastModifiedBy>juan armas</cp:lastModifiedBy>
  <dcterms:modified xsi:type="dcterms:W3CDTF">2008-08-02T10:14:54Z</dcterms:modified>
  <cp:revision>9</cp:revision>
  <dc:subject/>
  <dc:title>Diapositiva 1</dc:title>
</cp:coreProperties>
</file>