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2.png" ContentType="image/pn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23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7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81.jpeg" ContentType="image/jpeg"/>
  <Override PartName="/ppt/media/image22.jpeg" ContentType="image/jpeg"/>
  <Override PartName="/ppt/media/image9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8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851-646F-46E1-8CB4-A2373636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583-9FA0-428A-92EA-F7B28927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D62-4A49-46B6-BE39-5F96CB87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2EA-75A1-444B-B218-16EC226B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42C-4F61-407A-8846-F73C46D9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254-1911-437A-AF77-A36C74E0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240-B25A-4351-9760-FFB165EA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1E0-601E-40BF-B9DD-0F16BA75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6E2-5A00-4F0F-B65E-87CFF2D9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784-BFD4-404F-9DF1-4A09407C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F5A-A95A-49A6-B86A-6CA1246F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008-9C07-45F5-B069-253059A8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62E-9375-4EB8-96C3-D850AA63D74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hyperlink" Target="http://elviajederiddhi.wordpress.com/" TargetMode="External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70384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1680" y="762120"/>
            <a:ext cx="9175680" cy="53146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610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894096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8:00:29Z</dcterms:created>
  <dc:creator>juan armas</dc:creator>
  <dc:description/>
  <dc:language>en-US</dc:language>
  <cp:lastModifiedBy>juan armas</cp:lastModifiedBy>
  <dcterms:modified xsi:type="dcterms:W3CDTF">2008-08-02T10:14:54Z</dcterms:modified>
  <cp:revision>9</cp:revision>
  <dc:subject/>
  <dc:title>Diapositiva 1</dc:title>
</cp:coreProperties>
</file>