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01%20Fasination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D49F-EA37-4D19-8057-7B0DF819B8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 belleza noctu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3D7-D359-4062-B340-B844A653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90A-44B7-471C-8D97-7B35D4B2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C9F-E81E-4D3A-A906-B1911AF6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727-5B69-4108-96CB-14CA4DD0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B64-1993-4BCE-B6C0-F0BB2D95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73E-B1B6-45D0-9255-48A42032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F1C-AAB5-4F02-A2E8-4AA3FAB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175-37CF-4FB6-B0F8-1E7C3AAE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FDE-D495-4CA9-A6A5-972669BB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A64-A319-4866-A849-A8F9002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612-FB83-4457-ABC9-EA03470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A0F-C5AC-40FB-A856-50BD990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5D7-7AB5-4797-9400-7EF367067DEC}" type="slidenum">
              <a:rPr b="0" lang="de-CH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Fasina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44" t="5128" r="2744" b="3702"/>
          <a:stretch/>
        </p:blipFill>
        <p:spPr>
          <a:xfrm>
            <a:off x="0" y="7776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0e500"/>
                </a:solidFill>
                <a:latin typeface="Arial"/>
              </a:rPr>
              <a:t>LA FASCINACIÓN DE LA NO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7240" y="64911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AUTOMA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anta Nat king Cole: Fasci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68360" y="4724280"/>
            <a:ext cx="4191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e500"/>
                </a:solidFill>
                <a:latin typeface="Impact"/>
              </a:rPr>
              <a:t>Señor mío y Dios mío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e500"/>
              </a:solidFill>
              <a:latin typeface="Impact"/>
              <a:ea typeface="Impact"/>
            </a:endParaRPr>
          </a:p>
        </p:txBody>
      </p:sp>
    </p:spTree>
  </p:cSld>
  <p:transition spd="med" advTm="8000">
    <p:diamond/>
    <p:sndAc>
      <p:stSnd>
        <p:snd r:embed="rId2" name="01%20Fasina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962" t="2582" r="1962" b="2756"/>
          <a:stretch/>
        </p:blipFill>
        <p:spPr>
          <a:xfrm>
            <a:off x="0" y="0"/>
            <a:ext cx="9325080" cy="6924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0000" y="208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PR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480" y="580464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Bendice Señor a cada uno de mis amigos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963" t="6341" r="1963" b="62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7800" y="260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1560" y="5084280"/>
            <a:ext cx="814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en especial a mis enemi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que son ellos quienes más necesitan de 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1961" t="2757" r="1961" b="2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5440" y="260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SALZ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7720" y="5229000"/>
            <a:ext cx="835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Tú sabes Señor cuanto amo a este 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que en este instante está orando junto conm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gracias a este e-mai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)"/>
                                      </p:to>
                                    </p:set>
                                    <p:set>
                                      <p:cBhvr>
                                        <p:cTn id="189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)"/>
                                      </p:to>
                                    </p:set>
                                    <p:set>
                                      <p:cBhvr>
                                        <p:cTn id="190" dur="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961" t="2756" r="1961" b="2756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280" y="136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S VE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80320" y="259920"/>
            <a:ext cx="684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te pido para él (el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la victoria en todas sus  adversidades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66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1961" t="2753" r="1961" b="3798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" y="281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VENE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760" y="260280"/>
            <a:ext cx="73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, barreras; y por aquellas situ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que por estar a veces alejados de 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se hacen tan largas y parecen no tener f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720" y="281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9400" y="69156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Bendice también sus proyectos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7600" y="4437000"/>
            <a:ext cx="775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Bendice también sus proyectos, sueñ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que la esperanza en tu Infinita Miserico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le recuerde que pase lo que pa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Tú nunca nos abandona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6920" y="2080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EL MONTE SAN MICH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59280" y="4869000"/>
            <a:ext cx="3889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Impact"/>
              </a:rPr>
              <a:t>Amén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Impact"/>
              <a:ea typeface="Impact"/>
            </a:endParaRPr>
          </a:p>
        </p:txBody>
      </p:sp>
    </p:spTree>
  </p:cSld>
  <p:transition spd="slow" advTm="8000"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960" t="2757" r="1960" b="2757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8920" y="2080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TORRE DEL P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5670720"/>
            <a:ext cx="5292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Un abr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FFC7-4E52-43B1-B864-E9229E814A53}" type="datetime3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29 de julio de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Y son las </a:t>
            </a:r>
            <a:fld id="{14EE0CA6-4077-47D1-9D65-E39A324EBF66}" type="datetime10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07:22</a:t>
            </a:fld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2920" y="2492280"/>
            <a:ext cx="70581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66"/>
                </a:solidFill>
                <a:latin typeface="Impact"/>
              </a:rPr>
              <a:t>Que DIOS, los bendiga a todo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66"/>
              </a:solidFill>
              <a:latin typeface="Impact"/>
              <a:ea typeface="Impact"/>
            </a:endParaRPr>
          </a:p>
        </p:txBody>
      </p:sp>
    </p:spTree>
  </p:cSld>
  <p:transition spd="slow" advTm="18000">
    <p:diamond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62" t="2661" r="1962" b="3424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6880" y="260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2880" y="5373000"/>
            <a:ext cx="379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ff"/>
                </a:solidFill>
                <a:latin typeface="Arial"/>
              </a:rPr>
              <a:t>Te doy gracias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1 0.04526 0.011 0.08653 0.028 0.11315 C 0.028 0.11448 0.055 0.15042 0.055 0.14909 C 0.07 0.16906 0.079 0.19701 0.079 0.2263 C 0.079 0.28487 0.044 0.33146 0 0.33279 C -0.044 0.33146 -0.079 0.28487 -0.079 0.2263 C -0.079 0.19701 -0.07 0.16906 -0.055 0.14909 C -0.055 0.15042 -0.028 0.11448 -0.028 0.11315 C -0.011 0.08653 -0.001 0.04526 0 0 Z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9440" y="2811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REMERH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5240" y="5949360"/>
            <a:ext cx="44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 las noches y los dÍas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744" t="3796" r="1962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720" y="2080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HAM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6520" y="-360"/>
            <a:ext cx="568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con los que das c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tu sola presencia vida a mi vida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0420" t="6945" r="5121" b="905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0160" y="333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ÓPERA, SYD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4680" y="5229000"/>
            <a:ext cx="67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, por el alimento seguro que nunca 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ha faltado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742" t="3797" r="2742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0160" y="260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3240" y="549000"/>
            <a:ext cx="814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 haber llegado al final de cada día a repa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mis fuer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en mi lecho,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3541" t="7318" r="3541" b="59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3800" y="26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UDA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5080" y="602064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en mi hogar...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961" t="2756" r="1961" b="0"/>
          <a:stretch/>
        </p:blipFill>
        <p:spPr>
          <a:xfrm>
            <a:off x="0" y="0"/>
            <a:ext cx="9325080" cy="694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5440" y="189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OL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5600" y="332640"/>
            <a:ext cx="54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Y darte gracias por sobre todo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961" t="1042" r="1961" b="2757"/>
          <a:stretch/>
        </p:blipFill>
        <p:spPr>
          <a:xfrm>
            <a:off x="0" y="-9360"/>
            <a:ext cx="9325080" cy="7038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0720" y="333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IG BEN, LON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6320" y="5911560"/>
            <a:ext cx="652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Señ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"/>
              </a:rPr>
              <a:t>por haberme regalado un día, la vida.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2:06:54Z</dcterms:created>
  <dc:creator>mayita</dc:creator>
  <dc:description>Automatico. Fondo musical: Fascinación, canta Nat King Cole</dc:description>
  <dc:language>en-US</dc:language>
  <cp:lastModifiedBy>mayita</cp:lastModifiedBy>
  <dcterms:modified xsi:type="dcterms:W3CDTF">2008-01-26T22:39:30Z</dcterms:modified>
  <cp:revision>2</cp:revision>
  <dc:subject/>
  <dc:title>Diapositiva 1</dc:title>
</cp:coreProperties>
</file>