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989-789C-4DEE-98F7-FDE4DE57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DE6A-70DC-45C4-80D5-9173F5D6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017-E609-496A-A940-3A5ECB84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E09D-C07A-4CAF-8F7F-82364F05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8447-CB7E-4244-9ADD-54689997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8BF-CECD-4AF4-B509-8F4E0E06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E33-C590-47CE-B34B-242BE0A5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BEC7-5054-4F56-83F0-023A1095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CB92-8105-4CD4-A5C6-6718F3C3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632-0F35-49D5-B2CF-D4B7523D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5CD-1AAD-4B23-AA7A-67571135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95E-56F7-46AB-857F-C6283188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0A36-109F-49D7-8BAA-EE2FB8645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0920" y="692280"/>
            <a:ext cx="8064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 tarde a las 16.50 horas en el Zoo de Madrid, un varón de 1.70, moreno, 50 años, caía al foso de los leon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ando estaba a punto de ser atacado, saltó un joven al foso,  varón, 1.82, caucásico, moreno, 35 años y con gran audacia rescata a la persona en peligro, sin sufrir heridas de consider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 persona fue posteriormente felicitada por los viandantes y entrevistada posteriormente por un equipo de report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692280"/>
            <a:ext cx="806436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trevista en diario A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Hola buenas, ¿qué ha ocurri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Pues que he visto como caía ese  señor al foso y cuando he visto que no podía salir me he lanzado a  salvarl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Vaya, desde luego eres un héroe, ¿tú eres de Madrid, 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ues no, yo soy de Bilbo y estoy aquí de visita turística, sin 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Pero tu familia es de aquí, ¿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ues no, son Vascos y todos viven en Euskadi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692280"/>
            <a:ext cx="806436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C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eno a pesar de eso estarás a favor de una España común de todos, unida, fraternal... ¿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, no!, yo estoy a favor de la patria vasca y de la independencia de  Euska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C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mm... bien vale.... adió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050920" y="465300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340000" y="0"/>
            <a:ext cx="4838760" cy="6858000"/>
            <a:chOff x="2340000" y="0"/>
            <a:chExt cx="4838760" cy="685800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2340000" y="0"/>
              <a:ext cx="48387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395440" y="4653000"/>
              <a:ext cx="3816360" cy="13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Rounded MT Bold"/>
                </a:rPr>
                <a:t>Joven de la Izquierda radical vasca, roba la comida al león imperial del Zoo de Madri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669" t="37047" r="25431" b="30424"/>
            <a:stretch/>
          </p:blipFill>
          <p:spPr>
            <a:xfrm>
              <a:off x="2365200" y="2349360"/>
              <a:ext cx="3864240" cy="2303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1:14:31Z</dcterms:created>
  <dc:creator>admin</dc:creator>
  <dc:description/>
  <dc:language>en-US</dc:language>
  <cp:lastModifiedBy>Eulogio González Olaizola</cp:lastModifiedBy>
  <dcterms:modified xsi:type="dcterms:W3CDTF">2009-01-10T11:33:09Z</dcterms:modified>
  <cp:revision>7</cp:revision>
  <dc:subject/>
  <dc:title>Diapositiva 1</dc:title>
</cp:coreProperties>
</file>