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D61D-3F9D-4986-AC0C-693969A7D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4CF6-E267-483B-BEE6-4876B9840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DC18-6CA4-4C06-A909-775AA342E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C8CE-3EDC-4210-9EBC-CFBABC99A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A0FE-3266-4757-9CF2-79202C250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85C1-7C00-47B4-BDCA-A466EF20C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E2D5-ECE3-4A92-91E5-EBE6AC21F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FD10-BDCE-4065-A844-907EC4C87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3C57-AF69-40C6-8D06-A45C5F9D1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D162-41A8-4336-A3CB-50B30B16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91CC-8031-4552-B57C-76C6F8DE0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9F19-2B1C-496F-8CA9-1D0456C8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DA8C3-7D4A-443D-AA62-1E63A2D91A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10920" y="692280"/>
            <a:ext cx="806436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ta tarde a las 16.50 horas en el Zoo de Madrid, un varón de 1.70, moreno, 50 años, caía al foso de los leone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uando estaba a punto de ser atacado, saltó un joven al foso,  varón, 1.82, caucásico, moreno, 35 años y con gran audacia rescata a la persona en peligro, sin sufrir heridas de considera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ta persona fue posteriormente felicitada por los viandantes y entrevistada posteriormente por un equipo de reporte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11280" y="692280"/>
            <a:ext cx="8064360" cy="56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ntrevista en diario A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ABC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 Hola buenas, ¿qué ha ocurri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- Pues que he visto como caía ese  señor al foso y cuando he visto que no podía salir me he lanzado a  salvarlo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ABC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 Vaya, desde luego eres un héroe, ¿tú eres de Madrid, n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ues no, yo soy de Bilbo y estoy aquí de visita turística, sin 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ABC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 Pero tu familia es de aquí, ¿n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ues no, son Vascos y todos viven en Euskadi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11280" y="692280"/>
            <a:ext cx="8064360" cy="56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C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eno a pesar de eso estarás a favor de una España común de todos, unida, fraternal... ¿n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, no!, yo estoy a favor de la patria vasca y de la independencia de  Euskad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C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ummm... bien vale.... adió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050920" y="4653000"/>
            <a:ext cx="396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340000" y="0"/>
            <a:ext cx="4838760" cy="6858000"/>
            <a:chOff x="2340000" y="0"/>
            <a:chExt cx="4838760" cy="6858000"/>
          </a:xfrm>
        </p:grpSpPr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2340000" y="0"/>
              <a:ext cx="48387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2395440" y="4653000"/>
              <a:ext cx="3816360" cy="131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 Rounded MT Bold"/>
                </a:rPr>
                <a:t>Joven de la Izquierda radical vasca, roba la comida al león imperial del Zoo de Madrid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rcRect l="5669" t="37047" r="25431" b="30424"/>
            <a:stretch/>
          </p:blipFill>
          <p:spPr>
            <a:xfrm>
              <a:off x="2365200" y="2349360"/>
              <a:ext cx="3864240" cy="2303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5T11:14:31Z</dcterms:created>
  <dc:creator>admin</dc:creator>
  <dc:description/>
  <dc:language>en-US</dc:language>
  <cp:lastModifiedBy>Eulogio González Olaizola</cp:lastModifiedBy>
  <dcterms:modified xsi:type="dcterms:W3CDTF">2009-01-10T11:33:09Z</dcterms:modified>
  <cp:revision>7</cp:revision>
  <dc:subject/>
  <dc:title>Diapositiva 1</dc:title>
</cp:coreProperties>
</file>