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16C-E0A8-420C-B393-80EF14DA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5EF-E3B0-44F1-B3E7-CD85BDAC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D50-DFE5-495A-A16A-E0F808F0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8B2-AAA5-4AC5-95DC-A62171D1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D9D-5877-47A5-A8FF-2858D7B5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908-8A4E-44D5-9D19-29E1E410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C1D-4760-4EF1-AF33-667D83FE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8F8-FDBD-4FE5-8A05-5D7862DB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E0E-501E-4059-BE81-E0D61915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5BC-742A-4DEC-86EF-0F8BC59B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DF5-E1AD-4DE3-B8A2-A0ABA78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6C5-9640-4724-8046-8934ECF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E0B1-E242-40A4-B8A8-6265EF436FD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ffffff"/>
                </a:solidFill>
                <a:latin typeface="Comic Sans MS"/>
              </a:rPr>
              <a:t>Atención Mujeres :</a:t>
            </a:r>
            <a:br>
              <a:rPr sz="15000"/>
            </a:b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8. Podés sentarte a ver un partido conmigo y podrás hablarme, pero sólo durante los comerciales del medio tiempo. No se te ocurra hacer cualquier comentario técnico, tampoco abusés. No te expongás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9. Las repeticiones de los goles son muy, muy importantes. No importa si ya los vi antes, o si me los sé de memoria. Los quiero ver de nuevo, muchas, muchas, muchas veces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10. Que no se le ocurra a ninguna de tus amiguitas casarse, bautizar, enfermarse, organizar reuniones o cenas, y menos visitarnos; menos aún los días de semifinales y JAMAS el día de la final porque a ) no iré, b ) no iré y c ) no ir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11. Sin embargo, si un amigo nos invita a ver el fútbol, ¡qué maravillosa invitación! Iremos sin dudarlo. No importa si nos llama a último minuto. Ah! Y si no te alistás a tiempo, te quedás...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12. - Los resúmenes de los partidos, durante la noche son tan importantes como los juegos mismos; no se te ocurra decir "pero si eso ya lo viste, ¿por qué no cambias?" ni "¿No te aburre ver a cada rato lo mismo?"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13. Para el día de la inauguración y el de la final; deberás de preparar una comida súper especial, comprar cerveza y mandar el bebe a casa de tu madre (no importa que tenga 15 días de nacido). Tú deberás quedarte en casa para servir los bocaditos y abrir las cervez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28600" y="106668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14 Finalmente, ahorráte expresiones como "¡qué bueno que el Mundial es cada 4 años!", "Felizmente que sólo dura un mes". Estoy inmunizado contra palabras necias. Y por si no lo sabés, enteráte: también hay Champions League, Copa Libertadores, Copa Sudamericana, Liga Italiana, Liga Española, Premier League, y luego eliminatorias para el próximo Mundial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37160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LÉASE Y CÚMPL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PEGAR EN EL REFRIGERADOR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533520" y="1295280"/>
            <a:ext cx="82375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Si te ha gusta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nvía este humilde mensaje a un am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Para que se entere su esposita y 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omunique a todas sus ami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Fanáticas del futbo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Se comunica que a partir del 9 de Junio al 9 de Julio del presente (tiempo de duración del Mundial de Fútbol África 2010); deberán tomar en cuenta lo siguiente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r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1. Comprar todos los días antes de las 8:30 a.m. lo del mercado y  el súper, para no interrumpir en lo mejor del partido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2. Leer la sección deportiva para que tengamos tema de conversación; si no lo hacés, no te extrañeés que no te hable durante un mes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3. Durante el mes entero la tele es mía, a todas horas, sin excepción. El control, ni lo miré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4. Si tenés que pasar frente a la tele durante un partido, podés hacerlo, siempre que sea gateando y sin distraer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5800" y="2133720"/>
            <a:ext cx="7620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5. Durante los partidos soy sordo y ciego. No esperés que te atienda, escuche, mire, abra la puerta, conteste el teléfono, vea al niño que se cayó del segundo piso, salude a tu madre, haga las compras, apague el incendio de la cocina, etc. Nada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6. Deberás aprovisionar el refrigerador de cervezas y le sonreirás a mis amigotes que llegan a ver el fútbol. En agradecimiento, te dejaré ver tele de la media noche a las 4 de la mañana, siempre que no haya repeticione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7. Si me ves molesto porque el equipo con el que simpatizo va perdiendo no me digas "no es para tanto" o "el siguiente seguro ganan." Solo harás que me enfade más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23:49:16Z</dcterms:created>
  <dc:creator>Chubaka Producciones INC</dc:creator>
  <dc:description>chubaka.cl@gmail.com</dc:description>
  <cp:keywords>Chubaka.cl@gmail.com</cp:keywords>
  <dc:language>en-US</dc:language>
  <cp:lastModifiedBy>mduron</cp:lastModifiedBy>
  <dcterms:modified xsi:type="dcterms:W3CDTF">2009-11-24T17:53:46Z</dcterms:modified>
  <cp:revision>12</cp:revision>
  <dc:subject>Chubaka Producciones INC</dc:subject>
  <dc:title>Chubaka Producciones INC</dc:title>
</cp:coreProperties>
</file>