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19%20pista%2019.wav" ContentType="audio/x-wav"/>
  <Override PartName="/ppt/media/image23.jpeg" ContentType="image/jpeg"/>
  <Override PartName="/ppt/media/image2.jpeg" ContentType="image/jpeg"/>
  <Override PartName="/ppt/media/image36.jpeg" ContentType="image/jpeg"/>
  <Override PartName="/ppt/media/image3.gif" ContentType="image/gif"/>
  <Override PartName="/ppt/media/image22.jpeg" ContentType="image/jpeg"/>
  <Override PartName="/ppt/media/image1.jpeg" ContentType="image/jpeg"/>
  <Override PartName="/ppt/media/image35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29.jpeg" ContentType="image/jpeg"/>
  <Override PartName="/ppt/media/image1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28.jpeg" ContentType="image/jpeg"/>
  <Override PartName="/ppt/media/image51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0.jpeg" ContentType="image/jpeg"/>
  <Override PartName="/ppt/media/image27.jpeg" ContentType="image/jpeg"/>
  <Override PartName="/ppt/media/image4.gif" ContentType="image/gif"/>
  <Override PartName="/ppt/media/image3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25C2-CD65-481A-9E9A-FFACE7023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E5CB-9EBF-42C7-BC1F-EB768815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F123-B525-4325-A3E8-8700E0519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AC2A-589E-400B-94FD-27A91D3D8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C420-39EA-4DD2-B44C-76F1FDD9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0826-4850-4E54-A0F0-ADDA36D5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CE6B-E2BC-4BD8-A75A-4C66B051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75D2-C827-4EEA-8ECA-A803639C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C954-FFBA-4547-AE27-5176442E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1214-733C-4436-8C24-6DBE1991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2F04-B60B-49B0-AB16-9E14F8F0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3A9A-8824-4F42-9D8C-98394557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E69C-FA6E-4E91-828F-7243F4AD4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19%20pista%2019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1714320 h 6858000"/>
              <a:gd name="textAreaBottom" fmla="*/ 514368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5400" y="5400"/>
                </a:moveTo>
                <a:lnTo>
                  <a:pt x="5400" y="16200"/>
                </a:lnTo>
                <a:lnTo>
                  <a:pt x="23400" y="16200"/>
                </a:lnTo>
                <a:lnTo>
                  <a:pt x="23400" y="54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8"/>
          <p:cNvSpPr txBox="1"/>
          <p:nvPr/>
        </p:nvSpPr>
        <p:spPr>
          <a:xfrm>
            <a:off x="2411280" y="1989000"/>
            <a:ext cx="4319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Harlow Solid Italic"/>
              </a:rPr>
              <a:t>Córdoba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Harlow Solid Italic"/>
              <a:ea typeface="Harlow Solid Italic"/>
            </a:endParaRPr>
          </a:p>
        </p:txBody>
      </p:sp>
      <p:sp>
        <p:nvSpPr>
          <p:cNvPr id="43" name="WordArt 9"/>
          <p:cNvSpPr txBox="1"/>
          <p:nvPr/>
        </p:nvSpPr>
        <p:spPr>
          <a:xfrm>
            <a:off x="4284720" y="3789360"/>
            <a:ext cx="2333520" cy="10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Harlow Solid Italic"/>
              </a:rPr>
              <a:t>España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Harlow Solid Italic"/>
              <a:ea typeface="Harlow Solid Italic"/>
            </a:endParaRPr>
          </a:p>
        </p:txBody>
      </p:sp>
    </p:spTree>
  </p:cSld>
  <p:transition spd="slow">
    <p:push dir="u"/>
    <p:sndAc>
      <p:stSnd>
        <p:snd r:embed="rId2" name="19%20pista%2019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CASAS DE BARRIO DE SAN BASILI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-180720" y="6165720"/>
            <a:ext cx="41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Casas del Barrio San Basi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PATIO INTERIOR DE UNA DE LAS CASAS DE SAN BASILIO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188640" y="106200"/>
            <a:ext cx="267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Patio cordob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De las casas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Barrio San basi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PATIO INTERIOR DE UNA DE LAS CASAS DE SAN BASILI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4929120" y="593892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Otro p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untitl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PATIO DE UNA DE LAS CASAS DE SAN BASILI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6257520" y="5578560"/>
            <a:ext cx="25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Patio y escal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PATIO CORDOBES DEL BARRIO SAN BASILI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P%C3%B3rtico_de_Medina_Azahara_PÓRTICO DE MEDINA AZAHARA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1001160" y="6226200"/>
            <a:ext cx="40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Harlow Solid Italic"/>
              </a:rPr>
              <a:t>Pórtico de Medina Azah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MEDINA AZAHARA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958320" y="3492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Harlow Solid Italic"/>
              </a:rPr>
              <a:t>Medina Azah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PORTADA DE LA CASA DEL YAFAR EN MEDINA AZAHAR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-33480" y="0"/>
            <a:ext cx="40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Harlow Solid Italic"/>
              </a:rPr>
              <a:t>Portada de la casa de Ya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Harlow Solid Italic"/>
              </a:rPr>
              <a:t>En Medina Azah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ATIO INTERIOR DEL ALCAZR DE LOS REYES CRISTIANOS"/>
          <p:cNvPicPr/>
          <p:nvPr/>
        </p:nvPicPr>
        <p:blipFill>
          <a:blip r:embed="rId1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158760" y="6299280"/>
            <a:ext cx="89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El Alcázar de los Reyes Católicos – Patio in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1714320 h 6858000"/>
              <a:gd name="textAreaBottom" fmla="*/ 514368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5400" y="5400"/>
                </a:moveTo>
                <a:lnTo>
                  <a:pt x="5400" y="16200"/>
                </a:lnTo>
                <a:lnTo>
                  <a:pt x="23400" y="16200"/>
                </a:lnTo>
                <a:lnTo>
                  <a:pt x="23400" y="54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1979640" y="2060640"/>
            <a:ext cx="518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Fondo mus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Avance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arlow Solid Italic"/>
              </a:rPr>
              <a:t>Beatr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Present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Junín (B) - 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8"/>
          <p:cNvGrpSpPr/>
          <p:nvPr/>
        </p:nvGrpSpPr>
        <p:grpSpPr>
          <a:xfrm>
            <a:off x="3498840" y="2773080"/>
            <a:ext cx="2149920" cy="995400"/>
            <a:chOff x="3498840" y="2773080"/>
            <a:chExt cx="2149920" cy="995400"/>
          </a:xfrm>
        </p:grpSpPr>
        <p:pic>
          <p:nvPicPr>
            <p:cNvPr id="47" name="Picture 9" descr="espania"/>
            <p:cNvPicPr/>
            <p:nvPr/>
          </p:nvPicPr>
          <p:blipFill>
            <a:blip r:embed="rId2"/>
            <a:stretch/>
          </p:blipFill>
          <p:spPr>
            <a:xfrm rot="816000">
              <a:off x="4498560" y="2936880"/>
              <a:ext cx="108108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10" descr="arg-f"/>
            <p:cNvPicPr/>
            <p:nvPr/>
          </p:nvPicPr>
          <p:blipFill>
            <a:blip r:embed="rId3"/>
            <a:stretch/>
          </p:blipFill>
          <p:spPr>
            <a:xfrm flipH="1" rot="20961600">
              <a:off x="3563640" y="2852280"/>
              <a:ext cx="936360" cy="792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JARDINES DEL ALCAZAR DE LOS REYES CATOLICOS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1133640" y="0"/>
            <a:ext cx="61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Harlow Solid Italic"/>
              </a:rPr>
              <a:t>El Alcázar de los Reyes Católicos - Jard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JARDINES DEL ALCAZAR DE LOS REYES CATOLICOS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JARDINES DEL ALCAZAR DE LOS REYES CATOLICO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JARDINES DEL ALCAZAR DE LOS REUYES CATOLICOS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ALCAZAR_JARDINES_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-404640" y="260280"/>
            <a:ext cx="611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Harlow Solid Italic"/>
              </a:rPr>
              <a:t>El Alcázar de los Reyes Catól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Harlow Solid Italic"/>
              </a:rPr>
              <a:t>Escultura de Colon y los reyes en el Jard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PASEO DE LA VICTOR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1072440" y="640080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Paseo de La Vic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MAUSOLEO ROMANO EN EL PASEO DE LA VICTORIA"/>
          <p:cNvPicPr/>
          <p:nvPr/>
        </p:nvPicPr>
        <p:blipFill>
          <a:blip r:embed="rId1"/>
          <a:stretch/>
        </p:blipFill>
        <p:spPr>
          <a:xfrm>
            <a:off x="0" y="0"/>
            <a:ext cx="9144000" cy="60688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0" y="6237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Paseo de La Victoria – Mausoleo ro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PASEO DE CORDOB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664920" y="616572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Harlow Solid Italic"/>
              </a:rPr>
              <a:t>Paseo de Córdo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PARROQUIA NTRA SR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4847400" y="106200"/>
            <a:ext cx="440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Parroquia Ntra. Sra. De la P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18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Parque_de_Miraflor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605520" y="565164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Harlow Solid Italic"/>
              </a:rPr>
              <a:t>Parque de Miraf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1714320 h 6858000"/>
              <a:gd name="textAreaBottom" fmla="*/ 514368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5400" y="5400"/>
                </a:moveTo>
                <a:lnTo>
                  <a:pt x="5400" y="16200"/>
                </a:lnTo>
                <a:lnTo>
                  <a:pt x="23400" y="16200"/>
                </a:lnTo>
                <a:lnTo>
                  <a:pt x="23400" y="54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979640" y="1916280"/>
            <a:ext cx="518472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Harlow Solid Italic"/>
              </a:rPr>
              <a:t>Es Córdoba, con todo lo que se ha hablado de ella y lo apreciada que es en el mundo entero, una sorpresa aún mayor cuando se conoce su pasado. Quizás no todos sepan que en el s. XI contaba con ser la mayor y más culta capital de Europa; en ella convivieron en perfecta armonía judíos, musulmanes y cristianos. Fue cuna de filósofos, científicos, artistas y sabios, y en ella se forjaron pilares del saber que hoy ni sabemos de dónde procedier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PARQUE JUAN CARLO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2386800" y="333360"/>
            <a:ext cx="24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Harlow Solid Italic"/>
              </a:rPr>
              <a:t>Parque Juan Car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PARQUE JUAN CARLOS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402120" y="6299280"/>
            <a:ext cx="29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Parque Juan Car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MURALLAS ALMENADAS Y LA TORRE DEL HOMENAJ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-406440" y="6400800"/>
            <a:ext cx="656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Murallas almenadas y la Torre del Homen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MONUMENTO AL GRAN CAPITAN EN LA PLAZA DE LAS TENDILLA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0" y="60213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Harlow Solid Italic"/>
              </a:rPr>
              <a:t>Monumento al Gran Capitán – Plaza de las Tendi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MONUMENTO AL CALIFA ALHAKEM I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0" y="3357720"/>
            <a:ext cx="314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Harlow Solid Italic"/>
              </a:rPr>
              <a:t>Monumento 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Harlow Solid Italic"/>
              </a:rPr>
              <a:t>Califa Alhankem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MONUMENTO A LOS ENAMORADOS DEDICADO AL POETA IBM ZAYDUN Y LA PRINCESA ARABE VALAD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-209520" y="5715000"/>
            <a:ext cx="935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Harlow Solid Italic"/>
              </a:rPr>
              <a:t>Monumento a los enamo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Harlow Solid Italic"/>
              </a:rPr>
              <a:t>Dedicado al poeta Ibén  Zaydum y la princesa árabe Val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MEZQUITA%20CORDOBA%2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0" y="6083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Mezquita-Catedral de Córdo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untitled"/>
          <p:cNvPicPr/>
          <p:nvPr/>
        </p:nvPicPr>
        <p:blipFill>
          <a:blip r:embed="rId1"/>
          <a:stretch/>
        </p:blipFill>
        <p:spPr>
          <a:xfrm>
            <a:off x="0" y="0"/>
            <a:ext cx="9058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MEZQUITA%20CORDOBA%201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-105840" y="6267600"/>
            <a:ext cx="545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arlow Solid Italic"/>
              </a:rPr>
              <a:t>Interior de la Mezquita-Catedral de Córdo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IGLESIA SANTA MARINA DE LAS AGUAS SANTAS"/>
          <p:cNvPicPr/>
          <p:nvPr/>
        </p:nvPicPr>
        <p:blipFill>
          <a:blip r:embed="rId1"/>
          <a:stretch/>
        </p:blipFill>
        <p:spPr>
          <a:xfrm>
            <a:off x="0" y="0"/>
            <a:ext cx="531324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5617800" y="2852640"/>
            <a:ext cx="30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Iglesia Santa Mar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De las Aguas Sa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5292720" y="0"/>
            <a:ext cx="0" cy="685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VENTANAS DEL RECTORADO DE LA UNIVERSIDAD DE CORDOB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803880" y="16812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arlow Solid Italic"/>
              </a:rPr>
              <a:t>Ventanas del Recto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arlow Solid Italic"/>
              </a:rPr>
              <a:t>de la Universidad de Córd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FUENTE DE LOS JARDINES DE COLON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0" y="6226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Harlow Solid Italic"/>
              </a:rPr>
              <a:t>Fuente de los Jardines de Co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FRENTE DE LA REAL COLEGIATA DE SAN HIPOLI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3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Frente de la Real Colegiata de San Hipól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FIESTA DE LA CRUS DE MAYO EN LA PLAZA DE LAS TENDILLA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Harlow Solid Italic"/>
              </a:rPr>
              <a:t>Fiesta de La Cruz de Mayo en la Plaza de Las Tendi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FIESTA DE LA CRUZ DE MAYO EN LA PLAZA DE LAS TENDILLA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CALLE DE LA JUDERIA NJU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LA JUDERIA"/>
          <p:cNvPicPr/>
          <p:nvPr/>
        </p:nvPicPr>
        <p:blipFill>
          <a:blip r:embed="rId2"/>
          <a:stretch/>
        </p:blipFill>
        <p:spPr>
          <a:xfrm>
            <a:off x="4357800" y="0"/>
            <a:ext cx="47862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La Jude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ALLEJAS DE LAS FLORES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5219640" y="284328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Calleja de las f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5148360" y="0"/>
            <a:ext cx="0" cy="685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PUENTE ROMANO"/>
          <p:cNvPicPr/>
          <p:nvPr/>
        </p:nvPicPr>
        <p:blipFill>
          <a:blip r:embed="rId1"/>
          <a:stretch/>
        </p:blipFill>
        <p:spPr>
          <a:xfrm>
            <a:off x="0" y="0"/>
            <a:ext cx="9144000" cy="63579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0" y="6370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Puente Ro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FORTALEZA ARABE QUE PROTEGIA LA ENTRADA AL PUENTE ROMAN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0" y="585792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Fortaleza árabe que protegía la entrada al Puente Ro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PUERTA DE ALMODOVAR Y ESTATUA DE SÉNECACVB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5148360" y="2482920"/>
            <a:ext cx="39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Puerta de Almodó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Estatua de Séne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5148360" y="0"/>
            <a:ext cx="0" cy="685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MONUMENTO A MANOLE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1617840" y="6299280"/>
            <a:ext cx="3641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Monumento a Mano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1714320 h 6858000"/>
              <a:gd name="textAreaBottom" fmla="*/ 514368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5400" y="5400"/>
                </a:moveTo>
                <a:lnTo>
                  <a:pt x="5400" y="16200"/>
                </a:lnTo>
                <a:lnTo>
                  <a:pt x="23400" y="16200"/>
                </a:lnTo>
                <a:lnTo>
                  <a:pt x="23400" y="54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2050920" y="1916280"/>
            <a:ext cx="5015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arlow Solid Italic"/>
              </a:rPr>
              <a:t>En Córdoba impresiona la Mezquita, como síntesis cultural y como uno de los más excepcionales monumentos del mundo. Embrujan sus bellos patios, profusamente decorados de flores, y nos hacen soñar sus atardeceres lánguidos y rosados en el silencio de sus pintorescas callejuel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1714320 h 6858000"/>
              <a:gd name="textAreaBottom" fmla="*/ 514368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5400" y="5400"/>
                </a:moveTo>
                <a:lnTo>
                  <a:pt x="5400" y="16200"/>
                </a:lnTo>
                <a:lnTo>
                  <a:pt x="23400" y="16200"/>
                </a:lnTo>
                <a:lnTo>
                  <a:pt x="23400" y="54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3132000" y="2060640"/>
            <a:ext cx="28576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Harlow Solid Italic"/>
              </a:rPr>
              <a:t>Beatriz Presentaciones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Harlow Solid Italic"/>
              <a:ea typeface="Harlow Solid Ital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Harlow Solid Italic"/>
              </a:rPr>
              <a:t>Junín (B) - Argentina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Harlow Solid Italic"/>
              <a:ea typeface="Harlow Solid Italic"/>
            </a:endParaRPr>
          </a:p>
        </p:txBody>
      </p:sp>
      <p:sp>
        <p:nvSpPr>
          <p:cNvPr id="143" name="WordArt 7"/>
          <p:cNvSpPr txBox="1"/>
          <p:nvPr/>
        </p:nvSpPr>
        <p:spPr>
          <a:xfrm>
            <a:off x="3276720" y="3933720"/>
            <a:ext cx="216036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Harlow Solid Italic"/>
              </a:rPr>
              <a:t>Fin</a:t>
            </a:r>
            <a:endParaRPr b="0" lang="en-US" sz="66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Harlow Solid Italic"/>
              <a:ea typeface="Harlow Solid Italic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3427200" y="2917800"/>
            <a:ext cx="2149920" cy="995400"/>
            <a:chOff x="3427200" y="2917800"/>
            <a:chExt cx="2149920" cy="995400"/>
          </a:xfrm>
        </p:grpSpPr>
        <p:pic>
          <p:nvPicPr>
            <p:cNvPr id="145" name="Picture 9" descr="espania"/>
            <p:cNvPicPr/>
            <p:nvPr/>
          </p:nvPicPr>
          <p:blipFill>
            <a:blip r:embed="rId2"/>
            <a:stretch/>
          </p:blipFill>
          <p:spPr>
            <a:xfrm rot="816000">
              <a:off x="4426920" y="3081600"/>
              <a:ext cx="108108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10" descr="arg-f"/>
            <p:cNvPicPr/>
            <p:nvPr/>
          </p:nvPicPr>
          <p:blipFill>
            <a:blip r:embed="rId3"/>
            <a:stretch/>
          </p:blipFill>
          <p:spPr>
            <a:xfrm flipH="1" rot="20961600">
              <a:off x="3492000" y="2997000"/>
              <a:ext cx="936360" cy="792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push dir="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PUERTA DE SEVILL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785920" y="25092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rlow Solid Italic"/>
              </a:rPr>
              <a:t>Puerta de Sev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UERTA DE SEVILLA POR DONDE SE ENTRA AL BARRIO DE SAN BASILIO - MONUMENTO ABÉN HAZAM ESCRITOR HISPANO ARABE NACIO EN CORDOB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Harlow Solid Italic"/>
              </a:rPr>
              <a:t>Puerta de Sevilla por donde se entra al barrio San Basil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Harlow Solid Italic"/>
              </a:rPr>
              <a:t>Monumento  a Abén Hazan escritor hispanoárabe nacido en Córdo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UNA CALLE DE SAN BASILIO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2786040" y="60930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Barrio San Basi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UNA CALLE DE SAN BASILIO 1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4000680" y="6165720"/>
            <a:ext cx="39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rlow Solid Italic"/>
              </a:rPr>
              <a:t>Barrio San Basi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02:53:27Z</dcterms:created>
  <dc:creator>Bety</dc:creator>
  <dc:description/>
  <dc:language>en-US</dc:language>
  <cp:lastModifiedBy>Alba</cp:lastModifiedBy>
  <dcterms:modified xsi:type="dcterms:W3CDTF">2009-09-01T16:32:12Z</dcterms:modified>
  <cp:revision>10</cp:revision>
  <dc:subject/>
  <dc:title>Cordoba España</dc:title>
</cp:coreProperties>
</file>