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19%20pista%2019.wav" ContentType="audio/x-wav"/>
  <Override PartName="/ppt/media/image23.jpeg" ContentType="image/jpeg"/>
  <Override PartName="/ppt/media/image2.jpeg" ContentType="image/jpeg"/>
  <Override PartName="/ppt/media/image36.jpeg" ContentType="image/jpeg"/>
  <Override PartName="/ppt/media/image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4.gif" ContentType="image/gif"/>
  <Override PartName="/ppt/media/image3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0F7-00FE-43E6-8561-75C6F4A6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981-A8C4-49E9-B55A-ACE409E1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8EE-3EE4-4415-9201-0024AAC6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CB5-B128-4C48-B5F1-64EC82CB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CC1-63F5-480C-8905-3E4B9032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037-A33C-4835-97B5-C21FC513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5AF-0837-4546-B6BD-0AF686ED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B1F-4110-46AB-A943-BD50B724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C16-2424-45BB-83D1-AC947162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89F-2A80-4F5C-8E62-E0466EB6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8B5-D026-4308-9573-2608DECA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28C-FB76-4BD7-ADF9-6ED746F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7F98-8F49-4B6E-9BBA-318DEE469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9%20pista%2019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714320 h 6858000"/>
              <a:gd name="textAreaBottom" fmla="*/ 514368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3400" y="16200"/>
                </a:lnTo>
                <a:lnTo>
                  <a:pt x="23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2411280" y="1989000"/>
            <a:ext cx="431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arlow Solid Italic"/>
              </a:rPr>
              <a:t>Córdoba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4284720" y="3789360"/>
            <a:ext cx="233352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arlow Solid Italic"/>
              </a:rPr>
              <a:t>España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p:transition spd="slow">
    <p:push dir="u"/>
    <p:sndAc>
      <p:stSnd>
        <p:snd r:embed="rId2" name="19%20pista%201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CASAS DE BARRIO DE SAN BASILI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-180720" y="616572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Casas del Barrio San Basi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ATIO INTERIOR DE UNA DE LAS CASAS DE SAN BASILIO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88640" y="106200"/>
            <a:ext cx="26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atio cordob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De las casas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Barrio San basi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ATIO INTERIOR DE UNA DE LAS CASAS DE SAN BASILI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4929120" y="593892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Otro p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ATIO DE UNA DE LAS CASAS DE SAN BASILI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257520" y="557856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atio y escal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ATIO CORDOBES DEL BARRIO SAN BASILI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%C3%B3rtico_de_Medina_Azahara_PÓRTICO DE MEDINA AZAHA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001160" y="622620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Harlow Solid Italic"/>
              </a:rPr>
              <a:t>Pórtico de Medina Azah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MEDINA AZAHARA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958320" y="34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Harlow Solid Italic"/>
              </a:rPr>
              <a:t>Medina Azah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ORTADA DE LA CASA DEL YAFAR EN MEDINA AZAHA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-33480" y="0"/>
            <a:ext cx="40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Harlow Solid Italic"/>
              </a:rPr>
              <a:t>Portada de la casa de Ya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Harlow Solid Italic"/>
              </a:rPr>
              <a:t>En Medina Azah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ATIO INTERIOR DEL ALCAZR DE LOS REYES CRISTIANOS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58760" y="629928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El Alcázar de los Reyes Católicos – Patio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714320 h 6858000"/>
              <a:gd name="textAreaBottom" fmla="*/ 514368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3400" y="16200"/>
                </a:lnTo>
                <a:lnTo>
                  <a:pt x="23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979640" y="2060640"/>
            <a:ext cx="51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Fondo mu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Avance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arlow Solid Italic"/>
              </a:rPr>
              <a:t>Beatr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Junín (B) -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3498840" y="2773080"/>
            <a:ext cx="2149920" cy="995400"/>
            <a:chOff x="3498840" y="2773080"/>
            <a:chExt cx="2149920" cy="995400"/>
          </a:xfrm>
        </p:grpSpPr>
        <p:pic>
          <p:nvPicPr>
            <p:cNvPr id="47" name="Picture 9" descr="espania"/>
            <p:cNvPicPr/>
            <p:nvPr/>
          </p:nvPicPr>
          <p:blipFill>
            <a:blip r:embed="rId2"/>
            <a:stretch/>
          </p:blipFill>
          <p:spPr>
            <a:xfrm rot="816000">
              <a:off x="4498560" y="2936880"/>
              <a:ext cx="10810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0" descr="arg-f"/>
            <p:cNvPicPr/>
            <p:nvPr/>
          </p:nvPicPr>
          <p:blipFill>
            <a:blip r:embed="rId3"/>
            <a:stretch/>
          </p:blipFill>
          <p:spPr>
            <a:xfrm flipH="1" rot="20961600">
              <a:off x="3563640" y="2852280"/>
              <a:ext cx="936360" cy="792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JARDINES DEL ALCAZAR DE LOS REYES CATOLICOS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133640" y="0"/>
            <a:ext cx="61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arlow Solid Italic"/>
              </a:rPr>
              <a:t>El Alcázar de los Reyes Católicos - Jard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JARDINES DEL ALCAZAR DE LOS REYES CATOLICOS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JARDINES DEL ALCAZAR DE LOS REYES CATOLIC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JARDINES DEL ALCAZAR DE LOS REUYES CATOLICOS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ALCAZAR_JARDINES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-404640" y="260280"/>
            <a:ext cx="611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arlow Solid Italic"/>
              </a:rPr>
              <a:t>El Alcázar de los Reyes Cató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arlow Solid Italic"/>
              </a:rPr>
              <a:t>Escultura de Colon y los reyes en el Jard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PASEO DE LA VICTOR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072440" y="64008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aseo de La Vic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MAUSOLEO ROMANO EN EL PASEO DE LA VICTORIA"/>
          <p:cNvPicPr/>
          <p:nvPr/>
        </p:nvPicPr>
        <p:blipFill>
          <a:blip r:embed="rId1"/>
          <a:stretch/>
        </p:blipFill>
        <p:spPr>
          <a:xfrm>
            <a:off x="0" y="0"/>
            <a:ext cx="9144000" cy="6068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623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aseo de La Victoria – Mausoleo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ASEO DE CORDOB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664920" y="616572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arlow Solid Italic"/>
              </a:rPr>
              <a:t>Paseo de Cór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ARROQUIA NTRA S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847400" y="106200"/>
            <a:ext cx="44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arroquia Ntra. Sra. De la 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18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Parque_de_Miraflor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605520" y="565164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Parque de Mira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714320 h 6858000"/>
              <a:gd name="textAreaBottom" fmla="*/ 514368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3400" y="16200"/>
                </a:lnTo>
                <a:lnTo>
                  <a:pt x="23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979640" y="1916280"/>
            <a:ext cx="51847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arlow Solid Italic"/>
              </a:rPr>
              <a:t>Es Córdoba, con todo lo que se ha hablado de ella y lo apreciada que es en el mundo entero, una sorpresa aún mayor cuando se conoce su pasado. Quizás no todos sepan que en el s. XI contaba con ser la mayor y más culta capital de Europa; en ella convivieron en perfecta armonía judíos, musulmanes y cristianos. Fue cuna de filósofos, científicos, artistas y sabios, y en ella se forjaron pilares del saber que hoy ni sabemos de dónde procedier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ARQUE JUAN CARL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386800" y="33336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arlow Solid Italic"/>
              </a:rPr>
              <a:t>Parque Juan Car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ARQUE JUAN CARLOS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02120" y="629928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arque Juan Car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MURALLAS ALMENADAS Y LA TORRE DEL HOMENAJ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-406440" y="6400800"/>
            <a:ext cx="65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Murallas almenadas y la Torre del Homen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MONUMENTO AL GRAN CAPITAN EN LA PLAZA DE LAS TENDILL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6021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Monumento al Gran Capitán – Plaza de las Tend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ONUMENTO AL CALIFA ALHAKEM 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335772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Monumento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Califa Alhankem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ONUMENTO A LOS ENAMORADOS DEDICADO AL POETA IBM ZAYDUN Y LA PRINCESA ARABE VALA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-209520" y="5715000"/>
            <a:ext cx="935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Monumento a los enamo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Dedicado al poeta Ibén  Zaydum y la princesa árabe Va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MEZQUITA%20CORDOBA%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0" y="6083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Mezquita-Catedral de Cór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058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MEZQUITA%20CORDOBA%20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-105840" y="6267600"/>
            <a:ext cx="54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arlow Solid Italic"/>
              </a:rPr>
              <a:t>Interior de la Mezquita-Catedral de Cór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IGLESIA SANTA MARINA DE LAS AGUAS SANTAS"/>
          <p:cNvPicPr/>
          <p:nvPr/>
        </p:nvPicPr>
        <p:blipFill>
          <a:blip r:embed="rId1"/>
          <a:stretch/>
        </p:blipFill>
        <p:spPr>
          <a:xfrm>
            <a:off x="0" y="0"/>
            <a:ext cx="53132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5617800" y="2852640"/>
            <a:ext cx="30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Iglesia Santa Ma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De las Aguas S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VENTANAS DEL RECTORADO DE LA UNIVERSIDAD DE CORDOB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803880" y="16812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rlow Solid Italic"/>
              </a:rPr>
              <a:t>Ventanas del Rect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rlow Solid Italic"/>
              </a:rPr>
              <a:t>de la Universidad de Cór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FUENTE DE LOS JARDINES DE COLON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0" y="622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arlow Solid Italic"/>
              </a:rPr>
              <a:t>Fuente de los Jardines de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RENTE DE LA REAL COLEGIATA DE SAN HIPOLI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Frente de la Real Colegiata de San Hipó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FIESTA DE LA CRUS DE MAYO EN LA PLAZA DE LAS TENDILL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Fiesta de La Cruz de Mayo en la Plaza de Las Tend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IESTA DE LA CRUZ DE MAYO EN LA PLAZA DE LAS TENDILL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CALLE DE LA JUDERIA NJU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LA JUDERIA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La Jud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ALLEJAS DE LAS FLORES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5219640" y="284328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Calleja de las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14836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PUENTE ROMANO"/>
          <p:cNvPicPr/>
          <p:nvPr/>
        </p:nvPicPr>
        <p:blipFill>
          <a:blip r:embed="rId1"/>
          <a:stretch/>
        </p:blipFill>
        <p:spPr>
          <a:xfrm>
            <a:off x="0" y="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0" y="6370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uente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FORTALEZA ARABE QUE PROTEGIA LA ENTRADA AL PUENTE ROMA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0" y="585792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Fortaleza árabe que protegía la entrada al Puente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PUERTA DE ALMODOVAR Y ESTATUA DE SÉNECACVB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148360" y="248292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uerta de Almodó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Estatua de Sén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14836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MONUMENTO A MANOLE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617840" y="6299280"/>
            <a:ext cx="3641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Monumento a Mano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714320 h 6858000"/>
              <a:gd name="textAreaBottom" fmla="*/ 514368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3400" y="16200"/>
                </a:lnTo>
                <a:lnTo>
                  <a:pt x="23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050920" y="1916280"/>
            <a:ext cx="501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arlow Solid Italic"/>
              </a:rPr>
              <a:t>En Córdoba impresiona la Mezquita, como síntesis cultural y como uno de los más excepcionales monumentos del mundo. Embrujan sus bellos patios, profusamente decorados de flores, y nos hacen soñar sus atardeceres lánguidos y rosados en el silencio de sus pintorescas callejuel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714320 h 6858000"/>
              <a:gd name="textAreaBottom" fmla="*/ 514368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3400" y="16200"/>
                </a:lnTo>
                <a:lnTo>
                  <a:pt x="23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3132000" y="2060640"/>
            <a:ext cx="2857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arlow Solid Italic"/>
              </a:rPr>
              <a:t>Beatriz Presentaciones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arlow Solid Italic"/>
              </a:rPr>
              <a:t>Junín (B) - Argentina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3276720" y="3933720"/>
            <a:ext cx="21603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arlow Solid Italic"/>
              </a:rPr>
              <a:t>Fin</a:t>
            </a:r>
            <a:endParaRPr b="0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arlow Solid Italic"/>
              <a:ea typeface="Harlow Solid Italic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3427200" y="2917800"/>
            <a:ext cx="2149920" cy="995400"/>
            <a:chOff x="3427200" y="2917800"/>
            <a:chExt cx="2149920" cy="995400"/>
          </a:xfrm>
        </p:grpSpPr>
        <p:pic>
          <p:nvPicPr>
            <p:cNvPr id="145" name="Picture 9" descr="espania"/>
            <p:cNvPicPr/>
            <p:nvPr/>
          </p:nvPicPr>
          <p:blipFill>
            <a:blip r:embed="rId2"/>
            <a:stretch/>
          </p:blipFill>
          <p:spPr>
            <a:xfrm rot="816000">
              <a:off x="4426920" y="3081600"/>
              <a:ext cx="10810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0" descr="arg-f"/>
            <p:cNvPicPr/>
            <p:nvPr/>
          </p:nvPicPr>
          <p:blipFill>
            <a:blip r:embed="rId3"/>
            <a:stretch/>
          </p:blipFill>
          <p:spPr>
            <a:xfrm flipH="1" rot="20961600">
              <a:off x="3492000" y="2997000"/>
              <a:ext cx="936360" cy="792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UERTA DE SEVIL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785920" y="2509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low Solid Italic"/>
              </a:rPr>
              <a:t>Puerta de Sev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UERTA DE SEVILLA POR DONDE SE ENTRA AL BARRIO DE SAN BASILIO - MONUMENTO ABÉN HAZAM ESCRITOR HISPANO ARABE NACIO EN CORDOB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Puerta de Sevilla por donde se entra al barrio San Basi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Monumento  a Abén Hazan escritor hispanoárabe nacido en Cór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UNA CALLE DE SAN BASILIO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786040" y="609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Barrio San Basi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UNA CALLE DE SAN BASILIO 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4000680" y="6165720"/>
            <a:ext cx="39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Barrio San Basi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2:53:27Z</dcterms:created>
  <dc:creator>Bety</dc:creator>
  <dc:description/>
  <dc:language>en-US</dc:language>
  <cp:lastModifiedBy>Alba</cp:lastModifiedBy>
  <dcterms:modified xsi:type="dcterms:W3CDTF">2009-09-01T16:32:12Z</dcterms:modified>
  <cp:revision>10</cp:revision>
  <dc:subject/>
  <dc:title>Cordoba España</dc:title>
</cp:coreProperties>
</file>