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Ernesto%20CortazarSentiments%20-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5C8-A1E5-4575-AD80-942E8256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D03-A373-4E67-91AC-F2CEF1AA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245-F6E8-4880-B543-5FCE14BB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868-D6C8-4010-98AE-B0DF8A65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36F-F951-447D-9464-CFC6AEED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8B0-C23C-413F-8FE5-A7EC6C09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49D-E5C1-4B7D-8B98-DE72B7BC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E31-DDF7-4506-A2B7-034A2F7A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DF9-B7F5-4D8A-8B9B-99C4C563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90D-9595-49FA-BB62-D3F75104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CE7-F9CB-442C-9909-5BD64C95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04F-C77D-4742-A801-2EFCC48F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8E38-C62A-4E83-9EA1-BF403986F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Ernesto%20CortazarSentiments%20-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84360" y="2060640"/>
            <a:ext cx="62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n el transcurso de una cena de una ob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e caridad, el padre de un niño minusvál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ronunció un discurso inolvidable</a:t>
            </a: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Es es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19640" y="537372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70384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0800" y="333360"/>
            <a:ext cx="62532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paradoja de hoy es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- tenemos la paciencia de construir grandes edificios pero no la paciencia suficiente para controlar su cól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enemos caminos anchos, pero puntos de vista estrecho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- gastamos más, pero poseemos meno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bitamos casas más grandes, pero las familias son más pequeñas …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ozamos de más comodidades, pero no tenemos tiempo libre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cumulamos más diplomas, pero damos prueba de menos lógica, menos discernimiento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- multiplicamos los activos, pero disminuimos sus valores …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29080" y="981000"/>
            <a:ext cx="6514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ciencia permite vivir más tiempo, p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riorizamos la cantidad sobre la calida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y para muchos de nosotros, la vida resul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riste y monótona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icimos el viaje ida y vuelta hacia la luna, p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enemos la dificultad en atravesar la calle para presentarse a su vecino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tecnología puede permitirnos compart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e "Diaporama" con todos aquellos a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 conocemos con una sencillez asombro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ero nos pertenece a nosotros decidir 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remos compartir este bello texto y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valores que trans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51280" y="1484280"/>
            <a:ext cx="509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i no  reenvías esta presen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or lo menos a una persona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s que no comprendiste n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e este mensaj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51640" y="46530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508720" y="69228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0328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Que Dios llene tu vida de abundantes bendi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3640" y="914400"/>
            <a:ext cx="5761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Decimos que Dios hace todo con perfección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¿ Dónde está la perfección en Shay, mi hij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i hijo no puede comprender las cosas como otros niños. Mi hijo no puede recordar como otros niños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¿ Dónde está pues la perfección de Di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reo que creando a un niño retrasado como mi hijo, la perfección que busca Dios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ómo reaccionamos con este niño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He aquí una pequeña anécdota para ilustrar mis decla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00400" y="609480"/>
            <a:ext cx="594360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Un día estabamos viendo a un grupo de jóvenes jugando beisbol. En eso Shay me dijo: " ¿ Piensas que me dejarían jugar? "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abía que Shay no era la clase de compañero de equipo que los chicos buscan normalmente, pero esperaba a pesar de todo que se le permitiera juga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Pedí pues a uno de los jugadores de campo si podían dejar que Shay participara 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El jugador reflexiona algunos instantes y di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Perdemos por seis carreras y estamos en la octava entrada, creo que puede formar parte del equipo y tener la oportunidad de batear en la novena entrada.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88720" y="268200"/>
            <a:ext cx="609696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hay lanzó un suspiro enorme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e dijimos a Shay que se pusiera su guante 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que tomara posi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Al final de la octava, el equip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e Shay anotó pero todavía había u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iferencia de tres carreras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¡ Hacia el final de la novena entrada, el equip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e Shay anota otra carrera!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El equipo tiene ahora dos carreras 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iferencia y todavía una posibil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e llevarse el partido 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osa asombrosa, le dan el bat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Todos saben que es casi imposib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ganar porque Shay no sabe ni cóm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oger el bate, ni cómo golpear una pelo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41600" y="692280"/>
            <a:ext cx="660240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uando Shay se colocó sobre la zona de recepción, el lanzador se acerca algunos pasos y lanza la pelota bastante despacio para que Shay pueda por lo menos tocarla con el ba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85920" algn="ctr">
              <a:lnSpc>
                <a:spcPct val="100000"/>
              </a:lnSpc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hay batea torpemente el primer lanzamiento, sin éxito. Uno de sus compañeros de equipo viene en su ayuda y los dos agarran el bate, esperando el próximo lanza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480" algn="ctr">
              <a:lnSpc>
                <a:spcPct val="100000"/>
              </a:lnSpc>
              <a:tabLst>
                <a:tab algn="l" pos="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  <a:tab algn="l" pos="845172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El lanzador se acerca un poco más y muy despacio le echa la pelota a Sha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58920" y="79200"/>
            <a:ext cx="549504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on su compañero de equipo, Sha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golpea la pelota que rueda hacia e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anzador que la recog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Habría podido fácilmente lanzarl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a la primera base, eliminar de cualqui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manera a Shay y haber acabado el juego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Pero en vez de eso, el pitch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anza la pelota muy alta en e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ampo, lejos de la primera ba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Todos ellos se echan a gritar: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¡ Corre a la primera base, Shay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¡ Corre a la primera base! ¡! ¡!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Jamás habría tenido la oportun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e correr a la primera ba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206280"/>
            <a:ext cx="647712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hay galopa a lo largo de la línea de fondo, totalmente asombrado. Cuando logra la primera base, el receptor de la derecha tiene entre manos la pelota; podría fácilmente lanzarla a la segunda base, lo que eliminaría a Shay que no deja de correr. Pero lanza la pelota arriba hacia la tercera base y todos gritan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¡ Corre a la segunda! ¡ Corre a la segunda !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os corredores delante de Shay se acercan a la segunda base, el adversario se dirige hacia la tercera base y exclam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¡ Corre a la tercera!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uando Shay pasa por la tercera, los jóvenes de ambos equipos le siguen exclamand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¡ Haz todo el circuito, Shay !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36680" y="620640"/>
            <a:ext cx="690732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hay completa el circuito, alcanza l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zona de recepción y los jugador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e levantan sobre sus homb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¡ Shay es un héroe 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Acaba de hacer una gran carrera y 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ganar el partido para el equip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-----------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Todo ese día estuvo su padr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on lágrimas en los oj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Estos 18 chicos alcanzaron su propi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nivel de la perfección de Dios.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¡ Qué bella historia diréis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¿ Debo hacerla saber a otros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17320" y="692280"/>
            <a:ext cx="69793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ro que transmitiendo millares de bromas por corre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 propaguen tan rápidamente, mientras que c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 envían mensajes respecto a las elecciones de Vid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no se tiene prisa por hacerlos seguir …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ro que se pueda fácilmente acceder a las sit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obscenos y vulgares del espacio cibernétic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ientras que cuando es cuestión de los valo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o verdaderamente no nos parezca apropi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ro..Que cuando transmitas este mensa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(si decides hacerlo) probablemente no vas a enviar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un gran número de personas de tus cono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orque no estás seguro(a) de saber lo que cre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ni cual será la percepción de por qué se lo enviast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¡ Raro que estés más preocupado(a) de aque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n lo que otros piensan de ti y no en 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ropia percepción de tí mismo(a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3:59:10Z</dcterms:created>
  <dc:creator>Micheline</dc:creator>
  <dc:description/>
  <dc:language>en-US</dc:language>
  <cp:lastModifiedBy>Franz Drexler</cp:lastModifiedBy>
  <dcterms:modified xsi:type="dcterms:W3CDTF">2008-07-17T14:22:01Z</dcterms:modified>
  <cp:revision>27</cp:revision>
  <dc:subject/>
  <dc:title>Diapositive 1</dc:title>
</cp:coreProperties>
</file>