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Ernesto%20CortazarSentiments%20-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7EF-D899-48BC-BFFA-45D1B64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D87-770F-48FF-B6F6-E80BF1F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E86-86FB-416B-9CB6-72AED9D6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668-23C5-4C22-8B06-DCCBB2B4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B34-4BB3-48B4-9BE8-1085F7C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537-7EB7-4729-B0C8-5F124217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A0B-15BC-41BF-9C75-82510B6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F28-7766-48DC-B693-D9FEDB21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963-0754-4BD0-8806-685AEB5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F54-F987-4F90-8320-5013553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7CE-8E65-454B-87D1-D438991F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986-2699-47A0-AA5D-7809F48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2EC-555D-4837-AA8A-48742E64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rnesto%20CortazarSentiments%20-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060640"/>
            <a:ext cx="62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n el transcurso de una cena de una o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caridad, el padre de un niño minusvál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nunció un discurso inolvidable</a:t>
            </a:r>
            <a:r>
              <a:rPr b="1" i="1" lang="fr-CA" sz="2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Es es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19640" y="537372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0384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0800" y="333360"/>
            <a:ext cx="62532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paradoja de hoy es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tenemos la paciencia de construir grandes edificios pero no la paciencia suficiente para controlar su có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caminos anchos, pero puntos de vista estrech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gastamos más, pero poseemos meno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bitamos casas más grandes, pero las familias son más pequeña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ozamos de más comodidades, pero no tenemos tiempo libre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cumulamos más diplomas, pero damos prueba de menos lógica, menos discernimient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- multiplicamos los activos, pero disminuimos sus valores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29080" y="981000"/>
            <a:ext cx="6514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ciencia permite vivir más tiempo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iorizamos la cantidad sobre la cali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y para muchos de nosotros, la vida resul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riste y monótona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cimos el viaje ida y vuelta hacia la luna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nemos la dificultad en atravesar la calle para presentarse a su vecino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cnología puede permitirnos compa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e "Diaporama" con todos aquellos 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 conocemos con una sencillez asombro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ero nos pertenece a nosotros decidir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ueremos compartir este bello texto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alores que trans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51280" y="1484280"/>
            <a:ext cx="509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i no  reenvías esta pres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or lo menos a una person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 que no comprendiste n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 este mensaj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08720" y="69228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0328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Que Dios llene tu vida de abundantes bend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3640" y="914400"/>
            <a:ext cx="5761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ecimos que Dios hace todo con perfección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la perfección en Shay, mi hij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i hijo no puede comprender las cosas como otros niños. Mi hijo no puede recordar como otros niño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¿ Dónde está pues la perfección de Di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reo que creando a un niño retrasado como mi hijo, la perfección que busca Dio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ómo reaccionamos con este niño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He aquí una pequeña anécdota para ilustrar mis decla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0400" y="609480"/>
            <a:ext cx="594360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Un día estabamos viendo a un grupo de jóvenes jugando beisbol. En eso Shay me dijo: " ¿ Piensas que me dejarían jugar? "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abía que Shay no era la clase de compañero de equipo que los chicos buscan normalmente, pero esperaba a pesar de todo que se le permitiera jug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dí pues a uno de los jugadores de campo si podían dejar que Shay participara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jugador reflexiona algunos instantes y d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demos por seis carreras y estamos en la octava entrada, creo que puede formar parte del equipo y tener la oportunidad de batear en la novena entrada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8720" y="268200"/>
            <a:ext cx="609696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lanzó un suspiro enorme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dijimos a Shay que se pusiera su guante 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que tomara po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l final de la octav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ó pero todavía había u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de tres carreras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Hacia el final de la novena entrada, el equip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Shay anota otra carrera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equipo tiene ahora dos carreras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iferencia y todavía una posibi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llevarse el partido 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sa asombrosa, le dan el bat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saben que es casi imposib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porque Shay no sabe ni cóm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ger el bate, ni cómo golpear un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41600" y="692280"/>
            <a:ext cx="66024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se colocó sobre la zona de recepción, el lanzador se acerca algunos pasos y lanza la pelota bastante despacio para que Shay pueda por lo menos tocarla con el b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5920" algn="ctr">
              <a:lnSpc>
                <a:spcPct val="100000"/>
              </a:lnSpc>
              <a:tabLst>
                <a:tab algn="l" pos="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batea torpemente el primer lanzamiento, sin éxito. Uno de sus compañeros de equipo viene en su ayuda y los dos agarran el bate, esperando el próximo lanz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480" algn="ctr">
              <a:lnSpc>
                <a:spcPct val="100000"/>
              </a:lnSpc>
              <a:tabLst>
                <a:tab algn="l" pos="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  <a:tab algn="l" pos="845172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El lanzador se acerca un poco más y muy despacio le echa la pelota a Sh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58920" y="79200"/>
            <a:ext cx="54950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su compañero de equipo, Sha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olpea la pelota que rueda hacia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dor que la recog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Habría podido fácilmente lanzar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 la primera base, eliminar de cualqu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manera a Shay y haber acabado el juego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Pero en vez de eso, el pitch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anza la pelota muy alta en 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ampo, lejos de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s ellos se echan a gritar: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primera base, Sha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Corre a la primera base! ¡! ¡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Jamás habría tenido la oportun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de correr a la primera ba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816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  <a:tab algn="l" pos="8067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206280"/>
            <a:ext cx="64771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galopa a lo largo de la línea de fondo, totalmente asombrado. Cuando logra la primera base, el receptor de la derecha tiene entre manos la pelota; podría fácilmente lanzarla a la segunda base, lo que eliminaría a Shay que no deja de correr. Pero lanza la pelota arriba hacia la tercera base y todos grita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segunda! ¡ Corre a la segunda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os corredores delante de Shay se acercan a la segunda base, el adversario se dirige hacia la tercera base y excla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Corre a la tercera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uando Shay pasa por la tercera, los jóvenes de ambos equipos le siguen exclaman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¡ Haz todo el circuito, Shay !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36680" y="620640"/>
            <a:ext cx="69073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Shay completa el circuito, alcanza l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zona de recepción y los jugado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le levantan sobre sus homb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Shay es un héroe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Acaba de hacer una gran carrera y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ganar el partido para el equip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Todo ese día estuvo su padr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con lágrimas en los oj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" Estos 18 chicos alcanzaron su prop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nivel de la perfección de Dios. 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¡ Qué bella historia diréis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" sz="2100" spc="-1" strike="noStrike">
                <a:solidFill>
                  <a:srgbClr val="000000"/>
                </a:solidFill>
                <a:latin typeface="Arial"/>
              </a:rPr>
              <a:t>¿ Debo hacerla saber a otros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7320" y="692280"/>
            <a:ext cx="69793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transmitiendo millares de bromas por corre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propaguen tan rápidamente, mientras que cu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e envían mensajes respecto a las elecciones de Vid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o se tiene prisa por hacerlos seguir …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 que se pueda fácilmente acceder a las sit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obscenos y vulgares del espacio cibernétic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ientras que cuando es cuestión de los valo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 verdaderamente no nos parezca aprop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ro..Que cuando transmitas este mens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(si decides hacerlo) probablemente no vas a enviar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 un gran número de personas de tus cono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rque no estás seguro(a) de saber lo que cre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ni cual será la percepción de por qué se lo envia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¡ Raro que estés más preocupado(a) de aque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n lo que otros piensan de ti y no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ropia percepción de tí mismo(a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59:10Z</dcterms:created>
  <dc:creator>Micheline</dc:creator>
  <dc:description/>
  <dc:language>en-US</dc:language>
  <cp:lastModifiedBy>Franz Drexler</cp:lastModifiedBy>
  <dcterms:modified xsi:type="dcterms:W3CDTF">2008-07-17T14:22:01Z</dcterms:modified>
  <cp:revision>27</cp:revision>
  <dc:subject/>
  <dc:title>Diapositive 1</dc:title>
</cp:coreProperties>
</file>