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01%20-%20Luciano%20Pavarotti%20-%20Chitarra%20romana%20wav.wav" ContentType="audio/x-wav"/>
  <Override PartName="/ppt/media/image10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31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0485-719E-4B0B-9049-21EBE4BC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DFFA-446F-40CC-8872-45FA2FCC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5FB0-18BA-474D-A0E6-4744B4A7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242D-8CD6-4B9C-B0E5-475EC435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D2F3-5C27-45DC-88B5-C6410114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AE3B-814C-4308-B2D4-113BCBE0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7B91-6E50-4349-89CC-03072B53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1FEE-F189-4060-9A86-4B861B7D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A146-4901-449E-A062-E7A076E1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68A1-8134-457C-A078-9BFDB3CB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9CB9-954B-4C3E-B869-F653CE79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DE40-179C-47E3-80C1-2CD28FAB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6E82-D91A-4B0B-AE3C-0054FECF279E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01%20-%20Luciano%20Pavarotti%20-%20Chitarra%20romana%20wav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39240" y="2205000"/>
            <a:ext cx="3260880" cy="398880"/>
          </a:xfrm>
          <a:prstGeom prst="rect">
            <a:avLst/>
          </a:prstGeom>
          <a:noFill/>
          <a:ln w="9360">
            <a:solidFill>
              <a:srgbClr val="064d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Pavarotti ile  İtalya  gez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94600" y="4124160"/>
            <a:ext cx="3385800" cy="368280"/>
          </a:xfrm>
          <a:prstGeom prst="rect">
            <a:avLst/>
          </a:prstGeom>
          <a:noFill/>
          <a:ln w="9360">
            <a:solidFill>
              <a:srgbClr val="064d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A Tour To Italy With Pavaro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19640" y="3225960"/>
            <a:ext cx="18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7ebdf6"/>
                </a:solidFill>
                <a:latin typeface="Arial"/>
              </a:rPr>
              <a:t>egemengul@g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7"/>
          <p:cNvSpPr/>
          <p:nvPr/>
        </p:nvSpPr>
        <p:spPr>
          <a:xfrm flipV="1" rot="10800000">
            <a:off x="177480" y="5660280"/>
            <a:ext cx="129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7ebdf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2AE5-ECAA-4E19-804D-64EDDEC70AC4}" type="datetime">
              <a:rPr b="0" lang="ro-RO" sz="1200" spc="-1" strike="noStrike">
                <a:solidFill>
                  <a:srgbClr val="7ebdf6"/>
                </a:solidFill>
                <a:latin typeface="Arial"/>
              </a:rPr>
              <a:t>31.07.26</a:t>
            </a:fld>
            <a:r>
              <a:rPr b="0" lang="ro-RO" sz="1200" spc="-1" strike="noStrike">
                <a:solidFill>
                  <a:srgbClr val="7ebdf6"/>
                </a:solidFill>
                <a:latin typeface="Arial"/>
              </a:rPr>
              <a:t> </a:t>
            </a:r>
            <a:fld id="{6E3D12BA-B945-40AB-AF28-259E0B4092E0}" type="datetime12">
              <a:rPr b="0" lang="ro-RO" sz="1200" spc="-1" strike="noStrike">
                <a:solidFill>
                  <a:srgbClr val="7ebdf6"/>
                </a:solidFill>
                <a:latin typeface="Arial"/>
              </a:rPr>
              <a:t>05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719440" y="2684520"/>
            <a:ext cx="3313080" cy="1368360"/>
            <a:chOff x="2719440" y="2684520"/>
            <a:chExt cx="3313080" cy="1368360"/>
          </a:xfrm>
        </p:grpSpPr>
        <p:sp>
          <p:nvSpPr>
            <p:cNvPr id="46" name=""/>
            <p:cNvSpPr/>
            <p:nvPr/>
          </p:nvSpPr>
          <p:spPr>
            <a:xfrm>
              <a:off x="2719440" y="2684520"/>
              <a:ext cx="3313080" cy="1368360"/>
            </a:xfrm>
            <a:prstGeom prst="rect">
              <a:avLst/>
            </a:prstGeom>
            <a:solidFill>
              <a:srgbClr val="7ebdf6">
                <a:alpha val="80000"/>
              </a:srgbClr>
            </a:solidFill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3011400" y="2933280"/>
              <a:ext cx="2727720" cy="93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1" strike="noStrike">
                  <a:ln w="12600">
                    <a:solidFill>
                      <a:srgbClr val="032651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Gautami"/>
                </a:rPr>
                <a:t>Italie</a:t>
              </a:r>
              <a:endParaRPr b="0" lang="en-US" sz="9600" spc="1" strike="noStrike">
                <a:ln w="12600">
                  <a:solidFill>
                    <a:srgbClr val="032651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Gautami"/>
                <a:ea typeface="Gautami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109880" y="3573360"/>
            <a:ext cx="65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7ebdf6"/>
                </a:solidFill>
                <a:latin typeface="Times New Roman"/>
              </a:rPr>
              <a:t>Please open your  speakers &amp; don’t u</a:t>
            </a:r>
            <a:r>
              <a:rPr b="0" lang="en-US" sz="1800" spc="-1" strike="noStrike">
                <a:solidFill>
                  <a:srgbClr val="7ebdf6"/>
                </a:solidFill>
                <a:latin typeface="Times New Roman"/>
              </a:rPr>
              <a:t>se </a:t>
            </a:r>
            <a:r>
              <a:rPr b="0" lang="tr-TR" sz="1800" spc="-1" strike="noStrike">
                <a:solidFill>
                  <a:srgbClr val="7ebdf6"/>
                </a:solidFill>
                <a:latin typeface="Times New Roman"/>
              </a:rPr>
              <a:t>your </a:t>
            </a:r>
            <a:r>
              <a:rPr b="0" lang="en-US" sz="1800" spc="-1" strike="noStrike">
                <a:solidFill>
                  <a:srgbClr val="7ebdf6"/>
                </a:solidFill>
                <a:latin typeface="Times New Roman"/>
              </a:rPr>
              <a:t>mouse to advance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3680" y="2852640"/>
            <a:ext cx="32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7ebdf6"/>
                </a:solidFill>
                <a:latin typeface="Times New Roman"/>
              </a:rPr>
              <a:t>Lütfen sesli ve akışında izleyin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560" y="6256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64da2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350"/>
                            </p:stCondLst>
                            <p:childTnLst>
                              <p:par>
                                <p:cTn id="10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350"/>
                            </p:stCondLst>
                            <p:childTnLst>
                              <p:par>
                                <p:cTn id="1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350"/>
                            </p:stCondLst>
                            <p:childTnLst>
                              <p:par>
                                <p:cTn id="1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150"/>
                            </p:stCondLst>
                            <p:childTnLst>
                              <p:par>
                                <p:cTn id="23" nodeType="afterEffect" fill="hold" presetClass="entr" presetID="16" presetSubtype="2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650"/>
                            </p:stCondLst>
                            <p:childTnLst>
                              <p:par>
                                <p:cTn id="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4150"/>
                            </p:stCondLst>
                            <p:childTnLst>
                              <p:par>
                                <p:cTn id="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6100"/>
                            </p:stCondLst>
                            <p:childTnLst>
                              <p:par>
                                <p:cTn id="4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30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23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43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8360" y="6237360"/>
            <a:ext cx="143820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Lac Misurina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6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68360" y="6237360"/>
            <a:ext cx="25621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Isola Bella, Lac Majeu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5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68360" y="6237360"/>
            <a:ext cx="153360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Lac de Gard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7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780000" y="6237360"/>
            <a:ext cx="30668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Riomaggiore, Cinque Ter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6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24000" y="6165720"/>
            <a:ext cx="343836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Carrière de marbre de Carra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6000"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6448320" y="6237360"/>
            <a:ext cx="244476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Vernazza, Cinque Ter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6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68360" y="6237360"/>
            <a:ext cx="27622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Montepulciano, Toscan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68360" y="6237360"/>
            <a:ext cx="2333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Val d'Orcia, Toscan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0" r="50002" b="0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50002" t="0" r="0" b="0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24000" y="6505560"/>
            <a:ext cx="165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Colisée, Rom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50002" b="0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68360" y="6237360"/>
            <a:ext cx="31622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Château San Angelo, Rom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50002" t="0" r="0" b="0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611280" y="6237360"/>
            <a:ext cx="2495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Ischia, près de Napl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6000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6588000" y="6093000"/>
            <a:ext cx="2295720" cy="35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Atrani, Côte d'Amalf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6000"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7524720" y="6165720"/>
            <a:ext cx="10796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Ravello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4000"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68360" y="6237360"/>
            <a:ext cx="29527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Positano, Côte almafitain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6000">
    <p:split dir="in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50920" y="6021360"/>
            <a:ext cx="1081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Amalf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6000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250920" y="5950080"/>
            <a:ext cx="12952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Sorrento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6000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6227640" y="6165720"/>
            <a:ext cx="26956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Vue de Taormina, Sici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6000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971640" y="6165720"/>
            <a:ext cx="2009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Castelmola, Sici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4000"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68360" y="6237360"/>
            <a:ext cx="23810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Capo San Vito, Sici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6000"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68360" y="6237360"/>
            <a:ext cx="11714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Sardaign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6000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6443640" y="3429000"/>
            <a:ext cx="22957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Portovenere, Liguri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56" name=""/>
          <p:cNvSpPr/>
          <p:nvPr/>
        </p:nvSpPr>
        <p:spPr>
          <a:xfrm>
            <a:off x="1765440" y="861840"/>
            <a:ext cx="5543280" cy="398880"/>
          </a:xfrm>
          <a:prstGeom prst="rect">
            <a:avLst/>
          </a:prstGeom>
          <a:noFill/>
          <a:ln w="9360">
            <a:solidFill>
              <a:srgbClr val="7ebd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Luciano Pavarotti - Chitarra Rom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50002" t="0" r="0" b="0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0" t="0" r="50002" b="0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721120" y="189000"/>
            <a:ext cx="130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99"/>
                </a:solidFill>
                <a:latin typeface="Arial"/>
              </a:rPr>
              <a:t>stay with lo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78560" y="1341360"/>
            <a:ext cx="116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tr-TR" sz="1400" spc="-1" strike="noStrike">
                <a:solidFill>
                  <a:srgbClr val="000099"/>
                </a:solidFill>
                <a:latin typeface="Arial"/>
              </a:rPr>
              <a:t>egemen g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02640" y="549360"/>
            <a:ext cx="1858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tr-TR" sz="1400" spc="-1" strike="noStrike">
                <a:solidFill>
                  <a:srgbClr val="000099"/>
                </a:solidFill>
                <a:latin typeface="Arial"/>
              </a:rPr>
              <a:t>sevgiyle kalı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8028000" y="6021360"/>
            <a:ext cx="762120" cy="571680"/>
          </a:xfrm>
          <a:prstGeom prst="rect">
            <a:avLst/>
          </a:prstGeom>
          <a:ln w="0">
            <a:noFill/>
          </a:ln>
        </p:spPr>
      </p:pic>
    </p:spTree>
  </p:cSld>
  <p:transition spd="slow" advTm="0">
    <p:split dir="in" orient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" presetSubtype="12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100"/>
                            </p:stCondLst>
                            <p:childTnLst>
                              <p:par>
                                <p:cTn id="126" nodeType="afterEffect" fill="hold" presetClass="entr" presetID="2" presetSubtype="12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800"/>
                            </p:stCondLst>
                            <p:childTnLst>
                              <p:par>
                                <p:cTn id="131" nodeType="afterEffect" fill="hold" presetClass="entr" presetID="2" presetSubtype="12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300"/>
                            </p:stCondLst>
                            <p:childTnLst>
                              <p:par>
                                <p:cTn id="13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755640" y="6165720"/>
            <a:ext cx="229536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Portovenere, Liguri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6000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79280" y="5950080"/>
            <a:ext cx="24098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Casino de San Remo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6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324000" y="6237360"/>
            <a:ext cx="12952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Portofino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5000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68360" y="6237360"/>
            <a:ext cx="26668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Val di Funes, Dolomit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8000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68360" y="6237360"/>
            <a:ext cx="21589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La Scala, Mila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6000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8360" y="6237360"/>
            <a:ext cx="11509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Padou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6000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23:21:43Z</dcterms:created>
  <dc:creator>Denise Gauvin</dc:creator>
  <dc:description/>
  <dc:language>en-US</dc:language>
  <cp:lastModifiedBy>Egemen GÜL</cp:lastModifiedBy>
  <dcterms:modified xsi:type="dcterms:W3CDTF">2009-02-28T13:29:54Z</dcterms:modified>
  <cp:revision>32</cp:revision>
  <dc:subject>Sur une chanson de Pavarotti</dc:subject>
  <dc:title>Italie</dc:title>
</cp:coreProperties>
</file>