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01%20-%20Luciano%20Pavarotti%20-%20Chitarra%20romana%20wav.wav" ContentType="audio/x-wav"/>
  <Override PartName="/ppt/media/image10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F0B-9700-4B33-B731-6E7D0D2B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274-F13A-426C-92B4-E3B37160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77C-464F-41A5-A325-36684CBE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B098-8CA7-45B8-848C-FEE8B078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398-6F83-431B-B90E-BED4DB02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3AF-FDBD-4C05-ABBE-4422C757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9B98-2D24-4C38-9515-B67EF0B0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2D1-9AC5-4819-B0F7-152EE6F9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880-350F-46E3-88BB-A2705FA9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6B1-F97E-40FE-9A81-C1F52B55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36C-BE59-400D-B3B7-3C89F58B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F025-E7A9-4164-9094-F91C9759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A54E-DEC2-4AED-B6E8-1BC62CD035B4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01%20-%20Luciano%20Pavarotti%20-%20Chitarra%20romana%20wav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39240" y="2205000"/>
            <a:ext cx="3260880" cy="398880"/>
          </a:xfrm>
          <a:prstGeom prst="rect">
            <a:avLst/>
          </a:prstGeom>
          <a:noFill/>
          <a:ln w="9360">
            <a:solidFill>
              <a:srgbClr val="064d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Pavarotti ile  İtalya  gez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94600" y="4124160"/>
            <a:ext cx="3385800" cy="368280"/>
          </a:xfrm>
          <a:prstGeom prst="rect">
            <a:avLst/>
          </a:prstGeom>
          <a:noFill/>
          <a:ln w="9360">
            <a:solidFill>
              <a:srgbClr val="064d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A Tour To Italy With Pavaro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19640" y="3225960"/>
            <a:ext cx="18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7ebdf6"/>
                </a:solidFill>
                <a:latin typeface="Arial"/>
              </a:rPr>
              <a:t>egemengul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7"/>
          <p:cNvSpPr/>
          <p:nvPr/>
        </p:nvSpPr>
        <p:spPr>
          <a:xfrm flipV="1" rot="10800000">
            <a:off x="177480" y="5660280"/>
            <a:ext cx="129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7ebdf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6439-0E15-4D79-9DF2-263F37F1B1BD}" type="datetime">
              <a:rPr b="0" lang="ro-RO" sz="1200" spc="-1" strike="noStrike">
                <a:solidFill>
                  <a:srgbClr val="7ebdf6"/>
                </a:solidFill>
                <a:latin typeface="Arial"/>
              </a:rPr>
              <a:t>29.07.26</a:t>
            </a:fld>
            <a:r>
              <a:rPr b="0" lang="ro-RO" sz="1200" spc="-1" strike="noStrike">
                <a:solidFill>
                  <a:srgbClr val="7ebdf6"/>
                </a:solidFill>
                <a:latin typeface="Arial"/>
              </a:rPr>
              <a:t> </a:t>
            </a:r>
            <a:fld id="{3101E220-F0D6-439F-A908-4F1290AE4626}" type="datetime12">
              <a:rPr b="0" lang="ro-RO" sz="1200" spc="-1" strike="noStrike">
                <a:solidFill>
                  <a:srgbClr val="7ebdf6"/>
                </a:solidFill>
                <a:latin typeface="Arial"/>
              </a:rPr>
              <a:t>07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719440" y="2684520"/>
            <a:ext cx="3313080" cy="1368360"/>
            <a:chOff x="2719440" y="2684520"/>
            <a:chExt cx="3313080" cy="1368360"/>
          </a:xfrm>
        </p:grpSpPr>
        <p:sp>
          <p:nvSpPr>
            <p:cNvPr id="46" name=""/>
            <p:cNvSpPr/>
            <p:nvPr/>
          </p:nvSpPr>
          <p:spPr>
            <a:xfrm>
              <a:off x="2719440" y="2684520"/>
              <a:ext cx="3313080" cy="1368360"/>
            </a:xfrm>
            <a:prstGeom prst="rect">
              <a:avLst/>
            </a:prstGeom>
            <a:solidFill>
              <a:srgbClr val="7ebdf6">
                <a:alpha val="80000"/>
              </a:srgbClr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3011400" y="2933280"/>
              <a:ext cx="2727720" cy="93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12600">
                    <a:solidFill>
                      <a:srgbClr val="03265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Gautami"/>
                </a:rPr>
                <a:t>Italie</a:t>
              </a:r>
              <a:endParaRPr b="0" lang="en-US" sz="9600" spc="1" strike="noStrike">
                <a:ln w="12600">
                  <a:solidFill>
                    <a:srgbClr val="03265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Gautami"/>
                <a:ea typeface="Gautami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109880" y="3573360"/>
            <a:ext cx="65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7ebdf6"/>
                </a:solidFill>
                <a:latin typeface="Times New Roman"/>
              </a:rPr>
              <a:t>Please open your  speakers &amp; don’t u</a:t>
            </a:r>
            <a:r>
              <a:rPr b="0" lang="en-US" sz="1800" spc="-1" strike="noStrike">
                <a:solidFill>
                  <a:srgbClr val="7ebdf6"/>
                </a:solidFill>
                <a:latin typeface="Times New Roman"/>
              </a:rPr>
              <a:t>se </a:t>
            </a:r>
            <a:r>
              <a:rPr b="0" lang="tr-TR" sz="1800" spc="-1" strike="noStrike">
                <a:solidFill>
                  <a:srgbClr val="7ebdf6"/>
                </a:solidFill>
                <a:latin typeface="Times New Roman"/>
              </a:rPr>
              <a:t>your </a:t>
            </a:r>
            <a:r>
              <a:rPr b="0" lang="en-US" sz="1800" spc="-1" strike="noStrike">
                <a:solidFill>
                  <a:srgbClr val="7ebdf6"/>
                </a:solidFill>
                <a:latin typeface="Times New Roman"/>
              </a:rPr>
              <a:t>mouse to advance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3680" y="285264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7ebdf6"/>
                </a:solidFill>
                <a:latin typeface="Times New Roman"/>
              </a:rPr>
              <a:t>Lütfen sesli ve akışında izleyin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560" y="6256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64da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350"/>
                            </p:stCondLst>
                            <p:childTnLst>
                              <p:par>
                                <p:cTn id="1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350"/>
                            </p:stCondLst>
                            <p:childTnLst>
                              <p:par>
                                <p:cTn id="1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350"/>
                            </p:stCondLst>
                            <p:childTnLst>
                              <p:par>
                                <p:cTn id="1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150"/>
                            </p:stCondLst>
                            <p:childTnLst>
                              <p:par>
                                <p:cTn id="23" nodeType="afterEffect" fill="hold" presetClass="entr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650"/>
                            </p:stCondLst>
                            <p:childTnLst>
                              <p:par>
                                <p:cTn id="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15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610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3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23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3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6237360"/>
            <a:ext cx="14382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Lac Misurina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8360" y="6237360"/>
            <a:ext cx="25621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Isola Bella, Lac Majeu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5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68360" y="6237360"/>
            <a:ext cx="15336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Lac de Gard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7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780000" y="6237360"/>
            <a:ext cx="3066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Riomaggiore, Cinque Ter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24000" y="6165720"/>
            <a:ext cx="34383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Carrière de marbre de Carra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6448320" y="6237360"/>
            <a:ext cx="24447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Vernazza, Cinque Ter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68360" y="6237360"/>
            <a:ext cx="27622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Montepulciano, Tosca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68360" y="6237360"/>
            <a:ext cx="2333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Val d'Orcia, Tosca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50002" b="0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50002" t="0" r="0" b="0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24000" y="6505560"/>
            <a:ext cx="1657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Colisée, Rom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50002" b="0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8360" y="6237360"/>
            <a:ext cx="31622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Château San Angelo, Rom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50002" t="0" r="0" b="0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11280" y="6237360"/>
            <a:ext cx="2495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Ischia, près de Napl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6588000" y="6093000"/>
            <a:ext cx="2295720" cy="35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Atrani, Côte d'Amalf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7524720" y="6165720"/>
            <a:ext cx="10796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Ravello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4000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68360" y="6237360"/>
            <a:ext cx="29527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Positano, Côte almafitai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50920" y="6021360"/>
            <a:ext cx="10810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Amalf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50920" y="5950080"/>
            <a:ext cx="12952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Sorrento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6227640" y="6165720"/>
            <a:ext cx="26956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Vue de Taormina, Sici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71640" y="6165720"/>
            <a:ext cx="2009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Castelmola, Sici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4000"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68360" y="6237360"/>
            <a:ext cx="23810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Capo San Vito, Sici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68360" y="6237360"/>
            <a:ext cx="11714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Sardaign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443640" y="3429000"/>
            <a:ext cx="22957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Portovenere, Ligur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56" name=""/>
          <p:cNvSpPr/>
          <p:nvPr/>
        </p:nvSpPr>
        <p:spPr>
          <a:xfrm>
            <a:off x="1765440" y="861840"/>
            <a:ext cx="5543280" cy="398880"/>
          </a:xfrm>
          <a:prstGeom prst="rect">
            <a:avLst/>
          </a:prstGeom>
          <a:noFill/>
          <a:ln w="9360">
            <a:solidFill>
              <a:srgbClr val="7ebd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Luciano Pavarotti - Chitarra Ro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50002" t="0" r="0" b="0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21120" y="189000"/>
            <a:ext cx="130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99"/>
                </a:solidFill>
                <a:latin typeface="Arial"/>
              </a:rPr>
              <a:t>stay with lo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78560" y="1341360"/>
            <a:ext cx="116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tr-TR" sz="1400" spc="-1" strike="noStrike">
                <a:solidFill>
                  <a:srgbClr val="000099"/>
                </a:solidFill>
                <a:latin typeface="Arial"/>
              </a:rPr>
              <a:t>egemen g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02640" y="549360"/>
            <a:ext cx="185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tr-TR" sz="1400" spc="-1" strike="noStrike">
                <a:solidFill>
                  <a:srgbClr val="000099"/>
                </a:solidFill>
                <a:latin typeface="Arial"/>
              </a:rPr>
              <a:t>sevgiyle kalı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028000" y="6021360"/>
            <a:ext cx="762120" cy="571680"/>
          </a:xfrm>
          <a:prstGeom prst="rect">
            <a:avLst/>
          </a:prstGeom>
          <a:ln w="0">
            <a:noFill/>
          </a:ln>
        </p:spPr>
      </p:pic>
    </p:spTree>
  </p:cSld>
  <p:transition spd="slow" advTm="0"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12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100"/>
                            </p:stCondLst>
                            <p:childTnLst>
                              <p:par>
                                <p:cTn id="126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800"/>
                            </p:stCondLst>
                            <p:childTnLst>
                              <p:par>
                                <p:cTn id="131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3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755640" y="6165720"/>
            <a:ext cx="22953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Portovenere, Liguri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9280" y="5950080"/>
            <a:ext cx="2409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Casino de San Remo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24000" y="6237360"/>
            <a:ext cx="12952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Portofino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5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68360" y="6237360"/>
            <a:ext cx="2666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Val di Funes, Dolomit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8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68360" y="6237360"/>
            <a:ext cx="21589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La Scala, Mila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26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6237360"/>
            <a:ext cx="11509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Narrow"/>
              </a:rPr>
              <a:t>Padou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</p:spTree>
  </p:cSld>
  <p:transition spd="slow" advTm="6000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23:21:43Z</dcterms:created>
  <dc:creator>Denise Gauvin</dc:creator>
  <dc:description/>
  <dc:language>en-US</dc:language>
  <cp:lastModifiedBy>Egemen GÜL</cp:lastModifiedBy>
  <dcterms:modified xsi:type="dcterms:W3CDTF">2009-02-28T13:29:54Z</dcterms:modified>
  <cp:revision>32</cp:revision>
  <dc:subject>Sur une chanson de Pavarotti</dc:subject>
  <dc:title>Italie</dc:title>
</cp:coreProperties>
</file>