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ndio%20mayta%20-%20carolina%20%20pa%20pps.wav" ContentType="audio/x-wav"/>
  <Override PartName="/ppt/media/image3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C9E-B09D-40E1-982C-75455F15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3A1-F871-43F1-B933-AF1A3E1E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813-F713-4A87-9947-F0477876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761-7622-43AC-A093-0AA5DB2B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81D-54F2-41AF-B1BD-352E7C7B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20B-1665-4908-B8A9-28FE6D22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A1F-092A-4C27-A9D8-DB0F7E2D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722-DE37-4FFD-BD74-07E111CC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817-B39B-4908-99EC-CEC9B9A7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F4A-AD8B-4CC9-A40D-61B2316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B1F-3045-4CD6-9B14-80665B0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204-4C84-4777-9575-3B3ED64D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B1EE-DF48-4892-95BB-0D519A220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audio" Target="../media/indio%20mayta%20-%20carolina%20%20pa%20pps.wav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2424240" cy="3284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72080" y="0"/>
            <a:ext cx="2671920" cy="3573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84840" y="3600360"/>
            <a:ext cx="2459160" cy="328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795760" cy="357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2340000" y="3560760"/>
            <a:ext cx="4392720" cy="3297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2700360" y="62064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56000" y="0"/>
            <a:ext cx="41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MI</a:t>
            </a: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 CAJA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5280" y="5667480"/>
            <a:ext cx="40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Si les gustó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0" y="3573360"/>
            <a:ext cx="2425680" cy="328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9242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Entre colores y sabores de un hermoso Pa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isaje natural y cultu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dissolve/>
    <p:sndAc>
      <p:stSnd>
        <p:snd r:embed="rId10" name="indio%20mayta%20-%20carolina%20%20pa%20pp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72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2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968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168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LA GRANJA PORC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12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UN LUGAR DE ENSUEÑO</a:t>
            </a: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6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20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88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8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Ejemplo exitoso de fores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12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24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6033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Kristen ITC"/>
              </a:rPr>
              <a:t>Bosque de pi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6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12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Tejidos multico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80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60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Tejedoras y telares artesa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160"/>
                            </p:stCondLst>
                            <p:childTnLst>
                              <p:par>
                                <p:cTn id="5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320"/>
                            </p:stCondLst>
                            <p:childTnLst>
                              <p:par>
                                <p:cTn id="5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Venado cola blan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680"/>
                            </p:stCondLst>
                            <p:childTnLst>
                              <p:par>
                                <p:cTn id="5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36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Kristen ITC"/>
              </a:rPr>
              <a:t>Nuestro oso de anteoj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840"/>
                            </p:stCondLst>
                            <p:childTnLst>
                              <p:par>
                                <p:cTn id="6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680"/>
                            </p:stCondLst>
                            <p:childTnLst>
                              <p:par>
                                <p:cTn id="6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Un lindo gatito peru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0072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840"/>
                            </p:stCondLst>
                            <p:childTnLst>
                              <p:par>
                                <p:cTn id="6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680"/>
                            </p:stCondLst>
                            <p:childTnLst>
                              <p:par>
                                <p:cTn id="6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Un exótico fais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000"/>
                            </p:stCondLst>
                            <p:childTnLst>
                              <p:par>
                                <p:cTn id="6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640"/>
                            </p:stCondLst>
                            <p:childTnLst>
                              <p:par>
                                <p:cTn id="6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80"/>
                            </p:stCondLst>
                            <p:childTnLst>
                              <p:par>
                                <p:cTn id="6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… “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AQUÍ ESTÁN LAS LLAVES DE LA CIUDAD”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56360" y="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20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32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Kristen ITC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</a:rPr>
              <a:t>Cuy mixto del Inca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Kristen ITC"/>
              </a:rPr>
              <a:t>Plato típico en El Cast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950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Kristen ITC"/>
              </a:rPr>
              <a:t>¡¡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</a:rPr>
              <a:t>Añañauu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000"/>
                            </p:stCondLst>
                            <p:childTnLst>
                              <p:par>
                                <p:cTn id="7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60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20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6680"/>
                            </p:stCondLst>
                            <p:childTnLst>
                              <p:par>
                                <p:cTn id="7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7160"/>
                            </p:stCondLst>
                            <p:childTnLst>
                              <p:par>
                                <p:cTn id="7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78400" y="0"/>
            <a:ext cx="46656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3280" y="0"/>
            <a:ext cx="45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Espero que lo hayan disfruta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9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120"/>
                            </p:stCondLst>
                            <p:childTnLst>
                              <p:par>
                                <p:cTn id="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4240"/>
                            </p:stCondLst>
                            <p:childTnLst>
                              <p:par>
                                <p:cTn id="7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y “LOS CANDADOS PARA QUE SE QUEDEN POR SIEMP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568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RE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GRESEN CUANDO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ÁS 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GUSTEN”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20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64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28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32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00720" y="0"/>
            <a:ext cx="46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4920" y="0"/>
            <a:ext cx="464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Kristen ITC"/>
              </a:rPr>
              <a:t>Desde el mirad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Kristen ITC"/>
              </a:rPr>
              <a:t>Santa Apol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4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4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97600" y="0"/>
            <a:ext cx="40464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642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760560" y="0"/>
            <a:ext cx="544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Iglesia San Franci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35040" y="0"/>
            <a:ext cx="492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Iglesia La Recol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08000" y="0"/>
            <a:ext cx="72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Luego de una intensa lluvia, una noche de paz y quietu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013280" y="0"/>
            <a:ext cx="513072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Kristen ITC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Estos son los artesanos de Huambocancha, descendientes de Los Huambos. Fueron traídos a Cajamarca para trabajar para mi”.</a:t>
            </a:r>
            <a:r>
              <a:rPr b="1" lang="es-ES" sz="20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2681280" cy="364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68360" y="384480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Carolina, nuestra mod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fue traí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des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Andahuay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24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24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16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9:57:45Z</dcterms:created>
  <dc:creator>Intel</dc:creator>
  <dc:description/>
  <dc:language>en-US</dc:language>
  <cp:lastModifiedBy>Intel</cp:lastModifiedBy>
  <dcterms:modified xsi:type="dcterms:W3CDTF">2008-04-12T17:24:17Z</dcterms:modified>
  <cp:revision>57</cp:revision>
  <dc:subject/>
  <dc:title>Diapositiva 1</dc:title>
</cp:coreProperties>
</file>