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L%20PESCADOR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ACC-0E7C-43DF-90C1-B3614A8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2F8-C1A8-4548-AF5C-9F30675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A66-A9D3-494C-BCD6-B5D0D4B4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94B-2E89-4DAF-8971-F2BB253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86E-B309-4F3F-B712-B9A34D4E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1E7-4CA7-4215-9B76-F468AC6C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7C2-20D4-429C-9AE5-888A4FE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251-7647-426A-86BF-1806FBC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A25-F3B6-42B1-B933-6FE6E59B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158-06A1-480D-AB12-520A0776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3D9-366E-4B91-BA3D-4F199E9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494-F4F8-46CB-8691-72E22B4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A68-A1E4-41AC-AD07-89A58B416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%20PESCAD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8776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4680" y="336600"/>
            <a:ext cx="905652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L "PADRE NUESTRO" AL R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</a:rPr>
              <a:t>¿HAS PENSADO COMO ORARIA DIOS EL "PADRE NUESTRO"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EL%20PESCAD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3354480"/>
            <a:ext cx="56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Por favor envíale mi o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a todos aquellos que 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y que desees</a:t>
            </a: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yo también bendi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66"/>
                </a:solidFill>
                <a:latin typeface="Arial"/>
              </a:rPr>
              <a:t>como a ti</a:t>
            </a:r>
            <a:r>
              <a:rPr b="1" i="1" lang="es-MX" sz="3200" spc="-1" strike="noStrike">
                <a:solidFill>
                  <a:srgbClr val="ff0066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Arial"/>
              </a:rPr>
              <a:t>¡GRACIAS!, TU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42900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Hijo mío que estas en la Tierra, preocupado, confundido, desorientado, solitario, triste, angustiado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Yo conozco perfectamente tu nombre,             y lo pronunci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bendiciéndolo porque te amo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3573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¡No!.. No estás solo, porque yo habit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en ti; juntos construiremos este Reino,               del que tu vas a ser mi hered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Deseo que siempre hagas mi voluntad, porque mi voluntad es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que tú seas feliz.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306864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Debes saber que cuentas siempre conmigo porque nunca</a:t>
            </a:r>
            <a:r>
              <a:rPr b="0" lang="es-MX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te abandonaré                      y que tendrás el pan para h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No te preocupes. Solo te</a:t>
            </a:r>
            <a:r>
              <a:rPr b="0" lang="es-MX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3399"/>
                </a:solidFill>
                <a:latin typeface="Arial"/>
              </a:rPr>
              <a:t>pido que siempre lo compartas con tu prójimo...                  con tus her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371628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Debes saber que siempre perdono todas tus ofensas, antes incluso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que las cometas,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aun yo sabiendo que las harás,                  por lo que te pido que hagas tu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ff0000"/>
                </a:solidFill>
                <a:latin typeface="Arial"/>
              </a:rPr>
              <a:t>lo mismo   con los que a ti te ofen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03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Deseo que nunca caigas en la tentación,          por lo que toma fuerte de mi mano                                 y siempre aférrate a mí y yo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te librare del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869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Recuerda y nunca olvides                          que </a:t>
            </a:r>
            <a:r>
              <a:rPr b="1" lang="es-MX" sz="3200" spc="-1" strike="noStrike">
                <a:solidFill>
                  <a:srgbClr val="33ccff"/>
                </a:solidFill>
                <a:latin typeface="Arial"/>
              </a:rPr>
              <a:t>TE AMO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desde el comienzo de tus días                       y </a:t>
            </a:r>
            <a:r>
              <a:rPr b="1" lang="es-MX" sz="3200" spc="-1" strike="noStrike">
                <a:solidFill>
                  <a:srgbClr val="33ccff"/>
                </a:solidFill>
                <a:latin typeface="Arial"/>
              </a:rPr>
              <a:t>TE AMARE </a:t>
            </a:r>
            <a:r>
              <a:rPr b="0" i="1" lang="es-MX" sz="3200" spc="-1" strike="noStrike">
                <a:solidFill>
                  <a:srgbClr val="33ccff"/>
                </a:solidFill>
                <a:latin typeface="Arial"/>
              </a:rPr>
              <a:t>hasta el fin de los mismos..</a:t>
            </a:r>
            <a:r>
              <a:rPr b="0" lang="es-MX" sz="3200" spc="-1" strike="noStrike">
                <a:solidFill>
                  <a:srgbClr val="33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49480" y="5516640"/>
            <a:ext cx="535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¡YO TE AMARE SIEMP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Arial"/>
              </a:rPr>
              <a:t>PORQUE SOY TU PADRE!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333360"/>
            <a:ext cx="46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Que Mi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Bendición quede contigo y que  Mis Eternos Amor y Paz     te cubran siempre, porque en</a:t>
            </a:r>
            <a:r>
              <a:rPr b="0" lang="es-MX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ff"/>
                </a:solidFill>
                <a:latin typeface="Arial"/>
              </a:rPr>
              <a:t>el mundo no los podrás obtener como Yo solo los doy porqu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840" y="407664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¡YO SOY EL AMOR Y LA PA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8:03:03Z</dcterms:created>
  <dc:creator>Brain</dc:creator>
  <dc:description/>
  <dc:language>en-US</dc:language>
  <cp:lastModifiedBy>Brain</cp:lastModifiedBy>
  <dcterms:modified xsi:type="dcterms:W3CDTF">2006-03-25T18:20:07Z</dcterms:modified>
  <cp:revision>2</cp:revision>
  <dc:subject/>
  <dc:title>Diapositiva 1</dc:title>
</cp:coreProperties>
</file>