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MOLTBOBeethovenSonataClarodeLuna.wav" ContentType="audio/x-wav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PLUGIN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6275-ADDA-4D5A-8ED5-723EC90F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C2CE-3893-4BE4-8579-7132F098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8B54-880C-49D1-BBC2-AC8E97E6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D85F-54C7-40AF-AD6C-92852696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CC47-0BBB-4001-9A7A-F77DD531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9E93-2C74-4C22-9150-EE440A9F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2C6F-C6BB-479E-B4E3-07CCEBB2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AA86-2EB3-4575-9A8C-2358496D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CCE2-CAB2-4F11-A4B3-658076C6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9EF2-96D9-4ED0-A94E-9FDA8672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6952-619B-4430-BBC8-722B0863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CAA9-194E-4BD0-BB5F-4794C93A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21E1-0064-421B-B50B-406173907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audio" Target="../media/MOLTBOBeethovenSonataClarodeLuna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hyperlink" Target="http://www.benedictinescat.com/montserrat" TargetMode="External"/><Relationship Id="rId4" Type="http://schemas.openxmlformats.org/officeDocument/2006/relationships/hyperlink" Target="http://www.benedictinescat.com/montserrat" TargetMode="External"/><Relationship Id="rId5" Type="http://schemas.openxmlformats.org/officeDocument/2006/relationships/hyperlink" Target="http://www.benedictinescat.com/montserrat" TargetMode="External"/><Relationship Id="rId6" Type="http://schemas.openxmlformats.org/officeDocument/2006/relationships/hyperlink" Target="http://www.benedictinescat.com/montserrat" TargetMode="External"/><Relationship Id="rId7" Type="http://schemas.openxmlformats.org/officeDocument/2006/relationships/hyperlink" Target="http://www.benedictinescat.com/montserrat" TargetMode="External"/><Relationship Id="rId8" Type="http://schemas.openxmlformats.org/officeDocument/2006/relationships/hyperlink" Target="http://www.benedictinescat.com/montserrat" TargetMode="External"/><Relationship Id="rId9" Type="http://schemas.openxmlformats.org/officeDocument/2006/relationships/audio" Target="../media/PLUGIN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4307040" cy="5837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103640" y="476280"/>
            <a:ext cx="471636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 Black"/>
              </a:rPr>
              <a:t>DOMING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4788000" y="3141720"/>
            <a:ext cx="4105080" cy="2761560"/>
          </a:xfrm>
          <a:prstGeom prst="rect">
            <a:avLst/>
          </a:prstGeom>
          <a:solidFill>
            <a:srgbClr val="fef6d2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Times New Roman"/>
              </a:rPr>
              <a:t>El “claro de luna” de Beethoven nos hace desear ver la Luz en nuestras noch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62520" y="2371680"/>
            <a:ext cx="1695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 Black"/>
              </a:rPr>
              <a:t>Ciclo  B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94240" y="1700280"/>
            <a:ext cx="2355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cc9900"/>
                </a:solidFill>
                <a:latin typeface="Arial Black"/>
              </a:rPr>
              <a:t>30 del añ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059280" y="6165720"/>
            <a:ext cx="5935680" cy="502920"/>
            <a:chOff x="3059280" y="6165720"/>
            <a:chExt cx="5935680" cy="502920"/>
          </a:xfrm>
        </p:grpSpPr>
        <p:sp>
          <p:nvSpPr>
            <p:cNvPr id="48" name=""/>
            <p:cNvSpPr/>
            <p:nvPr/>
          </p:nvSpPr>
          <p:spPr>
            <a:xfrm>
              <a:off x="3545640" y="6165720"/>
              <a:ext cx="544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48300"/>
                  </a:solidFill>
                  <a:latin typeface="Arial"/>
                </a:rPr>
                <a:t>Monjas de Sant Benet de Montserr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5"/>
            <a:stretch/>
          </p:blipFill>
          <p:spPr>
            <a:xfrm>
              <a:off x="3059280" y="6165720"/>
              <a:ext cx="484920" cy="502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  <p:sndAc>
      <p:stSnd>
        <p:snd r:embed="rId6" name="MOLTBOBeethovenSonataClarodeLun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9640" y="476280"/>
            <a:ext cx="8099640" cy="55803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lamaron al ciego, diciéndole: "Ánimo, levántate, que te llama." Soltó el manto, dio un salto y se acercó a Jesús.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-36360" y="798480"/>
            <a:ext cx="8100720" cy="60595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26920" y="260280"/>
            <a:ext cx="8029800" cy="70344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Os llamo de todos los rinc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00720" y="4221000"/>
            <a:ext cx="277200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s la hora de ser una nueva FAMI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14400" y="533520"/>
            <a:ext cx="7561440" cy="55803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Jesús le dijo: "¿Qué quieres que haga por ti?" El ciego le contestó: "Maestro, que pueda ver."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50920" y="1468440"/>
            <a:ext cx="3168720" cy="527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s necio el caminante que  atraído por la belleza del camino olvida la meta”</a:t>
            </a:r>
            <a:br>
              <a:rPr sz="4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S. Gregorio Magn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189000"/>
            <a:ext cx="583236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anos una mirada que vaya a lo esen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457200"/>
            <a:ext cx="7920000" cy="611208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Jesús le dijo: "Anda, tu fe te ha curado." Y al momento recobró la vista y lo seguía por el camino.</a:t>
            </a:r>
            <a:r>
              <a:rPr b="1" lang="es-ES" sz="7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4000" y="704880"/>
            <a:ext cx="5100480" cy="6180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940360" y="1844640"/>
            <a:ext cx="277200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¿Dónde lleva el CAMINO que tu sigue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56000" y="260280"/>
            <a:ext cx="651492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La Fe abre los ojos que buscan sin cesar la LU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260280"/>
            <a:ext cx="8497800" cy="55080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sumen del sermón a la iglesia</a:t>
            </a:r>
            <a:r>
              <a:rPr b="1" lang="ca-E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2500" spc="-1" strike="noStrike">
                <a:solidFill>
                  <a:srgbClr val="000000"/>
                </a:solidFill>
                <a:latin typeface="Arial"/>
              </a:rPr>
              <a:t>(Mc 9,33-10, 52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765000"/>
            <a:ext cx="8569080" cy="603504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En Cafarnaún sobre los valores esenciales:</a:t>
            </a:r>
            <a:br>
              <a:rPr sz="3000"/>
            </a:b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1- El primero que sea el último y el servidor </a:t>
            </a:r>
            <a:br>
              <a:rPr sz="2500"/>
            </a:b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2- Acoger a los más débile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3- No ir contra nadie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4- Dar la paz a todos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Al otro lado del Jordán sobre los miembros de la iglesia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1- Que los matrimonios se amen</a:t>
            </a:r>
            <a:br>
              <a:rPr sz="2500"/>
            </a:b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2- Que los jóvenes estén disponibles para el Rein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3- Que los que lo han dejado todo no teman las </a:t>
            </a:r>
            <a:br>
              <a:rPr sz="2500"/>
            </a:b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    persecuciones</a:t>
            </a:r>
            <a:br>
              <a:rPr sz="2500"/>
            </a:b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4- Que nadie ambicione honor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ABRIREMOS LOS OJ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1125360"/>
            <a:ext cx="6264360" cy="398088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Señor, haznos una IGLESIA acogedora, que avance contigo por los caminos del evangeli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4360" y="5734080"/>
            <a:ext cx="8137440" cy="642600"/>
          </a:xfrm>
          <a:prstGeom prst="rect">
            <a:avLst/>
          </a:prstGeom>
          <a:gradFill rotWithShape="0">
            <a:gsLst>
              <a:gs pos="0">
                <a:srgbClr val="bb4611"/>
              </a:gs>
              <a:gs pos="100000">
                <a:srgbClr val="56200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nedictinescat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m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montser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620640"/>
            <a:ext cx="7129440" cy="1161000"/>
          </a:xfrm>
          <a:prstGeom prst="rect">
            <a:avLst/>
          </a:prstGeom>
          <a:solidFill>
            <a:srgbClr val="333333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e pps se ha reducido de peso con  PPTminimiz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LUG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25480" y="2421000"/>
            <a:ext cx="7489800" cy="55080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Final del sermón</a:t>
            </a:r>
            <a:r>
              <a:rPr b="1" lang="ca-E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99760" y="333360"/>
            <a:ext cx="6020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Arial"/>
              </a:rPr>
              <a:t>SERMÓN sobre la IGLES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3068640"/>
            <a:ext cx="7561440" cy="1694520"/>
          </a:xfrm>
          <a:prstGeom prst="rect">
            <a:avLst/>
          </a:prstGeom>
          <a:solidFill>
            <a:srgbClr val="00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a-E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3500" spc="-1" strike="noStrike">
                <a:solidFill>
                  <a:srgbClr val="ffffff"/>
                </a:solidFill>
                <a:latin typeface="Arial"/>
              </a:rPr>
              <a:t>Este sermón es tan paradójico, que si Jesús no nos abre los ojos de la FE, no lo podremos entend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32720" y="5877000"/>
            <a:ext cx="1655640" cy="55080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Jericó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-7308720" y="0"/>
            <a:ext cx="24553800" cy="6899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700360" y="5516640"/>
            <a:ext cx="5256360" cy="100764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Oasis de Jericó al final del camino que va a Jerusalé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404640"/>
            <a:ext cx="7056720" cy="55080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Jesús cura las cegueras del corazó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97257 0.0074 L -0.9882 -0.003 E">
                                      <p:cBhvr>
                                        <p:cTn id="47" dur="15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404640"/>
            <a:ext cx="8604000" cy="521208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c 10, 46-52 En aquel tiempo, al salir Jesús de Jericó con sus discípulos y bastante gente, el ciego Bartimeo, el hijo de Timeo, estaba sentado al borde del camino, pidiendo limosna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260280"/>
            <a:ext cx="2808360" cy="299016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Arial"/>
              </a:rPr>
              <a:t>No os quedéis instalados al borde del camino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08360" y="5300640"/>
            <a:ext cx="42116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Yo quiero una Iglesia que an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295280" y="609480"/>
            <a:ext cx="6985080" cy="45741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l oír que era Jesús Nazareno, empezó a gritar: "Hijo de David, Jesús, ten compasión de mí." 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1374840"/>
            <a:ext cx="7993080" cy="5483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843280" y="260280"/>
            <a:ext cx="590544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Mi LUZ tiene valores distintos a los vues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56360" y="1773360"/>
            <a:ext cx="2698560" cy="29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ólo se ve bien con el corazón </a:t>
            </a:r>
            <a:br>
              <a:rPr sz="4000"/>
            </a:b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(Saint-Exupery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4360" y="365040"/>
            <a:ext cx="7848360" cy="606888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uchos lo regañaban para que se callara. Pero él gritaba más: "Hijo de David, ten compasión de mí." Jesús se detuvo y dijo: "Llamadlo." 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916280"/>
            <a:ext cx="3025800" cy="414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Venid todos los débiles, inseguros...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No tengáis miedo de vuestras caída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635280" y="1844640"/>
            <a:ext cx="5184720" cy="4497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4000" y="333360"/>
            <a:ext cx="806436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Yo os llamo aunque seáis ciegos del cuerpo o del espírit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9T13:35:40Z</dcterms:created>
  <dc:creator>Regina</dc:creator>
  <dc:description/>
  <dc:language>en-US</dc:language>
  <cp:lastModifiedBy>Usuario</cp:lastModifiedBy>
  <dcterms:modified xsi:type="dcterms:W3CDTF">2009-10-21T19:15:16Z</dcterms:modified>
  <cp:revision>263</cp:revision>
  <dc:subject/>
  <dc:title>evangeli</dc:title>
</cp:coreProperties>
</file>