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MOLTBOBeethovenSonataClarodeLuna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870-C259-4E19-AC3D-E6155CA2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869-3DD6-45F9-AAD3-AE84DBFD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9C4-1D51-42D0-A82D-EFAB535F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4B1-FD76-4E41-A615-EA9AD366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41B-D043-493D-8237-AA5218D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8C4-2A5B-4A66-B231-B379DC5F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E12-558F-4A6E-898E-30E3993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DEA-38A5-406C-9F86-615E4B34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01C-1D2F-4792-A978-136C5981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E86-452E-4729-B4E1-E3975AA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1F5-5FB0-4DE2-88C5-352D61F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AD5-C54D-4883-A25A-87A2D00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DEC1-0E7D-43B4-AFDA-18279F7F2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MOLTBO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3141720"/>
            <a:ext cx="4105080" cy="276156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El “claro de luna” de Beethoven nos hace desear ver la Luz en nuestras noch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37168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4240" y="170028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30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  <p:sndAc>
      <p:stSnd>
        <p:snd r:embed="rId6" name="MOLTBO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76280"/>
            <a:ext cx="809964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amaron al ciego, diciéndole: "Ánimo, levántate, que te llama." Soltó el manto, dio un salto y se acercó a Jesú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36360" y="798480"/>
            <a:ext cx="8100720" cy="6059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60280"/>
            <a:ext cx="80298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s llamo de todos los rinc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4221000"/>
            <a:ext cx="27720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 la hora de ser una nuev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533520"/>
            <a:ext cx="756144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dijo: "¿Qué quieres que haga por ti?" El ciego le contestó: "Maestro, que pueda ver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468440"/>
            <a:ext cx="316872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 necio el caminante que  atraído por la belleza del camino olvida la meta”</a:t>
            </a:r>
            <a:br>
              <a:rPr sz="4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. Gregorio Mag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8900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anos una mirada que vaya a lo es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457200"/>
            <a:ext cx="7920000" cy="61120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dijo: "Anda, tu fe te ha curado." Y al momento recobró la vista y lo seguía por el camino.</a:t>
            </a: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704880"/>
            <a:ext cx="5100480" cy="6180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40360" y="1844640"/>
            <a:ext cx="2772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Dónde lleva el CAMINO que tu sigu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260280"/>
            <a:ext cx="65149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Fe abre los ojos que buscan sin cesar la L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260280"/>
            <a:ext cx="8497800" cy="5508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umen del sermón a la iglesia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(Mc 9,33-10, 52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765000"/>
            <a:ext cx="8569080" cy="60350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Cafarnaún sobre los valores esenciales:</a:t>
            </a:r>
            <a:br>
              <a:rPr sz="30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1- El primero que sea el último y el servidor 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2- Acoger a los más débil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3- No ir contra nadi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4- Dar la paz a todo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l otro lado del Jordán sobre los miembros de la iglesi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1- Que los matrimonios se amen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2- Que los jóvenes estén disponibles para el Rein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3- Que los que lo han dejado todo no teman las 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persecuciones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4- Que nadie ambicione hon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BRIREMOS LOS O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125360"/>
            <a:ext cx="6264360" cy="3980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una IGLESIA acogedora, que avance contigo por los caminos del evangel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5480" y="2421000"/>
            <a:ext cx="7489800" cy="5508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nal del sermón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99760" y="333360"/>
            <a:ext cx="602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SERMÓN sobre la IGLES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068640"/>
            <a:ext cx="7561440" cy="169452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a-E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Este sermón es tan paradójico, que si Jesús no nos abre los ojos de la FE, no lo podremos entend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5877000"/>
            <a:ext cx="165564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Jeric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7308720" y="0"/>
            <a:ext cx="24553800" cy="689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00360" y="5516640"/>
            <a:ext cx="5256360" cy="10076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Oasis de Jericó al final del camino que va a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404640"/>
            <a:ext cx="705672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cura las cegueras del coraz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7257 0.0074 L -0.9882 -0.003 E">
                                      <p:cBhvr>
                                        <p:cTn id="47" dur="1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04640"/>
            <a:ext cx="8604000" cy="52120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10, 46-52 En aquel tiempo, al salir Jesús de Jericó con sus discípulos y bastante gente, el ciego Bartimeo, el hijo de Timeo, estaba sentado al borde del camino, pidiendo limosn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60280"/>
            <a:ext cx="2808360" cy="29901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No os quedéis instalados al borde del camin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5300640"/>
            <a:ext cx="4211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o quiero una Iglesia que a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609480"/>
            <a:ext cx="6985080" cy="4574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oír que era Jesús Nazareno, empezó a gritar: "Hijo de David, Jesús, ten compasión de mí."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374840"/>
            <a:ext cx="7993080" cy="5483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43280" y="260280"/>
            <a:ext cx="5905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i LUZ tiene valores distintos a los vues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1773360"/>
            <a:ext cx="2698560" cy="29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ólo se ve bien con el corazón </a:t>
            </a:r>
            <a:br>
              <a:rPr sz="4000"/>
            </a:b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Saint-Exupery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365040"/>
            <a:ext cx="7848360" cy="60688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chos lo regañaban para que se callara. Pero él gritaba más: "Hijo de David, ten compasión de mí." Jesús se detuvo y dijo: "Llamadlo."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916280"/>
            <a:ext cx="3025800" cy="414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Venid todos los débiles, inseguros...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No tengáis miedo de vuestras caída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35280" y="1844640"/>
            <a:ext cx="5184720" cy="4497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333360"/>
            <a:ext cx="8064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o os llamo aunque seáis ciegos del cuerpo o del espíri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0-21T19:15:16Z</dcterms:modified>
  <cp:revision>263</cp:revision>
  <dc:subject/>
  <dc:title>evangeli</dc:title>
</cp:coreProperties>
</file>