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12C-222E-40F3-A676-82BDDC15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1E3-5FAD-4982-B9A3-E858FAE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7BF-9322-448C-9AE7-31C84CA9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E51-978A-46D4-A40C-3A114283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721-C6E4-4DAF-AD87-5382ADA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11F-7B37-4E71-86FA-C585EA4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640-BFAF-4904-9BAA-25210C4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68C-A247-4476-A583-00CA325B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4F1-DE7D-4D46-B808-0CA2632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C9F-C099-4613-9AEC-96F26DF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FB9-EB19-45A4-9B48-423C1EC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1AE-2F78-4370-9E7E-BA1855B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D17A-3142-45F9-AE5E-D5C7FCEE7C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mujer de Paco se fue a  trabajar  6 meses a los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ados Unido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, por supuesto, contrató un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hica (que estaba buenísima) para los quehacere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mésticos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día, su suegra lo llama y le avisa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va a cenar con é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2060640"/>
            <a:ext cx="5338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, la su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or supues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le quitó ojo a la chica que Paco había contratado 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95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yendo los pensamientos d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uegra, Paco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Supongo  lo que usted estará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nsando, ¡pero no dudará Ud. de que mi relación con la empleada es puramente profesional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on mutuo mosqu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os dos dieron el tema po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zanjado y terminada la cena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uegra se fu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4582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mana después, la emplead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e dice a Paco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esde que  tu suegra vino a cenar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l cucharón de plata para la sopa no aparece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eguro que se lo ha llevado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 re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Mira cielo la bruja seguro que es de todo, menos ladrona..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…de todas maneras le voy a enviar un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-mail, por si acaso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981000"/>
            <a:ext cx="853452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onces le escribe - con copia 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u mujer en los USA - 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"Querida suegra, yo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se llevara" el cucharón de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opa de mi casa, y tampoc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no se llevara" el cucharón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sopa; pero el hecho es que ha desapareci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de el dia que usted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vino a cenar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B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, Paco recibe un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 su suegra - también con copia a su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mujer - dici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"Querido yerno, yo no quier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 que ” te estés tirando" a la emplead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 tampoco quiero insinuar que "n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te estés tirando" a la empleada; pero el hecho es qu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i ella durmiera en su propia cam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a habría encontrado hace tiempo el cucharón de sopa que y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coloque allí, justo debajo de su almoha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más beso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786360" y="527040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u Sueg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usuario</cp:lastModifiedBy>
  <dcterms:modified xsi:type="dcterms:W3CDTF">2008-04-29T08:30:04Z</dcterms:modified>
  <cp:revision>16</cp:revision>
  <dc:subject/>
  <dc:title>Apresentação do PowerPoint</dc:title>
</cp:coreProperties>
</file>