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340-4EFF-41DC-B145-330D922F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EA8-F3DD-4020-9440-FC5BF76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B3D-0BE1-4142-8255-33CA145F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C2-40EC-4DB1-801C-FC5AA8DD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4D2-D467-4399-8E5D-61FD6D1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6E3-5985-47F8-8796-6B9B43D2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9D2-3E34-4443-BD3F-BB139DB3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72C-25D6-4F30-B4E3-CAFC491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5A7-41A0-490B-AB72-29E487E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E57-EEE0-477C-909F-9B5A157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17F-1D81-44A2-BC5F-D056E5F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595-E916-41CA-8F6A-97E5A11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5B8-4BAD-454B-B738-19AA20D311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mujer de Paco se fue a  trabajar  6 meses a los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ados Unido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, por supuesto, contrató un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hica (que estaba buenísima) para los quehacere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mésticos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día, su suegra lo llama y le avisa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va a cenar con é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2060640"/>
            <a:ext cx="5338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, la su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or supues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le quitó ojo a la chica que Paco había contratado 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95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yendo los pensamientos d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uegra, Paco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Supongo  lo que usted estará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nsando, ¡pero no dudará Ud. de que mi relación con la empleada es puramente profesional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on mutuo mosqu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os dos dieron el tema po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zanjado y terminada la cena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uegra se fu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458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mana después, la emplead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e dice a Paco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esde que  tu suegra vino a cenar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l cucharón de plata para la sopa no aparece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eguro que se lo ha llevado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 re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Mira cielo la bruja seguro que es de todo, menos ladrona..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…de todas maneras le voy a enviar un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-mail, por si acaso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981000"/>
            <a:ext cx="8534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onces le escribe - con copia 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u mujer en los USA - 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"Querida suegra, yo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se llevara" el cucharón de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opa de mi casa, y tampoc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no se llevara" el cucharón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sopa; pero el hecho es que ha desapareci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de el dia que usted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vino a cenar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B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, Paco recibe un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 su suegra - también con copia a su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mujer - dici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"Querido yerno, yo no quier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 que ” te estés tirando" a la emplead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 tampoco quiero insinuar que "n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te estés tirando" a la empleada; pero el hecho es qu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i ella durmiera en su propia cam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a habría encontrado hace tiempo el cucharón de sopa que y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coloque allí, justo debajo de su almoha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más beso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786360" y="52704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u Sueg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usuario</cp:lastModifiedBy>
  <dcterms:modified xsi:type="dcterms:W3CDTF">2008-04-29T08:30:04Z</dcterms:modified>
  <cp:revision>16</cp:revision>
  <dc:subject/>
  <dc:title>Apresentação do PowerPoint</dc:title>
</cp:coreProperties>
</file>