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abo%20Dn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DB9-1FA3-43F0-A81B-6A644146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7D3-07D4-4945-A4B3-77A38DFA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B3E-95E9-489A-9D9B-6AB9FA5D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1EC-F98A-498D-A386-734E31F6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9D3-667F-4146-BB8B-2804F6D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240-DCA5-4C04-9647-A63D17A9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32D-7A36-47C9-AF25-4AE81789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D68-A0B8-4763-A73D-911167D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91F-B05A-4F03-AEA0-72AC3B1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137-B783-4573-8061-CE9F6E0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B03-F623-47DA-94FD-62C8B79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18F-65D8-49C4-A75A-DFB917E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F434-6875-4C57-9129-B5BDFEC09461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abo%20Dn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41560" y="335124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3789360"/>
            <a:ext cx="59180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500" spc="-1" strike="noStrike">
                <a:solidFill>
                  <a:srgbClr val="d91608"/>
                </a:solidFill>
                <a:latin typeface="Comic Sans MS"/>
              </a:rPr>
              <a:t>17 de enero de 2010</a:t>
            </a: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492280"/>
            <a:ext cx="81374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916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5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0" lang="ca-E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4500" spc="-1" strike="noStrike">
                <a:solidFill>
                  <a:srgbClr val="ffffff"/>
                </a:solidFill>
                <a:latin typeface="Comic Sans MS"/>
              </a:rPr>
              <a:t>Domingo Tiempo Ordinar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19160"/>
            <a:ext cx="7020000" cy="1007640"/>
          </a:xfrm>
          <a:prstGeom prst="rect">
            <a:avLst/>
          </a:prstGeom>
          <a:solidFill>
            <a:srgbClr val="ccffc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Comic Sans MS"/>
              </a:rPr>
              <a:t>Música: Salmo 95 “Cantabo Domino” </a:t>
            </a:r>
            <a:br>
              <a:rPr sz="3000"/>
            </a:br>
            <a:r>
              <a:rPr b="1" i="1" lang="es-ES" sz="3000" spc="-1" strike="noStrike">
                <a:solidFill>
                  <a:srgbClr val="ffffff"/>
                </a:solidFill>
                <a:latin typeface="Comic Sans MS"/>
              </a:rPr>
              <a:t>Capella antiqua de Münc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6021360"/>
            <a:ext cx="12528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Ciclo C</a:t>
            </a: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abo%20Dn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381880" cy="558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Is 62:1-5 </a:t>
            </a: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r amor de Sión no callaré, por amor a Jerusalén no descansaré hasta que su liberación brille como la luz y su salvación llamee como antorcha. Los pueblos verán tu liberación, y los reyes tu gloria; te pondrán un nombre nuevo, pronunciado por la boca del Señor. Serás corona espléndida en manos del Señor, corona real en la palma de tu Dios. Ya no te llamarán«Abandonada», ni a tu tierra «Desolada»; Sino que te llamarán «Mi preferida», y a tu tierra «Desposada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orque el Señor te prefiere a ti, y tu tierra tendrá marido. Como un joven se casa con su novia, así se casará contigo tu constructor; la alegría que encuentra el marido con su esposa, la encontrará tu Dios conti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844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alegría del marido con su esposa, es la de Dios cont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2120" y="495360"/>
            <a:ext cx="26341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95</a:t>
            </a:r>
            <a:r>
              <a:rPr b="1" i="1" lang="ca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752480"/>
            <a:ext cx="79246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3640" y="35798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833640"/>
            <a:ext cx="851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Cantad al Señor un cantar nuevo,</a:t>
            </a:r>
            <a:br>
              <a:rPr sz="3600"/>
            </a:b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que toda la tierra cante al Señ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Cantad al Señor, bendecid su nomb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762120"/>
            <a:ext cx="83055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d91608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7000" y="3470400"/>
            <a:ext cx="696708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b0c"/>
                </a:solidFill>
                <a:latin typeface="Comic Sans MS"/>
              </a:rPr>
              <a:t> </a:t>
            </a:r>
            <a:r>
              <a:rPr b="0" i="1" lang="ca-ES" sz="3200" spc="-1" strike="noStrike">
                <a:solidFill>
                  <a:srgbClr val="fffb0c"/>
                </a:solidFill>
                <a:latin typeface="Arial"/>
                <a:ea typeface="Arial"/>
              </a:rPr>
              <a:t>Proclamad día tras día su salvación,</a:t>
            </a:r>
            <a:br>
              <a:rPr sz="3200"/>
            </a:br>
            <a:r>
              <a:rPr b="0" i="1" lang="ca-ES" sz="3200" spc="-1" strike="noStrike">
                <a:solidFill>
                  <a:srgbClr val="fffb0c"/>
                </a:solidFill>
                <a:latin typeface="Arial"/>
                <a:ea typeface="Arial"/>
              </a:rPr>
              <a:t>publicad su gloria entre las naciones.</a:t>
            </a:r>
            <a:r>
              <a:rPr b="0" i="1" lang="es-ES" sz="3200" spc="-1" strike="noStrike">
                <a:solidFill>
                  <a:srgbClr val="fffb0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2240" y="1219320"/>
            <a:ext cx="773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520" y="3506760"/>
            <a:ext cx="747000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Pueblos de la tierra, aclamad al Señor, </a:t>
            </a:r>
            <a:br>
              <a:rPr sz="3200"/>
            </a:b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reconoced la gloria y el poder del Señor,</a:t>
            </a:r>
            <a:br>
              <a:rPr sz="3200"/>
            </a:br>
            <a:r>
              <a:rPr b="0" i="1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aclamad la gloria del nombre del Señ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40" y="1219320"/>
            <a:ext cx="773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000" spc="-1" strike="noStrike">
                <a:solidFill>
                  <a:srgbClr val="ff9d00"/>
                </a:solidFill>
                <a:latin typeface="Comic Sans MS"/>
              </a:rPr>
              <a:t> </a:t>
            </a: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Contad las maravillas </a:t>
            </a:r>
            <a:br>
              <a:rPr sz="4000"/>
            </a:br>
            <a:r>
              <a:rPr b="1" i="1" lang="ca-ES" sz="4000" spc="-1" strike="noStrike">
                <a:solidFill>
                  <a:srgbClr val="ff9d00"/>
                </a:solidFill>
                <a:latin typeface="Arial"/>
                <a:ea typeface="Times New Roman"/>
              </a:rPr>
              <a:t>del Señor a todas las na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3506760"/>
            <a:ext cx="7678800" cy="20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dorad al Señor en su santuario,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tiemble en su presencia la tierra entera.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"/>
                <a:ea typeface="Arial"/>
              </a:rPr>
              <a:t>Decid a las naciones: “¡El Señor es rey!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l gobierna a los pueblos con rect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28600"/>
            <a:ext cx="8153280" cy="5946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1C 12, 5-11 </a:t>
            </a: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rmanos: Hay diversidad de dones, pero un mismo Espíritu; hay diversidad de ministerios, pero un mismo Señor; y hay diversidad de funciones, pero un mismo Dios que obra todo en todos.  En cada uno se manifiesta el Espíritu para el bien común.  Y así uno recibe del Espíritu el hablar con sabiduría; otro, el hablar con inteligencia, según el mismo Espíritu. Hay quien, por el mismo Espíritu, recibe el don de la fe;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otro, por el mismo Espíritu, don de curar. A éste le han concedido hacer milagros; a aquél, profetizar. A otro, distinguir los buenos y malos espíritus. A uno, la diversidad de lenguas; a otro, el don de interpretarlas.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mismo y único Espíritu obra todo esto, repartiendo a cada uno en particular como a él le parece. 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6140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mic Sans MS"/>
              </a:rPr>
              <a:t>Antiguo jarrón de C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8080" y="4329000"/>
            <a:ext cx="8024760" cy="2043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d91608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Aleluya             2Te 2: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Dios nos llamó por medio del Evangelio</a:t>
            </a:r>
            <a:br>
              <a:rPr sz="3200"/>
            </a:br>
            <a:r>
              <a:rPr b="1" i="1" lang="ca-ES" sz="3200" spc="-1" strike="noStrike">
                <a:solidFill>
                  <a:srgbClr val="d91608"/>
                </a:solidFill>
                <a:latin typeface="Comic Sans MS"/>
                <a:ea typeface="Arial"/>
              </a:rPr>
              <a:t>para que consigamos la gloria de nuestro Señor Jesucri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0920" y="228600"/>
            <a:ext cx="435816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Jerusalén. Muralla y Mezquita de la Ro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189000"/>
            <a:ext cx="8569080" cy="6126840"/>
          </a:xfrm>
          <a:prstGeom prst="rect">
            <a:avLst/>
          </a:prstGeom>
          <a:solidFill>
            <a:srgbClr val="cc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Arial"/>
              </a:rPr>
              <a:t>Jn 2, 1-12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aquel tiempo, había una boda en Caná de Galilea, y la madre de Jesús estaba allí. Jesús y sus discípulos estaban también invitados a la boda. Faltó el vino, y la madre de Jesús le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 les queda vino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 Jesús le contestó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ujer, déjame, todavía no ha llegado mi hor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Su madre dijo a los sirvientes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ced lo que él dig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Había allí colocadas seis tinajas de piedra, para las purificaciones de los judíos, de unos cien litros cada una. Jesús les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nad las tinajas de agua.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Y las llenaron hasta arriba. Entonces les mandó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cad ahora y llevádselo al mayordomo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 Ellos se lo llevaron. El mayordomo probó el agua convertida en vino sin saber de dónde venía (los sirvientes sí lo sabían, pues habían sacado el agua), y entonces llamó al novio y le dijo: -«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do el mundo pone primero el vino bueno y cuando ya están bebidos, el peor; tú, en cambio, has guardado el vino bueno hasta ahora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». Esto sucedió en Caná de Galilea. Fue el primer signo realizado por Jesús. Así manifestó su gloria y sus discípulos creyeron en él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a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1240" y="6308640"/>
            <a:ext cx="22762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eblo de Can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3:55:44Z</dcterms:created>
  <dc:creator>JOAN RAMIREZ</dc:creator>
  <dc:description/>
  <dc:language>en-US</dc:language>
  <cp:lastModifiedBy>Usuario</cp:lastModifiedBy>
  <dcterms:modified xsi:type="dcterms:W3CDTF">2010-01-13T12:10:53Z</dcterms:modified>
  <cp:revision>13</cp:revision>
  <dc:subject/>
  <dc:title>Presentación de PowerPoint</dc:title>
</cp:coreProperties>
</file>