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ntabo%20Dno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98E-4A63-4DCD-9B9E-BCB33AA2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1B6-7FB1-4284-97AA-3AA0E131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4E2-A700-4D42-8EE7-EB67B72F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80A-4867-460B-98DC-19A4F61B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028-779E-4117-9BC3-90D6902C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C00-39E9-4966-9D5B-E40E9163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994-4B58-4F72-8847-0F0F41CC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37E-D797-4C74-AD2F-98D907AA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D4C-D795-48D4-AE9C-D2BC6B72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11C-ED3F-46F2-B5C3-B164F6D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5F1-0C48-4D6F-9D6E-B0BD8D87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E4B-8656-44C0-BBD3-5FE061E4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E730-0FF6-4DA1-B702-1B1D79FADC88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ntabo%20Dno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41560" y="3351240"/>
            <a:ext cx="183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3789360"/>
            <a:ext cx="591804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500" spc="-1" strike="noStrike">
                <a:solidFill>
                  <a:srgbClr val="d91608"/>
                </a:solidFill>
                <a:latin typeface="Comic Sans MS"/>
              </a:rPr>
              <a:t>17 de enero de 2010</a:t>
            </a:r>
            <a:r>
              <a:rPr b="0" i="1" lang="ca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492280"/>
            <a:ext cx="813744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916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500" spc="-1" strike="noStrike">
                <a:solidFill>
                  <a:srgbClr val="ffffff"/>
                </a:solidFill>
                <a:latin typeface="Comic Sans MS"/>
              </a:rPr>
              <a:t>II</a:t>
            </a:r>
            <a:r>
              <a:rPr b="0" lang="ca-E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ca-ES" sz="4500" spc="-1" strike="noStrike">
                <a:solidFill>
                  <a:srgbClr val="ffffff"/>
                </a:solidFill>
                <a:latin typeface="Comic Sans MS"/>
              </a:rPr>
              <a:t>Domingo Tiempo Ordinar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119160"/>
            <a:ext cx="7020000" cy="1007640"/>
          </a:xfrm>
          <a:prstGeom prst="rect">
            <a:avLst/>
          </a:prstGeom>
          <a:solidFill>
            <a:srgbClr val="ccffc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Comic Sans MS"/>
              </a:rPr>
              <a:t>Música: Salmo 95 “Cantabo Domino” </a:t>
            </a:r>
            <a:br>
              <a:rPr sz="3000"/>
            </a:br>
            <a:r>
              <a:rPr b="1" i="1" lang="es-ES" sz="3000" spc="-1" strike="noStrike">
                <a:solidFill>
                  <a:srgbClr val="ffffff"/>
                </a:solidFill>
                <a:latin typeface="Comic Sans MS"/>
              </a:rPr>
              <a:t>Capella antiqua de Münc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6021360"/>
            <a:ext cx="12528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Ciclo C</a:t>
            </a:r>
            <a:r>
              <a:rPr b="0" lang="ca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ntabo%20Dn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228600"/>
            <a:ext cx="8381880" cy="558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Is 62:1-5 </a:t>
            </a: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r amor de Sión no callaré, por amor a Jerusalén no descansaré hasta que su liberación brille como la luz y su salvación llamee como antorcha. Los pueblos verán tu liberación, y los reyes tu gloria; te pondrán un nombre nuevo, pronunciado por la boca del Señor. Serás corona espléndida en manos del Señor, corona real en la palma de tu Dios. Ya no te llamarán«Abandonada», ni a tu tierra «Desolada»; Sino que te llamarán «Mi preferida», y a tu tierra «Desposada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rque el Señor te prefiere a ti, y tu tierra tendrá marido. Como un joven se casa con su novia, así se casará contigo tu constructor; la alegría que encuentra el marido con su esposa, la encontrará tu Dios conti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248520"/>
            <a:ext cx="8444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alegría del marido con su esposa, es la de Dios cont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2120" y="495360"/>
            <a:ext cx="263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4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4400" spc="-1" strike="noStrike">
                <a:solidFill>
                  <a:srgbClr val="ffffff"/>
                </a:solidFill>
                <a:latin typeface="Comic Sans MS"/>
              </a:rPr>
              <a:t>95</a:t>
            </a:r>
            <a:r>
              <a:rPr b="1" i="1" lang="ca-E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752480"/>
            <a:ext cx="79246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000" spc="-1" strike="noStrike">
                <a:solidFill>
                  <a:srgbClr val="ff9d00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Contad las maravillas </a:t>
            </a:r>
            <a:br>
              <a:rPr sz="4000"/>
            </a:b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del Señor a todas las na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3640" y="357984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833640"/>
            <a:ext cx="8515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600" spc="-1" strike="noStrike">
                <a:solidFill>
                  <a:srgbClr val="ffffff"/>
                </a:solidFill>
                <a:latin typeface="Arial"/>
                <a:ea typeface="Arial"/>
              </a:rPr>
              <a:t>Cantad al Señor un cantar nuevo,</a:t>
            </a:r>
            <a:br>
              <a:rPr sz="3600"/>
            </a:br>
            <a:r>
              <a:rPr b="0" i="1" lang="ca-ES" sz="3600" spc="-1" strike="noStrike">
                <a:solidFill>
                  <a:srgbClr val="ffffff"/>
                </a:solidFill>
                <a:latin typeface="Arial"/>
                <a:ea typeface="Arial"/>
              </a:rPr>
              <a:t>que toda la tierra cante al Señ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600" spc="-1" strike="noStrike">
                <a:solidFill>
                  <a:srgbClr val="ffffff"/>
                </a:solidFill>
                <a:latin typeface="Arial"/>
                <a:ea typeface="Arial"/>
              </a:rPr>
              <a:t>Cantad al Señor, bendecid su nomb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762120"/>
            <a:ext cx="830556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000" spc="-1" strike="noStrike">
                <a:solidFill>
                  <a:srgbClr val="d91608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Contad las maravillas </a:t>
            </a:r>
            <a:br>
              <a:rPr sz="4000"/>
            </a:b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del Señor a todas las na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7000" y="3470400"/>
            <a:ext cx="6967080" cy="1068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fffb0c"/>
                </a:solidFill>
                <a:latin typeface="Comic Sans MS"/>
              </a:rPr>
              <a:t> </a:t>
            </a:r>
            <a:r>
              <a:rPr b="0" i="1" lang="ca-ES" sz="3200" spc="-1" strike="noStrike">
                <a:solidFill>
                  <a:srgbClr val="fffb0c"/>
                </a:solidFill>
                <a:latin typeface="Arial"/>
                <a:ea typeface="Arial"/>
              </a:rPr>
              <a:t>Proclamad día tras día su salvación,</a:t>
            </a:r>
            <a:br>
              <a:rPr sz="3200"/>
            </a:br>
            <a:r>
              <a:rPr b="0" i="1" lang="ca-ES" sz="3200" spc="-1" strike="noStrike">
                <a:solidFill>
                  <a:srgbClr val="fffb0c"/>
                </a:solidFill>
                <a:latin typeface="Arial"/>
                <a:ea typeface="Arial"/>
              </a:rPr>
              <a:t>publicad su gloria entre las naciones.</a:t>
            </a:r>
            <a:r>
              <a:rPr b="0" i="1" lang="es-ES" sz="3200" spc="-1" strike="noStrike">
                <a:solidFill>
                  <a:srgbClr val="fffb0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2240" y="1219320"/>
            <a:ext cx="7738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000" spc="-1" strike="noStrike">
                <a:solidFill>
                  <a:srgbClr val="ff9d00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Contad las maravillas </a:t>
            </a:r>
            <a:br>
              <a:rPr sz="4000"/>
            </a:b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del Señor a todas las na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520" y="3506760"/>
            <a:ext cx="747000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Pueblos de la tierra, aclamad al Señor, </a:t>
            </a:r>
            <a:br>
              <a:rPr sz="3200"/>
            </a:br>
            <a:r>
              <a:rPr b="0" i="1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reconoced la gloria y el poder del Señor,</a:t>
            </a:r>
            <a:br>
              <a:rPr sz="3200"/>
            </a:br>
            <a:r>
              <a:rPr b="0" i="1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aclamad la gloria del nombre del Señ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2240" y="1219320"/>
            <a:ext cx="7738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000" spc="-1" strike="noStrike">
                <a:solidFill>
                  <a:srgbClr val="ff9d00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Contad las maravillas </a:t>
            </a:r>
            <a:br>
              <a:rPr sz="4000"/>
            </a:b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del Señor a todas las na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5360" y="3506760"/>
            <a:ext cx="7678800" cy="204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dorad al Señor en su santuario,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tiemble en su presencia la tierra entera.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Decid a las naciones: “¡El Señor es rey!”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l gobierna a los pueblos con rect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28600"/>
            <a:ext cx="8153280" cy="5946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1C 12, 5-11 </a:t>
            </a: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ermanos: Hay diversidad de dones, pero un mismo Espíritu; hay diversidad de ministerios, pero un mismo Señor; y hay diversidad de funciones, pero un mismo Dios que obra todo en todos.  En cada uno se manifiesta el Espíritu para el bien común.  Y así uno recibe del Espíritu el hablar con sabiduría; otro, el hablar con inteligencia, según el mismo Espíritu. Hay quien, por el mismo Espíritu, recibe el don de la fe;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 otro, por el mismo Espíritu, don de curar. A éste le han concedido hacer milagros; a aquél, profetizar. A otro, distinguir los buenos y malos espíritus. A uno, la diversidad de lenguas; a otro, el don de interpretarlas.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mismo y único Espíritu obra todo esto, repartiendo a cada uno en particular como a él le parece. </a:t>
            </a: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61405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mic Sans MS"/>
              </a:rPr>
              <a:t>Antiguo jarrón de Ca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8080" y="4329000"/>
            <a:ext cx="8024760" cy="2043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d91608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d91608"/>
                </a:solidFill>
                <a:latin typeface="Comic Sans MS"/>
                <a:ea typeface="Arial"/>
              </a:rPr>
              <a:t>Aleluya             2Te 2: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d91608"/>
                </a:solidFill>
                <a:latin typeface="Comic Sans MS"/>
                <a:ea typeface="Arial"/>
              </a:rPr>
              <a:t>Dios nos llamó por medio del Evangelio</a:t>
            </a:r>
            <a:br>
              <a:rPr sz="3200"/>
            </a:br>
            <a:r>
              <a:rPr b="1" i="1" lang="ca-ES" sz="3200" spc="-1" strike="noStrike">
                <a:solidFill>
                  <a:srgbClr val="d91608"/>
                </a:solidFill>
                <a:latin typeface="Comic Sans MS"/>
                <a:ea typeface="Arial"/>
              </a:rPr>
              <a:t>para que consigamos la gloria de nuestro Señor Jesucri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0920" y="228600"/>
            <a:ext cx="435816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omic Sans MS"/>
              </a:rPr>
              <a:t>Jerusalén. Muralla y Mezquita de la Ro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189000"/>
            <a:ext cx="8569080" cy="6126840"/>
          </a:xfrm>
          <a:prstGeom prst="rect">
            <a:avLst/>
          </a:prstGeom>
          <a:solidFill>
            <a:srgbClr val="ccff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Arial"/>
                <a:ea typeface="Arial"/>
              </a:rPr>
              <a:t>Jn 2, 1-12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n aquel tiempo, había una boda en Caná de Galilea, y la madre de Jesús estaba allí. Jesús y sus discípulos estaban también invitados a la boda. Faltó el vino, y la madre de Jesús le dijo: -«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 les queda vino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» Jesús le contestó: -«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ujer, déjame, todavía no ha llegado mi hora.»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Su madre dijo a los sirvientes: -«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aced lo que él diga.»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Había allí colocadas seis tinajas de piedra, para las purificaciones de los judíos, de unos cien litros cada una. Jesús les dijo: -«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lenad las tinajas de agua.»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Y las llenaron hasta arriba. Entonces les mandó: -«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acad ahora y llevádselo al mayordomo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» Ellos se lo llevaron. El mayordomo probó el agua convertida en vino sin saber de dónde venía (los sirvientes sí lo sabían, pues habían sacado el agua), y entonces llamó al novio y le dijo: -«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do el mundo pone primero el vino bueno y cuando ya están bebidos, el peor; tú, en cambio, has guardado el vino bueno hasta ahora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». Esto sucedió en Caná de Galilea. Fue el primer signo realizado por Jesús. Así manifestó su gloria y sus discípulos creyeron en él</a:t>
            </a:r>
            <a:r>
              <a:rPr b="1" lang="ca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a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71240" y="6308640"/>
            <a:ext cx="22762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ueblo de Can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3:55:44Z</dcterms:created>
  <dc:creator>JOAN RAMIREZ</dc:creator>
  <dc:description/>
  <dc:language>en-US</dc:language>
  <cp:lastModifiedBy>Usuario</cp:lastModifiedBy>
  <dcterms:modified xsi:type="dcterms:W3CDTF">2010-01-13T12:10:53Z</dcterms:modified>
  <cp:revision>13</cp:revision>
  <dc:subject/>
  <dc:title>Presentación de PowerPoint</dc:title>
</cp:coreProperties>
</file>