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rnesto%20Cortazar%20-%20with_you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BEF-9F44-4B4A-808D-44DAFA8A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16E-1250-43F9-A910-AEE13745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64B-9209-46F8-A3EF-0982CC56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8E7-06D8-40AA-A55C-C0B80940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672-1D4F-4D05-AB9C-F79BB9B2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EAE-8BA7-4B04-AD67-9AD15218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A3C-48B3-42CA-A8F7-872F4029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ED7-3D07-4B51-89A0-4309E652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E53-6397-48F2-8994-CF90988C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9B2-C7F1-49DD-9CE4-4085E302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C08-239C-44F8-91C0-AAB70CE5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544-66D7-4102-A20D-5A8C657D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990033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990033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6B21-CF9F-4BDD-BD5D-789898BB5FA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rnesto%20Cortazar%20-%20with_you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9810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Cuenta una historia que dos amigos iban caminando por el desierto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60020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Pero cuando alguien hace algo bueno por nosotros, debemos grabarlo en piedra donde ningún viento pueda borrarlo. 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85800" y="1600200"/>
            <a:ext cx="76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990033"/>
              </a:solidFill>
              <a:latin typeface="Courier New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0" y="152388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APRENDE A ESCRIBIR TUS HERIDAS EN LA ARENA Y GRABAR EN PIEDRA TUS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VENTURAS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22860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Dicen que toma un minuto encontrar a una persona especial, una hora para apreciarla, un día para amarla, pero una vida entera para olvidarla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7524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nvía esto a la gente que nunca olvidas y recuerda regresarla a la persona que te la envió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438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s un mensaje corto para que sepan que nunca los olvidarás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9810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Si no se lo envías a nadie, significa que tienes prisa y te has olvidado de tus amigos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19051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0000"/>
                </a:solidFill>
                <a:latin typeface="Verdana"/>
              </a:rPr>
              <a:t>TÓMATE EL TIEMPO PARA VIVIR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9144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STE DÍA HE SIDO HONRADO CON LA AMISTAD DE MUCHA GENTE MARAVILLOSA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NTRE ELLAS TÚ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CONSIDERA ESTO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GRABADO EN PIEDRA”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304812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600" spc="-1" strike="noStrike">
                <a:solidFill>
                  <a:srgbClr val="000000"/>
                </a:solidFill>
                <a:latin typeface="Verdana"/>
              </a:rPr>
              <a:t>¡¡¡QUE DIOS TE BENDIGA!!!</a:t>
            </a:r>
            <a:endParaRPr b="0" i="1" lang="en-US" sz="46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26"/>
          <p:cNvSpPr/>
          <p:nvPr/>
        </p:nvSpPr>
        <p:spPr>
          <a:xfrm>
            <a:off x="0" y="14479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n algún punto del viaje comenzaron a discutir, y uno de ellos le dio una bofetada al otro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13716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Lastimado, pero sin decir nada, escribió en la arena: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MI MEJOR AMIGO ME DIO HOY UNA BOFETADA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190512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Siguieron caminando hasta que encontraron un oasis, donde decidieron bañarse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026"/>
          <p:cNvSpPr/>
          <p:nvPr/>
        </p:nvSpPr>
        <p:spPr>
          <a:xfrm>
            <a:off x="0" y="144792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El amigo que había sido abofeteado comenzó a ahogarse, pero su amigo lo salvó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2952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Después de recuperarse, escribió en una piedra: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MI MEJOR AMIGO HOY SALVÓ MI VIDA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2133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l amigo que había abofeteado y salvado a su mejor amigo preguntó: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26"/>
          <p:cNvSpPr/>
          <p:nvPr/>
        </p:nvSpPr>
        <p:spPr>
          <a:xfrm>
            <a:off x="0" y="14479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Cuando te lastimé escribiste en la arena y ahora lo haces en una piedra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¿Por qué?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91440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l otro amigo le respondió: 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Cuando alguien nos lastima debemos escribirlo en la arena donde los vientos del perdón puedan borrarlo.</a:t>
            </a:r>
            <a:endParaRPr b="0" i="1" lang="en-US" sz="4000" spc="-1" strike="noStrike">
              <a:solidFill>
                <a:srgbClr val="990033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8:51:54Z</dcterms:created>
  <dc:creator>IRIS MARITZA MONTES</dc:creator>
  <dc:description/>
  <dc:language>en-US</dc:language>
  <cp:lastModifiedBy>fernando</cp:lastModifiedBy>
  <dcterms:modified xsi:type="dcterms:W3CDTF">2009-02-18T22:22:22Z</dcterms:modified>
  <cp:revision>8</cp:revision>
  <dc:subject>PARA MIS AMIGOS CON CARIÑO</dc:subject>
  <dc:title>GRABADO EN PIEDRA</dc:title>
</cp:coreProperties>
</file>