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Ernesto%20Cortazar%20-%20with_you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50E-E5EB-4ACF-9A8A-9A2D9A51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0EF-0699-4D00-AE22-702DBC3A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A83-0E71-4C7F-82C1-1E2A12C2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745-168A-4BC3-AD9A-0FB441D1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05D-6789-401F-BEBE-C4003EF9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D292-877E-472B-B939-2FA347CD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714-5C58-4183-BA3C-292448C2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2F2-AC30-41D7-82C0-9A342D5B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295-0632-445E-B8DB-90A8E9CD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5AE-F3D5-4BDB-A004-76AD1BD4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985-B3D1-44F0-B103-C3CEFA7B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495-AF60-4F50-BF05-05AEDB3F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990033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990033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FFC0-E7C9-4EC1-A7E1-A1E43C5707C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rnesto%20Cortazar%20-%20with_you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9810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Cuenta una historia que dos amigos iban caminando por el desierto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60020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Pero cuando alguien hace algo bueno por nosotros, debemos grabarlo en piedra donde ningún viento pueda borrarlo. 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85800" y="1600200"/>
            <a:ext cx="769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990033"/>
              </a:solidFill>
              <a:latin typeface="Courier New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0" y="152388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APRENDE A ESCRIBIR TUS HERIDAS EN LA ARENA Y GRABAR EN PIEDRA TUS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VENTURAS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22860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Dicen que toma un minuto encontrar a una persona especial, una hora para apreciarla, un día para amarla, pero una vida entera para olvidarla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7524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Envía esto a la gente que nunca olvidas y recuerda regresarla a la persona que te la envió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438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Es un mensaje corto para que sepan que nunca los olvidarás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9810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Si no se lo envías a nadie, significa que tienes prisa y te has olvidado de tus amigos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19051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0000"/>
                </a:solidFill>
                <a:latin typeface="Verdana"/>
              </a:rPr>
              <a:t>TÓMATE EL TIEMPO PARA VIVIR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9144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ESTE DÍA HE SIDO HONRADO CON LA AMISTAD DE MUCHA GENTE MARAVILLOSA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ENTRE ELLAS TÚ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CONSIDERA ESTO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GRABADO EN PIEDRA”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304812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600" spc="-1" strike="noStrike">
                <a:solidFill>
                  <a:srgbClr val="000000"/>
                </a:solidFill>
                <a:latin typeface="Verdana"/>
              </a:rPr>
              <a:t>¡¡¡QUE DIOS TE BENDIGA!!!</a:t>
            </a:r>
            <a:endParaRPr b="0" i="1" lang="en-US" sz="46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026"/>
          <p:cNvSpPr/>
          <p:nvPr/>
        </p:nvSpPr>
        <p:spPr>
          <a:xfrm>
            <a:off x="0" y="14479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En algún punto del viaje comenzaron a discutir, y uno de ellos le dio una bofetada al otro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13716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Lastimado, pero sin decir nada, escribió en la arena: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MI MEJOR AMIGO ME DIO HOY UNA BOFETADA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0" y="1905120"/>
            <a:ext cx="9144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Siguieron caminando hasta que encontraron un oasis, donde decidieron bañarse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026"/>
          <p:cNvSpPr/>
          <p:nvPr/>
        </p:nvSpPr>
        <p:spPr>
          <a:xfrm>
            <a:off x="0" y="1447920"/>
            <a:ext cx="9144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El amigo que había sido abofeteado comenzó a ahogarse, pero su amigo lo salvó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2952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Después de recuperarse, escribió en una piedra: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MI MEJOR AMIGO HOY SALVÓ MI VIDA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21337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El amigo que había abofeteado y salvado a su mejor amigo preguntó: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26"/>
          <p:cNvSpPr/>
          <p:nvPr/>
        </p:nvSpPr>
        <p:spPr>
          <a:xfrm>
            <a:off x="0" y="14479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Cuando te lastimé escribiste en la arena y ahora lo haces en una piedra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¿Por qué?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914400"/>
            <a:ext cx="914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El otro amigo le respondió: 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Cuando alguien nos lastima debemos escribirlo en la arena donde los vientos del perdón puedan borrarlo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8:51:54Z</dcterms:created>
  <dc:creator>IRIS MARITZA MONTES</dc:creator>
  <dc:description/>
  <dc:language>en-US</dc:language>
  <cp:lastModifiedBy>fernando</cp:lastModifiedBy>
  <dcterms:modified xsi:type="dcterms:W3CDTF">2009-02-18T22:22:22Z</dcterms:modified>
  <cp:revision>8</cp:revision>
  <dc:subject>PARA MIS AMIGOS CON CARIÑO</dc:subject>
  <dc:title>GRABADO EN PIEDRA</dc:title>
</cp:coreProperties>
</file>