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verna%20M%C3%A1gic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F643-58C7-404C-AC27-D974F8E2322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5A63-5498-47F6-AB7F-DE77A538A24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157B-C722-40E3-8607-13B2562D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F4B0-2CD8-4C7A-8090-7230B54F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8F6E-3508-4BE3-B65C-4DB59E54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2FED-85F1-41E2-BEB5-63911101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4CAF-FA1B-4F99-A817-E7409E5F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C7B-7284-476D-B25B-9D446562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BFA4-6593-4438-92A7-7308238A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DB3E-83DC-4F59-8CDD-31F57E24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106E-00AD-46D5-9C08-0C37AE17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385-AB3D-41DA-AFA4-7BA1DDB3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D924-C25F-4926-8FA7-A892EDF5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0AE3-DAB5-45ED-AE01-B6F911DE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4C57-CFD7-4787-A675-FEBE3FBD385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verna%20M&#225;gic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H01046J"/>
          <p:cNvPicPr/>
          <p:nvPr/>
        </p:nvPicPr>
        <p:blipFill>
          <a:blip r:embed="rId1"/>
          <a:stretch/>
        </p:blipFill>
        <p:spPr>
          <a:xfrm>
            <a:off x="108000" y="152280"/>
            <a:ext cx="4952880" cy="6400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24000" y="1341000"/>
            <a:ext cx="5219640" cy="2289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ff0000"/>
                </a:solidFill>
                <a:latin typeface="Arial Black"/>
              </a:rPr>
              <a:t>LA TiERRA</a:t>
            </a:r>
            <a:br>
              <a:rPr sz="4400"/>
            </a:br>
            <a:br>
              <a:rPr sz="1200"/>
            </a:br>
            <a:r>
              <a:rPr b="1" lang="es-CO" sz="4400" spc="-1" strike="noStrike">
                <a:solidFill>
                  <a:srgbClr val="ff0000"/>
                </a:solidFill>
                <a:latin typeface="Arial Black"/>
              </a:rPr>
              <a:t>En</a:t>
            </a:r>
            <a:br>
              <a:rPr sz="4400"/>
            </a:br>
            <a:r>
              <a:rPr b="1" lang="es-CO" sz="4400" spc="-1" strike="noStrike">
                <a:solidFill>
                  <a:srgbClr val="ff0000"/>
                </a:solidFill>
                <a:latin typeface="Arial Black"/>
              </a:rPr>
              <a:t>MINI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364000" y="189000"/>
            <a:ext cx="36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Comic Sans MS"/>
              </a:rPr>
              <a:t>Conecte El So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352320" y="1599840"/>
            <a:ext cx="5410440" cy="4505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Si usted puede ir a su iglesia sin miedo de ser humillado, preso, torturado o muert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entonces usted es mas afortunado que             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3 billones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                       de personas en el mundo.</a:t>
            </a:r>
            <a:r>
              <a:rPr b="0" lang="es-ES" sz="3200" spc="-1" strike="noStrike">
                <a:solidFill>
                  <a:srgbClr val="0000ff"/>
                </a:solidFill>
                <a:latin typeface="Copperplate Gothic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457200" y="144792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123720" y="1599840"/>
            <a:ext cx="57150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Si usted ti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comida en el refrigerado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ropa en el armari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un techo sobre su cab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y un lugar donde dormi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usted es mas rico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7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de la población mundi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457200" y="144792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500"/>
                            </p:stCondLst>
                            <p:childTnLst>
                              <p:par>
                                <p:cTn id="25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500"/>
                            </p:stCondLst>
                            <p:childTnLst>
                              <p:par>
                                <p:cTn id="27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8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76360" y="1828800"/>
            <a:ext cx="5638680" cy="41162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Si u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guarda dinero en el banc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en la carter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y tiene algunas monedas   guardadas en una caja fuerte..., ento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ya está entre los             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8%                                   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mas ricos de este mundo.</a:t>
            </a:r>
            <a:r>
              <a:rPr b="0" lang="es-ES" sz="3600" spc="-1" strike="noStrike">
                <a:solidFill>
                  <a:srgbClr val="0000ff"/>
                </a:solidFill>
                <a:latin typeface="Copperplate Gothic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214200" y="150012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499920" y="2000160"/>
            <a:ext cx="4526280" cy="3027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Si sus padres aún están vivos                y unido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Usted es una persona 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muy rara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457200" y="144792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42800" y="1142640"/>
            <a:ext cx="5924520" cy="4505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Si usted leyó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este mensaj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acaba de recib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una doble bendició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alguien estaba pens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en usted y, mas aú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tiene mejor suerte 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mas de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2 bill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de personas en este mund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que ni siquiera saben le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285840" y="142884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228600" y="1447920"/>
            <a:ext cx="278928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999880" y="1000080"/>
            <a:ext cx="5929560" cy="5632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Lo que va... vuelve.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Envíe este mensaje a todos los que usted considera amig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Lleve la conciencia del mundo  a alguien</a:t>
            </a:r>
            <a:r>
              <a:rPr b="1" lang="es-CO" sz="3200" spc="-1" strike="noStrike">
                <a:solidFill>
                  <a:srgbClr val="00006e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La única cosa que puede suceder,        si decide           enviarlo, es que, gracias a usted, alguien se sentirá mas Bendec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000"/>
                            </p:stCondLst>
                            <p:childTnLst>
                              <p:par>
                                <p:cTn id="356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504960" y="1600200"/>
            <a:ext cx="5257800" cy="4060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6e"/>
                </a:solidFill>
                <a:latin typeface="Tahoma"/>
              </a:rPr>
              <a:t>Si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pudiésemos reducir 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población de la 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a una pequeña al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de exacta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100 habitantes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manteniendo las propor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existentes actualmen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sería algo así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457200" y="144792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24360" y="2276640"/>
            <a:ext cx="4000320" cy="2830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Habrí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57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asiáticos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 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21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europe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africanos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americ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685800" y="144792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50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76360" y="1142640"/>
            <a:ext cx="5638680" cy="4073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52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82"/>
                </a:solidFill>
                <a:latin typeface="Tahoma"/>
              </a:rPr>
              <a:t>muje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48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hombres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Tahoma"/>
              </a:rPr>
              <a:t>70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no serían blancos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Tahoma"/>
              </a:rPr>
              <a:t>30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serían blancos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9900"/>
                </a:solidFill>
                <a:latin typeface="Tahoma"/>
              </a:rPr>
              <a:t>70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no cristianos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9900"/>
                </a:solidFill>
                <a:latin typeface="Tahoma"/>
              </a:rPr>
              <a:t>30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cristia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99"/>
                </a:solidFill>
                <a:latin typeface="Tahoma"/>
              </a:rPr>
              <a:t>89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heterosexu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99"/>
                </a:solidFill>
                <a:latin typeface="Tahoma"/>
              </a:rPr>
              <a:t>11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homosexuales</a:t>
            </a:r>
            <a:r>
              <a:rPr b="1" lang="es-ES" sz="3600" spc="-1" strike="noStrike">
                <a:solidFill>
                  <a:srgbClr val="00006e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228600" y="137160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5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5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143160" y="1447560"/>
            <a:ext cx="5772240" cy="40734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36000" bIns="360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personas poseerían   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59%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de toda la riqueza      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    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(si, 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de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) serían   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 norte-americanos.</a:t>
            </a:r>
            <a:r>
              <a:rPr b="0" lang="es-ES" sz="3200" spc="-1" strike="noStrike">
                <a:solidFill>
                  <a:srgbClr val="00006e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De las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100</a:t>
            </a:r>
            <a:r>
              <a:rPr b="1" lang="es-ES" sz="3200" spc="-1" strike="noStrike">
                <a:solidFill>
                  <a:srgbClr val="c20000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persona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80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vivirían en  condiciones</a:t>
            </a:r>
            <a:r>
              <a:rPr b="1" lang="es-CO" sz="3200" spc="-1" strike="noStrike">
                <a:solidFill>
                  <a:srgbClr val="00006e"/>
                </a:solidFill>
                <a:latin typeface="Tahoma"/>
              </a:rPr>
              <a:t> s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ub-humanas</a:t>
            </a:r>
            <a:r>
              <a:rPr b="1" lang="es-CO" sz="3200" spc="-1" strike="noStrike">
                <a:solidFill>
                  <a:srgbClr val="00006e"/>
                </a:solidFill>
                <a:latin typeface="Tahoma"/>
              </a:rPr>
              <a:t>.</a:t>
            </a:r>
            <a:r>
              <a:rPr b="0" lang="es-ES" sz="3600" spc="-1" strike="noStrike">
                <a:solidFill>
                  <a:srgbClr val="0000ff"/>
                </a:solidFill>
                <a:latin typeface="Copperplate Gothic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228600" y="137160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" nodeType="afterEffect" fill="hold" presetClass="entr" presetID="1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500"/>
                            </p:stCondLst>
                            <p:childTnLst>
                              <p:par>
                                <p:cTn id="11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71880" y="1599840"/>
            <a:ext cx="585792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70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no sabrían le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50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sufrirían de desnutri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persona estaría a punto  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de mor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bebé estaría próximo a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nac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Solo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(sí, solo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) tendría educación universitaria.</a:t>
            </a:r>
            <a:r>
              <a:rPr b="0" lang="es-ES" sz="3200" spc="-1" strike="noStrike">
                <a:solidFill>
                  <a:srgbClr val="00006e"/>
                </a:solidFill>
                <a:latin typeface="Copperplate Gothic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357120" y="150012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3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3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3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95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3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3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00400" y="1066320"/>
            <a:ext cx="5562720" cy="4559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En ésta aldea, habría apenas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1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persona que posee una computadora</a:t>
            </a:r>
            <a:r>
              <a:rPr b="1" lang="es-CO" sz="3200" spc="-1" strike="noStrike">
                <a:solidFill>
                  <a:srgbClr val="00006e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Al analizar nuestro mundo desde esta perspectiva tan reducida, se hace mas p</a:t>
            </a:r>
            <a:r>
              <a:rPr b="1" lang="es-CO" sz="3200" spc="-1" strike="noStrike">
                <a:solidFill>
                  <a:srgbClr val="00006e"/>
                </a:solidFill>
                <a:latin typeface="Tahoma"/>
              </a:rPr>
              <a:t>resente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la necesidad de aceptación, entendimiento,</a:t>
            </a:r>
            <a:r>
              <a:rPr b="1" lang="es-CO" sz="3200" spc="-1" strike="noStrike">
                <a:solidFill>
                  <a:srgbClr val="00006e"/>
                </a:solidFill>
                <a:latin typeface="Tahoma"/>
              </a:rPr>
              <a:t>                   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y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educación.</a:t>
            </a:r>
            <a:r>
              <a:rPr b="1" lang="es-ES" sz="3600" spc="-1" strike="noStrike">
                <a:solidFill>
                  <a:srgbClr val="00006e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228600" y="152388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999880" y="1447920"/>
            <a:ext cx="5929560" cy="45050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6e"/>
                </a:solidFill>
                <a:latin typeface="Tahoma"/>
              </a:rPr>
              <a:t>Ahora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piens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Si usted se levanto           esta mañana con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mas salud</a:t>
            </a:r>
            <a:r>
              <a:rPr b="1" lang="es-CO" sz="3200" spc="-1" strike="noStrike">
                <a:solidFill>
                  <a:srgbClr val="00006e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que</a:t>
            </a:r>
            <a:r>
              <a:rPr b="1" lang="es-CO" sz="3200" spc="-1" strike="noStrike">
                <a:solidFill>
                  <a:srgbClr val="00006e"/>
                </a:solidFill>
                <a:latin typeface="Tahoma"/>
              </a:rPr>
              <a:t> e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nfermedades, entonces usted tiene mas suerte que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millones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de personas que no sobrevivirán esta semana.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214200" y="142884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714760" y="1447560"/>
            <a:ext cx="6000480" cy="4011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Si usted nunca experimentó los peligros de la guerr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la soledad de estar pres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la agonía de ser torturad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o la aflicción del hambr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entonces, usted está mejor que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500 millones</a:t>
            </a:r>
            <a:r>
              <a:rPr b="1" lang="es-ES" sz="3200" spc="-1" strike="noStrike">
                <a:solidFill>
                  <a:srgbClr val="00006e"/>
                </a:solidFill>
                <a:latin typeface="Tahoma"/>
              </a:rPr>
              <a:t> de personas.</a:t>
            </a:r>
            <a:r>
              <a:rPr b="1" lang="es-E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PH01046J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135720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12:29:26Z</dcterms:created>
  <dc:creator>*****</dc:creator>
  <dc:description/>
  <dc:language>en-US</dc:language>
  <cp:lastModifiedBy>JAVIER DE LA PAZ DE H.</cp:lastModifiedBy>
  <dcterms:modified xsi:type="dcterms:W3CDTF">2007-11-06T16:22:47Z</dcterms:modified>
  <cp:revision>72</cp:revision>
  <dc:subject/>
  <dc:title>TEORIA  DO  11</dc:title>
</cp:coreProperties>
</file>