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verna%20M%C3%A1gic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34E3-0DDB-4F21-B2FE-E235889272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62C0-B0ED-48B5-BE7A-178A586810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A50-F37E-44C2-A8E3-136CA8E9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916-0454-4595-AF12-5CBF690F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AF9-B14C-426A-9363-5D4B022F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AAD-D632-4FDB-8D7E-110C7BCE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BEF-14E3-4C09-B67B-82B11FA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8A7-53B1-4154-8A76-7883FDA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4F1-33CD-4DF4-B228-8818C0A8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79E-1751-41ED-AF2A-D1402D9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20F-60C6-4E62-A7CF-E6602EC2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860-3DED-4A0D-8D32-3C27C348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17E-3190-4BDE-B07E-ED2D000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DA4-D3AC-442D-8864-90B5822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58AF-00F5-4D0D-AD32-FB54381DF0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verna%20M&#225;gic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H01046J"/>
          <p:cNvPicPr/>
          <p:nvPr/>
        </p:nvPicPr>
        <p:blipFill>
          <a:blip r:embed="rId1"/>
          <a:stretch/>
        </p:blipFill>
        <p:spPr>
          <a:xfrm>
            <a:off x="108000" y="15228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24000" y="1341000"/>
            <a:ext cx="5219640" cy="2289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0000"/>
                </a:solidFill>
                <a:latin typeface="Arial Black"/>
              </a:rPr>
              <a:t>LA TiERRA</a:t>
            </a:r>
            <a:br>
              <a:rPr sz="4400"/>
            </a:br>
            <a:br>
              <a:rPr sz="1200"/>
            </a:br>
            <a:r>
              <a:rPr b="1" lang="es-CO" sz="4400" spc="-1" strike="noStrike">
                <a:solidFill>
                  <a:srgbClr val="ff0000"/>
                </a:solidFill>
                <a:latin typeface="Arial Black"/>
              </a:rPr>
              <a:t>En</a:t>
            </a:r>
            <a:br>
              <a:rPr sz="4400"/>
            </a:br>
            <a:r>
              <a:rPr b="1" lang="es-CO" sz="4400" spc="-1" strike="noStrike">
                <a:solidFill>
                  <a:srgbClr val="ff0000"/>
                </a:solidFill>
                <a:latin typeface="Arial Black"/>
              </a:rPr>
              <a:t>MINI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64000" y="189000"/>
            <a:ext cx="36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onecte El So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352320" y="1599840"/>
            <a:ext cx="5410440" cy="4505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puede ir a su iglesia sin miedo de ser humillado, preso, torturado o muer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tonces usted es mas afortunado que          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3 billon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                      de personas en el mundo.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123720" y="1599840"/>
            <a:ext cx="57150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comida en el refrigerad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ropa en el armari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n techo sobre su cab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 un lugar donde dormi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sted es mas ric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la población mundi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76360" y="1828800"/>
            <a:ext cx="5638680" cy="4116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guarda dinero en el banc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 la carte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 tiene algunas monedas   guardadas en una caja fuerte...,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a está entre los          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8%                                 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s ricos de este mundo.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14200" y="15001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499920" y="2000160"/>
            <a:ext cx="4526280" cy="302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sus padres aún están vivos                y unid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sted es una persona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uy rara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42800" y="1142640"/>
            <a:ext cx="5924520" cy="4505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ley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ste mensa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caba de recib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na doble bendi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lguien estaba pens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 usted y, mas aú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tiene mejor suerte 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s de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2 bill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personas en este mun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que ni siquiera saben le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85840" y="142884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447920"/>
            <a:ext cx="2789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999880" y="1000080"/>
            <a:ext cx="5929560" cy="5632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Lo que va... vuelve.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víe este mensaje a todos los que usted considera ami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leve la conciencia del mundo  a alguien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a única cosa que puede suceder,        si decide           enviarlo, es que, gracias a usted, alguien se sentirá mas Bende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257800" cy="406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Si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udiésemos reducir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oblación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 una pequeña al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exact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00 habitant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nteniendo las propor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xistentes actualmen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ería algo así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24360" y="2276640"/>
            <a:ext cx="4000320" cy="283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abrí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7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asiáticos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21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urope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african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americ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58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76360" y="1142640"/>
            <a:ext cx="5638680" cy="40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2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82"/>
                </a:solidFill>
                <a:latin typeface="Tahoma"/>
              </a:rPr>
              <a:t>muj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48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ombre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70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o serían blanc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30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erían blanc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Tahoma"/>
              </a:rPr>
              <a:t>70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o cristian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Tahoma"/>
              </a:rPr>
              <a:t>30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cristi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Tahoma"/>
              </a:rPr>
              <a:t>89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eterosexu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Tahoma"/>
              </a:rPr>
              <a:t>11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omosexuales</a:t>
            </a:r>
            <a:r>
              <a:rPr b="1" lang="es-ES" sz="36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37160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143160" y="1447560"/>
            <a:ext cx="5772240" cy="4073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ersonas poseerían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9%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de toda la riqueza      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  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(si,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) serían 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norte-americanos.</a:t>
            </a:r>
            <a:r>
              <a:rPr b="0" lang="es-ES" sz="32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las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s-ES" sz="3200" spc="-1" strike="noStrike">
                <a:solidFill>
                  <a:srgbClr val="c2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erso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80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vivirían en  condiciones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b-humanas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.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37160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71880" y="1599840"/>
            <a:ext cx="58579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70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no sabrían le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sufrirían de desnutri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persona estaría a punto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mor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bebé estaría próximo a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a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olo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(sí, solo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) tendría educación universitaria.</a:t>
            </a:r>
            <a:r>
              <a:rPr b="0" lang="es-ES" sz="3200" spc="-1" strike="noStrike">
                <a:solidFill>
                  <a:srgbClr val="00006e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57120" y="15001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00400" y="1066320"/>
            <a:ext cx="5562720" cy="4559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 ésta aldea, habría apenas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ersona que posee una computadora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l analizar nuestro mundo desde esta perspectiva tan reducida, se hace mas p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resente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la necesidad de aceptación, entendimiento,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educación.</a:t>
            </a:r>
            <a:r>
              <a:rPr b="1" lang="es-ES" sz="36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52388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999880" y="1447920"/>
            <a:ext cx="5929560" cy="45050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Ahora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pien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se levanto           esta mañana con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s salud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que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e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fermedades, entonces usted tiene mas suerte que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illon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de personas que no sobrevivirán esta semana.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14200" y="142884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714760" y="1447560"/>
            <a:ext cx="6000480" cy="4011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nunca experimentó los peligros de la guer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a soledad de estar pres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a agonía de ser tortura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o la aflicción del hambr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tonces, usted está mejor que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00 millon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de personas.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135720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2:29:26Z</dcterms:created>
  <dc:creator>*****</dc:creator>
  <dc:description/>
  <dc:language>en-US</dc:language>
  <cp:lastModifiedBy>JAVIER DE LA PAZ DE H.</cp:lastModifiedBy>
  <dcterms:modified xsi:type="dcterms:W3CDTF">2007-11-06T16:22:47Z</dcterms:modified>
  <cp:revision>72</cp:revision>
  <dc:subject/>
  <dc:title>TEORIA  DO  11</dc:title>
</cp:coreProperties>
</file>