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enya%20-%20only%20time.wav" ContentType="audio/x-wav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8E03-4152-4EFE-AEA1-3BC77DFA0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5E39-4BBB-40C4-945C-ADBC9642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7072-9699-40FB-B456-460B17B1C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2959-FC59-46E4-B060-ED5B1393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AEEB-C84A-48A7-A884-F889F618E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A8CD-BA8C-4DFA-B63E-1F526AFD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3CB3-5AF5-4937-93C7-957CA34A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C5C3-DE82-444D-A089-396D1E9C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71D8-170C-4DC6-B2BC-887C5833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0BE0-A600-4C50-9DB7-747A0BFB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F8D8-D8A6-4766-AF5B-6C6D0D27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E800-8608-40E6-B400-17D54F8B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8369-ED77-4E2F-83C4-B9FECEF0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E7A6-1136-421F-8589-39E9BC5D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10F8-E7C2-47FB-85B6-EF751B4E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2506-F46D-4F42-8A68-909FB36BE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929A-82BA-4DEF-A60C-9DEADDDD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8E2D3-2AD5-4F5F-9FE8-43D6000E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41701-DEDF-4155-AE92-18464CAF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96583-7482-4655-AAE0-EEDBE033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A051E-597D-4855-8061-CAFC9D08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11348-74C6-489F-9536-13A2B36A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89AC-A14A-4E8E-8B87-E308BF4A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EA9BA-7E0F-46BE-83A4-0EAEB6D7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E18C9-4043-4B72-8C86-EC6D896B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3C687-ED88-42F8-8532-FB85D832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4D9FC-728F-4DD9-9526-8ED71057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683DB-37A7-4D02-8914-3CD7256C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20189-F7A6-4976-AD8F-AA01507C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48DA8-1021-44AC-AEC1-0443F996A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F0022-D89F-4DA5-8DFD-3AD80F502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A43A3-BCA4-45AB-925B-9FE9E1DE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1BE70-65F7-4A12-BAE9-FAAB605F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C6EC-209D-4EDC-A390-9380C9BD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B004F-CF4B-4A22-B90D-2F2530FA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D3332-E0E8-4CDF-8826-C641013C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FE0B4-1B4C-4120-B34B-ADEFDB43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8C181-0861-406D-8DB3-EAB5A7DB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A0D42-FACD-4792-82DB-B2224B4D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10AAF-EE93-43FC-B5E7-F83DF599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4EA47-5154-4464-B700-92421012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BEF64-A041-4F29-B320-DD24860B6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1459F-7AB5-46F7-8F89-F32212F45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BC020-1564-43EC-84AC-688BDC7C1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D556-62C9-4DB3-9512-C66AFD27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F4C41-9540-46AF-A3DC-73C6D9DD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E606B-881D-4BB4-9616-44764866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A8E0E-487E-44AE-8AD9-3E818498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8F84C-5D13-4B53-A5D4-C6AE0BC9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2B57A-8C7F-4DF1-A961-C26565FD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10CC6-6B43-458B-9560-C59D592A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A3F01-5C42-4B99-872E-7A42DDC4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4A87D-6876-4DE6-A72E-827C7D23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4FBEA-74E4-44BB-808F-8D4158D5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2478F-4578-460F-BD4B-B8655BBE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D147-80BA-4BF1-8673-CF43B20B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128AD-8A88-41D6-82C8-615977E6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07D3-3960-4059-929C-D6E25338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2E46-0E66-4B6D-9E46-B47D59DA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964E-DE1A-4B73-B4DF-86F8FED8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81E8-D4A3-47BD-9387-5877C0A3C7D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3079-CE58-4E13-A771-55BC918AF68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B3A4-E7EC-4995-A4D3-DC1398E1CE25}" type="slidenum">
              <a:rPr b="0" lang="es-C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A064-88C7-45A7-8F94-990E68BF658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CACF-90CF-436D-8DD3-EF6B70BF27D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enya%20-%20only%20time.wav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9600" spc="-1" strike="noStrike">
                <a:solidFill>
                  <a:srgbClr val="ffffff"/>
                </a:solidFill>
                <a:latin typeface="Times New Roman"/>
              </a:rPr>
              <a:t>Felicidad</a:t>
            </a:r>
            <a:br>
              <a:rPr sz="9600"/>
            </a:br>
            <a:r>
              <a:rPr b="0" i="1" lang="es-MX" sz="9600" spc="-1" strike="noStrike">
                <a:solidFill>
                  <a:srgbClr val="ffffff"/>
                </a:solidFill>
                <a:latin typeface="Times New Roman"/>
              </a:rPr>
              <a:t>¿</a:t>
            </a:r>
            <a:r>
              <a:rPr b="0" i="1" lang="es-ES" sz="9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MX" sz="9600" spc="-1" strike="noStrike">
                <a:solidFill>
                  <a:srgbClr val="ffffff"/>
                </a:solidFill>
                <a:latin typeface="Times New Roman"/>
              </a:rPr>
              <a:t>espués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  <p:sndAc>
      <p:stSnd>
        <p:snd r:embed="rId2" name="enya%20-%20only%20tim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 atesóralo más, porque lo compartiste con alguien especial;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an especial que lo llevas en tu corazón y recuerda que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 TIEMPO NO ESPERA POR NAD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sí que deja de esperar hasta que termines la universidad, hasta qu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 enamores, hasta que encuentre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bajo, hasta que te cases, hasta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que tengas hijos, hasta que se vayan de casa, hasta que te divorcies, hasta que pierdas esos diez kilo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5800" y="609480"/>
            <a:ext cx="7772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....hasta el viernes por la noche o hasta el domingo por la mañana, hasta la primavera, el verano, el otoño o el invierno, o hasta que  te mueras, para decidir que no hay mejor momento que justamente</a:t>
            </a: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 este</a:t>
            </a:r>
            <a:br>
              <a:rPr sz="4400"/>
            </a:b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¡¡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PARA SER FELIZ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ffffff"/>
                </a:solidFill>
                <a:latin typeface="Times New Roman"/>
              </a:rPr>
              <a:t>LA FELICIDAD </a:t>
            </a:r>
            <a:br>
              <a:rPr sz="5000"/>
            </a:br>
            <a:r>
              <a:rPr b="0" lang="es-ES" sz="5000" spc="-1" strike="noStrike">
                <a:solidFill>
                  <a:srgbClr val="ffffff"/>
                </a:solidFill>
                <a:latin typeface="Times New Roman"/>
              </a:rPr>
              <a:t>ES UN TRAYECTO, </a:t>
            </a:r>
            <a:br>
              <a:rPr sz="5000"/>
            </a:br>
            <a:r>
              <a:rPr b="0" lang="es-ES" sz="5000" spc="-1" strike="noStrike">
                <a:solidFill>
                  <a:srgbClr val="ffffff"/>
                </a:solidFill>
                <a:latin typeface="Times New Roman"/>
              </a:rPr>
              <a:t>NO UN DESTIN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09480"/>
            <a:ext cx="7772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TRABAJA COMO SI NO NECESITA</a:t>
            </a: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RA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S DINERO, 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AMA COMO SI NUNCA TE HUBIERAN HERIDO,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 Y BAILA COMO SI NADIE TE ESTUVIERA VIEN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685800" y="60948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Manda este mensaje a todas aquéllas personas a quienes </a:t>
            </a: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estimas, a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 tus amigos, y a los que deseas toda la felicidad del mun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ffff"/>
                </a:solidFill>
                <a:latin typeface="Times New Roman"/>
              </a:rPr>
              <a:t>Recuerda ... </a:t>
            </a:r>
            <a:br>
              <a:rPr sz="6000"/>
            </a:br>
            <a:r>
              <a:rPr b="1" lang="es-MX" sz="6000" spc="-1" strike="noStrike">
                <a:solidFill>
                  <a:srgbClr val="ffffff"/>
                </a:solidFill>
                <a:latin typeface="Times New Roman"/>
              </a:rPr>
              <a:t>Se Féliz   ¡HOY!</a:t>
            </a:r>
            <a:br>
              <a:rPr sz="6000"/>
            </a:br>
            <a:br>
              <a:rPr sz="6000"/>
            </a:br>
            <a:r>
              <a:rPr b="1" lang="es-MX" sz="4400" spc="-1" strike="noStrike">
                <a:solidFill>
                  <a:srgbClr val="ffffff"/>
                </a:solidFill>
                <a:latin typeface="Times New Roman"/>
              </a:rPr>
              <a:t>Que tengas un bonito d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48392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s convencemos a nosotros mismos de que la vida será mejor despué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pués de terminar la carrera, después de conseguir trabajo, después de casarnos, después de tener un hijo, y entonces después de tener otr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Luego nos sentimos frustrados porque nuestros hijos no son lo suficientemente grandes, y pensamos que seremos más felices cuando crezcan y dejen de ser niños</a:t>
            </a: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4400"/>
            </a:b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espués nos desesperamos porque son adolescentes, difíciles de trat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ensamos: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espués 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eremos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ás felices cuando 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algan de esa etap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09480"/>
            <a:ext cx="7772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Luego decidimos que nuestra vida será completa cu</a:t>
            </a: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ndo a nuestro esposo o esposa le vaya mejor, cu</a:t>
            </a: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ndo tengamos un mejor coche, cu</a:t>
            </a: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ndo nos podamos ir de vacaciones, cu</a:t>
            </a: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ndo consigamos el ascenso, cuando nos retirem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1844640"/>
            <a:ext cx="77724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 verdad es que</a:t>
            </a:r>
            <a:br>
              <a:rPr sz="4400"/>
            </a:br>
            <a:br>
              <a:rPr sz="4400"/>
            </a:b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NO HAY MEJOR MOMENTO PARA SER FELIZ QUE </a:t>
            </a:r>
            <a:br>
              <a:rPr sz="4400"/>
            </a:b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AHORA MISM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i no es ahora, ¿cuándo?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 vida siempre estará llena de luegos, de retos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, de despué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s mejor admitirlo y decidir ser felices ahora de todas formas.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o hay un 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espué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, ni un camino para la felicidad, la felicidad es el camino y es AHO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42064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ATESORA CADA MOMENTO QUE VIVE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6T17:55:51Z</dcterms:created>
  <dc:creator>Administrador</dc:creator>
  <dc:description/>
  <dc:language>en-US</dc:language>
  <cp:lastModifiedBy>Oralia</cp:lastModifiedBy>
  <dcterms:modified xsi:type="dcterms:W3CDTF">2006-11-03T19:13:41Z</dcterms:modified>
  <cp:revision>16</cp:revision>
  <dc:subject/>
  <dc:title>FELICIDAD</dc:title>
</cp:coreProperties>
</file>