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enya%20-%20only%20tim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C1D-D988-4AD7-B63D-B792667C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CB2-2399-4C61-AC37-1EFC93B5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234-4C5F-4D4C-BC7B-C5A8CDB8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E1A-1972-4FB6-BC7B-026C82D8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7DD8-D0DC-4773-9036-5C29A4F3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F2B1-77A5-4EBE-A2B4-FF7B0E33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010-7CF6-4C1F-B6AB-30A0AAC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EB04-C3EA-4CAD-B4CD-DC5AFC5F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CB6-547F-444D-A68D-B66BC7BE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0C20-BF3B-42A8-A996-2D3D236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4BFD-F9D4-4B59-8349-98ED725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7C8-C4B5-460F-9059-722312F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4FBA-E97A-4DF1-B84F-D3C7B88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195-3E63-4AA2-874E-180F265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2B44-899A-4D01-AE3A-7FE9D0F6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7DF1-08F7-4B86-BB51-46056DB3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D4F3-57DE-402C-8441-2EB8E063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676F-97BD-4AEE-9E49-3A64CEB5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2CC1-21BE-409E-9FDB-2B006D7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84E2-FA50-4CC8-A578-64E30720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277C-F85A-4587-8BE2-6C0EEFCF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E24E-CF4E-4A47-B0A2-47402BD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095-58D5-4FCB-A489-4652588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3226-F2C2-421D-BA53-7BA9B82D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F3D7-71C5-41B9-972D-90BDAEB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B267-A765-4FED-B3AF-297E6EA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79BC-F6E1-4991-871A-FAE807A4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10F5-2AFC-49A5-AA6C-B8ECAE2E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C8B6-3E1E-46BC-B669-A8BF01D3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9407-6C2D-4784-B103-AE6D79C5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9EFA-00F3-4266-A750-12444385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E7E8-C076-4E22-9C98-2A64080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328E-860F-4E63-9780-CECD22D0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B98-3061-4C56-AC31-592A7D5F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9DCA-0C17-4BD7-B2CB-3FC1903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F2F9-5072-49E7-83CB-ED42F448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AAB4-7633-4FD3-BE46-CBD87BBF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FB93-C77F-4C03-9B0E-67CD77F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FFE7-51BC-4504-AB19-84F8337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67AA-8375-4F4B-BFDF-961AC0A3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D029-0EA8-4E9A-9CD9-4758B93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DD48-48BD-4BC4-8151-7D9DB82E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D710-A4CD-4DBD-8C6D-CA042631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7653C-A7E6-4B60-8A1B-9B067D42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9C1-C979-492D-8CCF-A24FF6EC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7FC3-F2BD-4BB5-9B9C-B26501B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2046-17A9-4864-AA6D-5B1E956B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DE846-E040-4EAC-BB56-9D9851D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2469-E0A7-4DED-B0AC-1F157B5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131C8-099A-4972-B3B3-71548D91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8AE6-A537-47F4-BFC8-F2CEB6E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B3169-6388-4C10-AF2E-14AFC4BE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CA1F-4479-435A-884A-9402FD4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1CC5-E302-44BE-B4C1-35221214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37CB-E86F-4352-8E8A-0FE2DA37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DEF-6711-4B60-952B-09618A6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695D1-46DF-45A9-8DBC-02B5A6DE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A27-342B-403C-ADFD-7BF10E9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5F0-6466-4FA1-B349-75C5954E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3BE-7579-43C6-A104-F1C590FB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AB02-38BE-456D-9DC4-865A1D2A5A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806-4F76-4FB7-94C3-864395DBE9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2E61-EAED-40D4-8EB6-C10DDACC1300}" type="slidenum">
              <a:rPr b="0" lang="es-C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4977-B5C4-4D03-8372-27F2C02453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7925-91E6-4D18-BF6B-E6821F12672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nya%20-%20only%20tim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600" spc="-1" strike="noStrike">
                <a:solidFill>
                  <a:srgbClr val="ffffff"/>
                </a:solidFill>
                <a:latin typeface="Times New Roman"/>
              </a:rPr>
              <a:t>Felicidad</a:t>
            </a:r>
            <a:br>
              <a:rPr sz="9600"/>
            </a:br>
            <a:r>
              <a:rPr b="0" i="1" lang="es-MX" sz="96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0" i="1" lang="es-ES" sz="9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MX" sz="9600" spc="-1" strike="noStrike">
                <a:solidFill>
                  <a:srgbClr val="ffffff"/>
                </a:solidFill>
                <a:latin typeface="Times New Roman"/>
              </a:rPr>
              <a:t>espués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enya%20-%20only%20ti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 atesóralo más, porque lo compartiste con alguien especial;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n especial que lo llevas en tu corazón y recuerda qu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TIEMPO NO ESPERA POR NAD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í que deja de esperar hasta que termines la universidad, hasta q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 enamores, hasta que encuentr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bajo, hasta que te cases, hast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que tengas hijos, hasta que se vayan de casa, hasta que te divorcies, hasta que pierdas esos diez kil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0948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...hasta el viernes por la noche o hasta el domingo por la mañana, hasta la primavera, el verano, el otoño o el invierno, o hasta que  te mueras, para decidir que no hay mejor momento que justamente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 este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¡¡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ARA SER FELIZ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Times New Roman"/>
              </a:rPr>
              <a:t>LA FELICIDAD </a:t>
            </a:r>
            <a:br>
              <a:rPr sz="5000"/>
            </a:br>
            <a:r>
              <a:rPr b="0" lang="es-ES" sz="5000" spc="-1" strike="noStrike">
                <a:solidFill>
                  <a:srgbClr val="ffffff"/>
                </a:solidFill>
                <a:latin typeface="Times New Roman"/>
              </a:rPr>
              <a:t>ES UN TRAYECTO, </a:t>
            </a:r>
            <a:br>
              <a:rPr sz="5000"/>
            </a:br>
            <a:r>
              <a:rPr b="0" lang="es-ES" sz="5000" spc="-1" strike="noStrike">
                <a:solidFill>
                  <a:srgbClr val="ffffff"/>
                </a:solidFill>
                <a:latin typeface="Times New Roman"/>
              </a:rPr>
              <a:t>NO UN DESTIN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0948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RABAJA COMO SI NO NECESITA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R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 DINERO,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MA COMO SI NUNCA TE HUBIERAN HERIDO,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Y BAILA COMO SI NADIE TE ESTUVIERA VIE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anda este mensaje a todas aquéllas personas a quienes 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stimas, 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tus amigos, y a los que deseas toda la felicidad de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Times New Roman"/>
              </a:rPr>
              <a:t>Recuerda ... </a:t>
            </a:r>
            <a:br>
              <a:rPr sz="6000"/>
            </a:br>
            <a:r>
              <a:rPr b="1" lang="es-MX" sz="6000" spc="-1" strike="noStrike">
                <a:solidFill>
                  <a:srgbClr val="ffffff"/>
                </a:solidFill>
                <a:latin typeface="Times New Roman"/>
              </a:rPr>
              <a:t>Se Féliz   ¡HOY!</a:t>
            </a:r>
            <a:br>
              <a:rPr sz="6000"/>
            </a:br>
            <a:br>
              <a:rPr sz="6000"/>
            </a:b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Que tengas un bonito d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s convencemos a nosotros mismos de que la vida será mejor despué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ués de terminar la carrera, después de conseguir trabajo, después de casarnos, después de tener un hijo, y entonces después de tener ot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uego nos sentimos frustrados porque nuestros hijos no son lo suficientemente grandes, y pensamos que seremos más felices cuando crezcan y dejen de ser niños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spués nos desesperamos porque son adolescentes, difíciles de trat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ensamos: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pués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remo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ás felices cuando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algan de esa etap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Luego decidimos que nuestra vida será completa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a nuestro esposo o esposa le vaya mejor,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tengamos un mejor coche,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nos podamos ir de vacaciones, cu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do consigamos el ascenso, cuando nos retire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1844640"/>
            <a:ext cx="77724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verdad es que</a:t>
            </a:r>
            <a:br>
              <a:rPr sz="4400"/>
            </a:b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NO HAY MEJOR MOMENTO PARA SER FELIZ QUE </a:t>
            </a: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AHORA MISM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 no es ahora, ¿cuándo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vida siempre estará llena de luegos, de retos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, de despué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 mejor admitirlo y decidir ser felices ahora de todas formas.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 hay un 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pué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, ni un camino para la felicidad, la felicidad es el camino y es A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TESORA CADA MOMENTO QUE VIV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55:51Z</dcterms:created>
  <dc:creator>Administrador</dc:creator>
  <dc:description/>
  <dc:language>en-US</dc:language>
  <cp:lastModifiedBy>Oralia</cp:lastModifiedBy>
  <dcterms:modified xsi:type="dcterms:W3CDTF">2006-11-03T19:13:41Z</dcterms:modified>
  <cp:revision>16</cp:revision>
  <dc:subject/>
  <dc:title>FELICIDAD</dc:title>
</cp:coreProperties>
</file>