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binu%20malkenu%20pregariaw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820-1F5E-4B7D-A118-6BE1E078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91F-0888-4E4F-A5E6-AA8325C3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843-8DE8-4110-A5F9-0291E2B0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9AB-AEE1-43B9-9BD7-B19AC066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E74-E253-4E11-823E-6257E8C8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C64-D96E-408C-8550-CCBD82AA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B03-8F6B-4DD0-9FC6-56462F92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3B6-FFC7-4203-92F1-1BD1649B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FC6-7A41-4F1C-A83D-F567AD3D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C83-04AC-4821-BA27-4D1EFC1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CB4-BC9F-478A-9E1C-4AF62BF1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7C9-9E14-4C1D-BC51-6E55B163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B79-DA3B-4CE8-8FCD-B20B54FDCD93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binu%20malkenu%20pregaria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7164360" y="609300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ca-ES" sz="2400" spc="-1" strike="noStrike">
                <a:solidFill>
                  <a:srgbClr val="ffffff"/>
                </a:solidFill>
                <a:latin typeface="Comic Sans MS"/>
              </a:rPr>
              <a:t>Ciclo A</a:t>
            </a:r>
            <a:r>
              <a:rPr b="1" lang="ca-ES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044080" y="4653000"/>
            <a:ext cx="6282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0a0a"/>
                </a:solidFill>
                <a:latin typeface="Comic Sans MS"/>
              </a:rPr>
              <a:t>9 de octubre de 2011</a:t>
            </a:r>
            <a:r>
              <a:rPr b="0" i="1" lang="ca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076480" y="2708280"/>
            <a:ext cx="548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90ce1"/>
                </a:solidFill>
                <a:latin typeface="Comic Sans MS"/>
              </a:rPr>
              <a:t>  </a:t>
            </a:r>
            <a:r>
              <a:rPr b="1" i="1" lang="ca-ES" sz="4800" spc="-1" strike="noStrike">
                <a:solidFill>
                  <a:srgbClr val="090ce1"/>
                </a:solidFill>
                <a:latin typeface="Comic Sans MS"/>
              </a:rPr>
              <a:t>XXVIII domingo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90ce1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090ce1"/>
                </a:solidFill>
                <a:latin typeface="Comic Sans MS"/>
              </a:rPr>
              <a:t>Tiempo Ordinario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95280" y="333360"/>
            <a:ext cx="777564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800" spc="-1" strike="noStrike">
                <a:solidFill>
                  <a:srgbClr val="ff0a0a"/>
                </a:solidFill>
                <a:latin typeface="Comic Sans MS"/>
              </a:rPr>
              <a:t>Música: “Abinu malkenu” plegaria sefardita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  <p:sndAc>
      <p:stSnd>
        <p:snd r:embed="rId2" name="abinu%20malkenu%20pregari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1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missa3tw"/>
          <p:cNvPicPr/>
          <p:nvPr/>
        </p:nvPicPr>
        <p:blipFill>
          <a:blip r:embed="rId1"/>
          <a:stretch/>
        </p:blipFill>
        <p:spPr>
          <a:xfrm>
            <a:off x="1440000" y="0"/>
            <a:ext cx="626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152280" y="304920"/>
            <a:ext cx="8991720" cy="6006960"/>
          </a:xfrm>
          <a:prstGeom prst="rect">
            <a:avLst/>
          </a:prstGeom>
          <a:solidFill>
            <a:srgbClr val="ffcc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Is 25:6-9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Señor todopoderoso preparará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este monte para todos los pueblo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festín de manjares suculentos,un festín de vinos de solera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jares exquisitos, vinos refinado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en este monte destruirá la mortaja que cubre todos los pueblos, el sudario que tapa a todas las nacione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truirá la muerte para siempre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ará las lágrimas de todos los rostros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borrará de la tierra el oprobio de su puebl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o ha dicho el Señor-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quel día dirán: «Éste es nuestro Dios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 quien esperábamos la salvación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ste es el Señor en quien confiábamos;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egrémonos y hagamos fiesta pues él nos ha salvado»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ha posado en este monte la mano del Señ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1 Rectángulo"/>
          <p:cNvSpPr/>
          <p:nvPr/>
        </p:nvSpPr>
        <p:spPr>
          <a:xfrm>
            <a:off x="3677040" y="6105600"/>
            <a:ext cx="51458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Señor prepara un festí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35360" y="76320"/>
            <a:ext cx="354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600" spc="-1" strike="noStrike">
                <a:solidFill>
                  <a:srgbClr val="ffc011"/>
                </a:solidFill>
                <a:latin typeface="Comic Sans MS"/>
              </a:rPr>
              <a:t> </a:t>
            </a:r>
            <a:r>
              <a:rPr b="0" i="1" lang="ca-ES" sz="6600" spc="-1" strike="noStrike">
                <a:solidFill>
                  <a:srgbClr val="ffc011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ffc011"/>
                </a:solidFill>
                <a:latin typeface="Comic Sans MS"/>
              </a:rPr>
              <a:t>22</a:t>
            </a:r>
            <a:r>
              <a:rPr b="1" i="1" lang="ca-ES" sz="6600" spc="-1" strike="noStrike">
                <a:solidFill>
                  <a:srgbClr val="ffc011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04920" y="1484280"/>
            <a:ext cx="883908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4400" spc="-1" strike="noStrike">
                <a:solidFill>
                  <a:srgbClr val="ffffff"/>
                </a:solidFill>
                <a:latin typeface="Comic Sans MS"/>
              </a:rPr>
              <a:t>Habitaré en la casa del Señor,</a:t>
            </a:r>
            <a:br>
              <a:rPr sz="4400"/>
            </a:br>
            <a:r>
              <a:rPr b="1" i="1" lang="ca-ES" sz="4400" spc="-1" strike="noStrike">
                <a:solidFill>
                  <a:srgbClr val="ffffff"/>
                </a:solidFill>
                <a:latin typeface="Comic Sans MS"/>
              </a:rPr>
              <a:t>por días sin términ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30120" y="3527280"/>
            <a:ext cx="881388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90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8fff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8fffff"/>
                </a:solidFill>
                <a:latin typeface="Comic Sans MS"/>
                <a:ea typeface="Times New Roman"/>
              </a:rPr>
              <a:t>El Señor es mi pastor, nada me falta.</a:t>
            </a:r>
            <a:br>
              <a:rPr sz="2800"/>
            </a:br>
            <a:r>
              <a:rPr b="1" i="1" lang="es-ES" sz="2800" spc="-1" strike="noStrike">
                <a:solidFill>
                  <a:srgbClr val="8fffff"/>
                </a:solidFill>
                <a:latin typeface="Comic Sans MS"/>
                <a:ea typeface="Times New Roman"/>
              </a:rPr>
              <a:t>En prados de hierba fresca me hace reposar,</a:t>
            </a:r>
            <a:br>
              <a:rPr sz="2800"/>
            </a:br>
            <a:r>
              <a:rPr b="1" i="1" lang="es-ES" sz="2800" spc="-1" strike="noStrike">
                <a:solidFill>
                  <a:srgbClr val="8fffff"/>
                </a:solidFill>
                <a:latin typeface="Comic Sans MS"/>
                <a:ea typeface="Times New Roman"/>
              </a:rPr>
              <a:t>me conduce junto a aguas tranquilas, y repone mis fuerza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"/>
          <p:cNvPicPr/>
          <p:nvPr/>
        </p:nvPicPr>
        <p:blipFill>
          <a:blip r:embed="rId1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29"/>
          <p:cNvSpPr/>
          <p:nvPr/>
        </p:nvSpPr>
        <p:spPr>
          <a:xfrm>
            <a:off x="228600" y="285912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0a0a"/>
                </a:solidFill>
                <a:latin typeface="Comic Sans MS"/>
              </a:rPr>
              <a:t> </a:t>
            </a:r>
            <a:r>
              <a:rPr b="0" i="1" lang="es-E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 guía por la senda del bien, </a:t>
            </a:r>
            <a:br>
              <a:rPr sz="2800"/>
            </a:br>
            <a:r>
              <a:rPr b="0" i="1" lang="es-E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ciendo honor a su nombre.</a:t>
            </a:r>
            <a:br>
              <a:rPr sz="2800"/>
            </a:br>
            <a:r>
              <a:rPr b="0" i="1" lang="es-E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unque pase por un valle tenebroso, </a:t>
            </a:r>
            <a:br>
              <a:rPr sz="2800"/>
            </a:br>
            <a:r>
              <a:rPr b="0" i="1" lang="es-E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ingún mal temeré: porque tú estás conmigo; </a:t>
            </a:r>
            <a:br>
              <a:rPr sz="2800"/>
            </a:br>
            <a:r>
              <a:rPr b="0" i="1" lang="es-E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u vara y tu cayado me dan seguridad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030"/>
          <p:cNvSpPr/>
          <p:nvPr/>
        </p:nvSpPr>
        <p:spPr>
          <a:xfrm>
            <a:off x="152280" y="76500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4400" spc="-1" strike="noStrike">
                <a:solidFill>
                  <a:srgbClr val="ffc011"/>
                </a:solidFill>
                <a:latin typeface="Comic Sans MS"/>
              </a:rPr>
              <a:t>Habitaré en la casa del Señor,</a:t>
            </a:r>
            <a:br>
              <a:rPr sz="4400"/>
            </a:br>
            <a:r>
              <a:rPr b="1" i="1" lang="ca-ES" sz="4400" spc="-1" strike="noStrike">
                <a:solidFill>
                  <a:srgbClr val="ffc011"/>
                </a:solidFill>
                <a:latin typeface="Comic Sans MS"/>
              </a:rPr>
              <a:t>por días sin términ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0" y="2971800"/>
            <a:ext cx="9147240" cy="22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90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14ffec"/>
                </a:solidFill>
                <a:latin typeface="Comic Sans MS"/>
              </a:rPr>
              <a:t> </a:t>
            </a:r>
            <a:r>
              <a:rPr b="0" i="1" lang="es-ES" sz="3200" spc="-1" strike="noStrike">
                <a:solidFill>
                  <a:srgbClr val="8fffff"/>
                </a:solidFill>
                <a:latin typeface="Comic Sans MS"/>
                <a:ea typeface="Times New Roman"/>
              </a:rPr>
              <a:t>Me preparas un banquete para envidia de mis adversarios, perfumas con ungüento mi cabeza y mi copa</a:t>
            </a:r>
            <a:r>
              <a:rPr b="0" i="1" lang="es-ES" sz="2800" spc="-1" strike="noStrike">
                <a:solidFill>
                  <a:srgbClr val="8fffff"/>
                </a:solidFill>
                <a:latin typeface="Comic Sans MS"/>
                <a:ea typeface="Times New Roman"/>
              </a:rPr>
              <a:t> rebosa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0" y="60948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4400" spc="-1" strike="noStrike">
                <a:solidFill>
                  <a:srgbClr val="ffffff"/>
                </a:solidFill>
                <a:latin typeface="Comic Sans MS"/>
              </a:rPr>
              <a:t>Habitaré en la casa del Señor,</a:t>
            </a:r>
            <a:br>
              <a:rPr sz="4400"/>
            </a:br>
            <a:r>
              <a:rPr b="1" i="1" lang="ca-ES" sz="4400" spc="-1" strike="noStrike">
                <a:solidFill>
                  <a:srgbClr val="ffffff"/>
                </a:solidFill>
                <a:latin typeface="Comic Sans MS"/>
              </a:rPr>
              <a:t>por días sin términ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580x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755640" y="3276720"/>
            <a:ext cx="838836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90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14ffec"/>
                </a:solidFill>
                <a:latin typeface="Comic Sans MS"/>
              </a:rPr>
              <a:t> </a:t>
            </a:r>
            <a:r>
              <a:rPr b="1" i="1" lang="es-E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u amor y tu bondad me acompañan todos los días de mi vida;</a:t>
            </a:r>
            <a:br>
              <a:rPr sz="3600"/>
            </a:br>
            <a:r>
              <a:rPr b="1" i="1" lang="es-E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y habitaré en la casa del Señor </a:t>
            </a:r>
            <a:br>
              <a:rPr sz="3600"/>
            </a:br>
            <a:r>
              <a:rPr b="1" i="1" lang="es-E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por días sin términ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83808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4400" spc="-1" strike="noStrike">
                <a:solidFill>
                  <a:srgbClr val="ffc011"/>
                </a:solidFill>
                <a:latin typeface="Comic Sans MS"/>
              </a:rPr>
              <a:t>Habitaré en la casa del Señor,</a:t>
            </a:r>
            <a:br>
              <a:rPr sz="4400"/>
            </a:br>
            <a:r>
              <a:rPr b="1" i="1" lang="ca-ES" sz="4400" spc="-1" strike="noStrike">
                <a:solidFill>
                  <a:srgbClr val="ffc011"/>
                </a:solidFill>
                <a:latin typeface="Comic Sans MS"/>
              </a:rPr>
              <a:t>por días sin términ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6f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pau4"/>
          <p:cNvPicPr/>
          <p:nvPr/>
        </p:nvPicPr>
        <p:blipFill>
          <a:blip r:embed="rId1"/>
          <a:stretch/>
        </p:blipFill>
        <p:spPr>
          <a:xfrm>
            <a:off x="1042920" y="0"/>
            <a:ext cx="4527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179280" y="189000"/>
            <a:ext cx="8820360" cy="5943240"/>
          </a:xfrm>
          <a:prstGeom prst="rect">
            <a:avLst/>
          </a:prstGeom>
          <a:solidFill>
            <a:srgbClr val="ff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mic Sans MS"/>
              </a:rPr>
              <a:t>Fl 4:12-14.19-20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é pasar estrecheces y vivir en la abundancia. A todas y cada una de estas cosas estoy acostumbrado: a la hartura y al hambre, a que me sobre y a que me falte. De todo me siento capaz, pues Cristo me da la fuerza. Sin embargo, habéis tenido un hermoso gesto al solidarizaros conmigo en la tribulación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 Dios, que es rico, atenderá con largueza todas vuestras necesidades por medio de Cristo Jesús. A nuestro Dios y Padre sea la gloria por los siglos de los siglos. Amé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1 Rectángulo"/>
          <p:cNvSpPr/>
          <p:nvPr/>
        </p:nvSpPr>
        <p:spPr>
          <a:xfrm>
            <a:off x="5040720" y="6154560"/>
            <a:ext cx="37256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blo encaden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220320" cy="6946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2768400" y="6259680"/>
            <a:ext cx="36295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Cafarnaún. Al fondo, Betsai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00000" y="404640"/>
            <a:ext cx="792000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ffff"/>
                </a:solidFill>
                <a:latin typeface="Comic Sans MS"/>
              </a:rPr>
              <a:t>Aleluya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  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Ef 1:17-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El Padre de nuestro Señor Jesucristo</a:t>
            </a: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ilumine los ojos de nuestro corazón, </a:t>
            </a: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para que comprendamos cuál es la </a:t>
            </a: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esperanza a la que nos lla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0"/>
            <a:ext cx="9144000" cy="687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000" spc="-1" strike="noStrike">
                <a:solidFill>
                  <a:srgbClr val="ffffff"/>
                </a:solidFill>
                <a:latin typeface="Comic Sans MS"/>
              </a:rPr>
              <a:t>Mt 22:1-14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esús tomó de nuevo la palabra y les dijo esta parábola:</a:t>
            </a:r>
            <a:br>
              <a:rPr sz="2000"/>
            </a:b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Con el reino de los cielos sucede lo que con aquel rey que celebraba la boda de su hijo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3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vió a sus criados para llamar a los invitados a la boda, pero no quisieron venir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4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nuevo envió otros criados encargándoles que dijeran a los invitados: «Mi banquete está preparado, he matado becerros y cebones, y todo está a punto; venid a la boda»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5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ero ellos no hicieron caso, y se fueron unos a su campo y otros a su negocio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6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 demás, echando mano a los criados, los maltrataron y los mataron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7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rey entonces se enojó y envió sus tropas para que acabasen con aquellos asesinos e incendiasen su ciudad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8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spués dijo a sus criados: «El banquete de boda está preparado, pero los invitados no eran dignos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9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d, pues, a los cruces de los caminos y convidad a la boda a todos los que encontréis».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0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 criados salieron a los caminos y reunieron a todos los que encontraron, malos y buenos; y la sala se llenó de invitados.</a:t>
            </a:r>
            <a:br>
              <a:rPr sz="2000"/>
            </a:b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1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 entrar el rey para ver a los comensales, observó que uno de ellos no llevaba traje de boda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2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e dijo: «Amigo, ¿cómo has entrado aquí sin traje de boda?». Él se quedó callado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3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tonces el rey dijo a los servidores: «Atadlo de pies y manos y echadlo fuera a las tinieblas; allí llorará y le rechinarán los dientes»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4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son muchos los llamados, pero pocos los escogido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249520" y="6411960"/>
            <a:ext cx="24134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Lago de Genesare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14:16:45Z</dcterms:created>
  <dc:creator>JOAN RAMIREZ</dc:creator>
  <dc:description/>
  <dc:language>en-US</dc:language>
  <cp:lastModifiedBy>REGINA</cp:lastModifiedBy>
  <dcterms:modified xsi:type="dcterms:W3CDTF">2011-09-26T14:20:32Z</dcterms:modified>
  <cp:revision>21</cp:revision>
  <dc:subject/>
  <dc:title>Presentación de PowerPoint</dc:title>
</cp:coreProperties>
</file>